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E9C-8903-439E-80E0-BC605201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066-6F5A-4C44-BFA2-5DEF1EF5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D86-38E3-4CCE-9857-4E6A4F20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772-4133-4B14-9FC8-22707D82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2A2-E02A-4412-9DF0-2C350132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C21-9D53-4689-87D4-72F3B87E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DCC-0EF3-4CB8-ADE2-18C19A9F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124-7356-461D-8ED7-68C52382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AC3-E4E3-4581-B15A-5DDF2476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D88-1D09-4A26-8F03-D53BC358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C2F-454A-4384-A040-DECD2214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1F8-DC0E-4F76-9343-5C2FA87B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89C6-EDEE-4AE6-BFFE-33090BB0A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z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ptest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976400"/>
            <a:ext cx="8748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9144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ijhoek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770200"/>
            <a:ext cx="9144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je af vijl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35280" y="1501920"/>
            <a:ext cx="61214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ijhoek B </a:t>
            </a:r>
            <a:r>
              <a:rPr b="0" lang="nl-N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Vijldi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22440"/>
            <a:ext cx="914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322360"/>
            <a:ext cx="9144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on)veili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sk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reed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s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tting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tingv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V rubber of v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tingvanger + AV v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048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laars/schoen (motorzaagt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m (goedgekeur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 scherp?/spanning?/beitelleng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filter/ko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 rubbers/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r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efstart (kettingrem/smering/station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j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vijldameter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beitellengte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uifm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hoek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ijl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diepte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eptest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 k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8964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iteltandscha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9647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16:03Z</dcterms:created>
  <dc:creator>johan</dc:creator>
  <dc:description/>
  <dc:language>en-US</dc:language>
  <cp:lastModifiedBy>johan</cp:lastModifiedBy>
  <dcterms:modified xsi:type="dcterms:W3CDTF">2008-11-09T11:19:08Z</dcterms:modified>
  <cp:revision>3</cp:revision>
  <dc:subject/>
  <dc:title>motorzaag</dc:title>
</cp:coreProperties>
</file>