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8C9-03E5-4EC4-9F66-D6FCFBC8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5D3-EF74-4E91-93D3-0302360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C65-3867-4906-ABFF-9D725F71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319-739A-4C0E-B9A8-5E696E3C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8C1-E3A1-4595-BF78-7281B4E8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DCE-705D-4F9E-9BF2-FA3EEB5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481-C91E-4A0B-BA0B-D18BC0F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853-9FEF-46FF-9FA0-29155E4B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E7D-B628-49D4-9869-C05E128B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B93-BCFE-4EC5-9686-9AE0729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989-8BC7-44D1-A08A-56AA639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AC1-EFC6-45E1-84BC-147FE2B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1171-33E2-4A7C-AEDE-A8F59BED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 werkt een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7885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877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7640"/>
            <a:ext cx="702000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iger 2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8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43080"/>
            <a:ext cx="84596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9320"/>
            <a:ext cx="86421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8:07Z</dcterms:created>
  <dc:creator>johan</dc:creator>
  <dc:description/>
  <dc:language>en-US</dc:language>
  <cp:lastModifiedBy>johan</cp:lastModifiedBy>
  <dcterms:modified xsi:type="dcterms:W3CDTF">2009-01-25T20:11:05Z</dcterms:modified>
  <cp:revision>2</cp:revision>
  <dc:subject/>
  <dc:title>Zo werkt een auto</dc:title>
</cp:coreProperties>
</file>