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5A0-FE9B-4A61-A648-02D10092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4AF-3B40-430E-B1F0-3C3C6BA4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0BB-F5E2-44D2-837B-973D645D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9DB-F4C6-4046-B70D-1EC43FE4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160-5703-4C94-810E-9408AADE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4DEE-0006-4496-A984-6331687A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8D0-C9A9-45CE-BEB6-19A13D53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660-EC27-4C33-AE12-1B6BC86E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AD8-A023-45F7-959F-0D081426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1854-50C4-4430-93C2-9A62AF5B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D1E-BBAD-4BA9-80A7-3794508C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389-23FA-4E88-9941-88100581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7D32-9CB6-4FDD-87BE-25F623224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en met motorz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ve breuklij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35280" y="1506600"/>
            <a:ext cx="62658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wijze uitsnoe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1 kant van de 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us naar d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ag op boom laten leunen of R b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de knie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cht bij de motorz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uik ketting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kapstok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sdik = afk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velhevel en 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h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770120"/>
            <a:ext cx="9144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aien b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9360" y="1484280"/>
            <a:ext cx="49896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2413080"/>
            <a:ext cx="8964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ilig wer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terbeen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g bij je lichaam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t met de punt zage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ick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rem gebruiken bij 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wen en trek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1316160"/>
            <a:ext cx="76327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92360" y="1503360"/>
            <a:ext cx="6480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wijze v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ortelaan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Valke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pintsn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aagsnede of velsn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breuklij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telaan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03280" y="1509840"/>
            <a:ext cx="7056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ke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174760"/>
            <a:ext cx="91440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ntsne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14400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snede en breuklij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457280"/>
            <a:ext cx="79930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0:47:01Z</dcterms:created>
  <dc:creator>johan</dc:creator>
  <dc:description/>
  <dc:language>en-US</dc:language>
  <cp:lastModifiedBy>johan</cp:lastModifiedBy>
  <dcterms:modified xsi:type="dcterms:W3CDTF">2008-11-09T11:33:04Z</dcterms:modified>
  <cp:revision>4</cp:revision>
  <dc:subject/>
  <dc:title>Werken met motorzaag</dc:title>
</cp:coreProperties>
</file>