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66F-8BE7-48FF-AE6A-E865D92A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EFF-F28D-4154-BEC6-D07C51B0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041-323C-4DDF-8AD5-CAE03D5D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D40-9550-4CA7-AA5E-025ECEF3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D41-E948-4FC7-8967-A8B610BA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74D-B2DD-4715-9CE5-BC1D562D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684-1BDF-4ACE-A8A4-E34A0460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D51-C03F-42B0-9AC1-6A79EA17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052-E573-4CC5-93B2-D91F5F9F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B33-B31B-4527-BE71-711A0E3C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FC8-AF23-4FAD-8A7E-C55AB1A7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4E4-47AC-4C6D-A61E-56EBEAA7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DCFB-8884-47FF-8E1B-CBB5D7BDAA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lanten va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bome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846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ere metho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272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 /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renkool” 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b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2360"/>
            <a:ext cx="8748720" cy="60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389800" y="1722600"/>
          <a:ext cx="185760" cy="1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9800" y="1722600"/>
                    <a:ext cx="18576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92320"/>
            <a:ext cx="842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0:38:37Z</dcterms:created>
  <dc:creator>Johan</dc:creator>
  <dc:description/>
  <dc:language>en-US</dc:language>
  <cp:lastModifiedBy>Johan</cp:lastModifiedBy>
  <dcterms:modified xsi:type="dcterms:W3CDTF">2006-08-09T17:32:03Z</dcterms:modified>
  <cp:revision>5</cp:revision>
  <dc:subject/>
  <dc:title>Het planten van planten</dc:title>
</cp:coreProperties>
</file>