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AC0-AC7B-4797-A794-899638A0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63E-2638-498F-A3E1-72A4B45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3A0-6D42-4A59-B47C-95D5E5F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5DE-F21B-4101-A8F9-781A5F36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09E-B057-4527-8C74-4E5C9BA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B57-D0A5-486F-808A-1BD9C450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67C-3DCF-4355-9F17-F9B298B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287-7888-4C10-AA6C-6672AA4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295-D070-4035-946B-D857166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C0F-D0BA-4041-BF0E-AAFAB20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9E4-4C21-42FF-9895-7894A3D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425-A603-498A-83E0-8D9DBDC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F9D8-D82E-457E-ABA1-62A978BDE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z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8748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9144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70200"/>
            <a:ext cx="9144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je af vijl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35280" y="1501920"/>
            <a:ext cx="612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nijhoek B </a:t>
            </a: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Vijldi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2244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322360"/>
            <a:ext cx="9144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on)veil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k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reed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s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ting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ting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V rubber of v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tingvanger + AV v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laars/schoen (motorzaagt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m (goedgekeu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 scherp?/spanning?/beitelleng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filter/ko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rubbers/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efstart (kettingrem/smering/station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j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vijldameter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beitelleng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uifm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hoek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ijl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iepte?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epte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 k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8964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iteltandscha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964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0:16:03Z</dcterms:created>
  <dc:creator>johan</dc:creator>
  <dc:description/>
  <dc:language>en-US</dc:language>
  <cp:lastModifiedBy>johan</cp:lastModifiedBy>
  <dcterms:modified xsi:type="dcterms:W3CDTF">2008-11-09T11:19:08Z</dcterms:modified>
  <cp:revision>3</cp:revision>
  <dc:subject/>
  <dc:title>motorzaag</dc:title>
</cp:coreProperties>
</file>