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2BC-D85C-4B9A-A459-D9458343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74B-0D9E-4EDA-BDA3-071B0214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801-1EE6-46DB-8865-D55ED37F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1A7-A193-4232-B72E-457BBED6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15A-16E1-486A-BB7C-1980542E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312-941F-41ED-959A-020ECA7B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525-5479-4193-A9B0-9FB30576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36B-76FE-4C80-A841-67E8DAA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AA2-ABBC-444F-BA0C-DA93C14E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D1E-678E-43D1-BB04-A725666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790-7A94-4123-B14E-F727709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977-A2D0-4BBA-8700-A4EFE199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6335-619E-46B2-B156-1966D0AD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 werkt een a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7640"/>
            <a:ext cx="78850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68770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17640"/>
            <a:ext cx="7020000" cy="68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iger 2ta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82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343080"/>
            <a:ext cx="84596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9320"/>
            <a:ext cx="864216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59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8:07Z</dcterms:created>
  <dc:creator>johan</dc:creator>
  <dc:description/>
  <dc:language>en-US</dc:language>
  <cp:lastModifiedBy>johan</cp:lastModifiedBy>
  <dcterms:modified xsi:type="dcterms:W3CDTF">2009-01-25T20:11:05Z</dcterms:modified>
  <cp:revision>2</cp:revision>
  <dc:subject/>
  <dc:title>Zo werkt een auto</dc:title>
</cp:coreProperties>
</file>