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89B-F634-4B70-8E7D-CDAA27D3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685-FF4B-4D2C-B33D-9984FB10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E00-D665-4FC5-93EB-F496240E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B58-6993-44A5-B686-83C36B7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812-0965-4147-A4B8-081ABA7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40C-BCC2-4B79-8316-A363DF7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ABD-D591-47C8-B1A7-67435AB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307-9A03-4EA7-879B-F8C966B8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B52-6D35-4C79-9EF7-BD478FA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BB3-99A6-44E5-83CD-427F0EE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8F7-5D17-47AE-9AC7-787D87A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803-D98E-46FA-A8AF-A694B64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DAC-5F0E-41E7-A844-C0258AD7B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bougie maar verst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aarder en ste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ere compr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(luchtfilter sch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ht banden (bandenspanning + profi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eling (koelribb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.L.O.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d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verhouding niet altijd gelij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veel olie=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= vast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u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Geen uitlaat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a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bel geraak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te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Niet afhankelijk van stroom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bel geisol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2466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n (bosmaa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dw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 overbre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 s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ppe ketting 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ar span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t de hand ¼ slag draai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: V snaar vaak te stra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slijtage l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erkings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, haken, beitels  enzov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: slijpen en/of vastz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el: diepte (2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en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eboe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zach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har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48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sm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t ook “ scheef of op de ko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ec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il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ne benz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4:33:27Z</dcterms:created>
  <dc:creator>johan</dc:creator>
  <dc:description/>
  <dc:language>en-US</dc:language>
  <cp:lastModifiedBy>johan</cp:lastModifiedBy>
  <dcterms:modified xsi:type="dcterms:W3CDTF">2009-07-10T15:11:43Z</dcterms:modified>
  <cp:revision>2</cp:revision>
  <dc:subject/>
  <dc:title>machines</dc:title>
</cp:coreProperties>
</file>