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2212-D6F6-42F2-BDF9-0516858D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4B92-45D0-45B3-A0AD-39E75C3C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15F0-561B-442F-855C-DBB0F4995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E784-D9CD-4A5F-AFB8-840BD564D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4202-107A-4718-B1B2-5C790C0A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C938-1859-4D3C-AE4B-6EA313E6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8D21-D84A-4539-B289-FF913229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9BA4-2041-4952-A0E4-EB33598E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26EB-0439-4047-B98C-B78C5E5C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6B11-2C93-463E-B381-4ADF98F3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E140-D0E6-4E26-A768-0D37E7D4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4B5B-15D0-472D-A196-73AC6879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6F4C-AFA3-4EDB-B729-7B300E32FCB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smaa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ahoma"/>
              </a:rPr>
              <a:t>ARBO-wet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ahoma"/>
              </a:rPr>
              <a:t>werknemer + werkge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072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iligheid, gezondheid en welzij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ed gereedschap is het halve werk. (goedgekeurde machine + tuig is in orde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diener is voldoende geschoold + ouder dan 18 bij zelfstandig 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dt voldoende afstan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diener is in orde. (goed uitgerust/geen stress/ niet dronk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ede werkhou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236000" y="5877000"/>
            <a:ext cx="10792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edrijfsklaar ma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iste garnituur + beschermk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rnituur sche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L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d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cht (fil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e (vet tandwielhuis. Niet te veel. Te weinig = he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 rubbers: scheurt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erkoord: cont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hangen draags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HB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op gevaar. Jezelf + and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gaan wat er is gebeu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lachtoffer gerustste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orgen voor deskundige hul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lpen. EHBO ko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tarten bosmaa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tanken in het ve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oef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ort gebruik chok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raait snijgarnituur niet stationai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erse typ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gmaa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bewegende 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astrimm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particu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smaa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bedrij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ere mogelijkheid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 draagst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49760" y="1981080"/>
            <a:ext cx="380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 bouw v.d. bosmaa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547640" y="1627200"/>
            <a:ext cx="619308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ijzonderheden bosmaa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24000" y="1484280"/>
            <a:ext cx="5219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tor: 2-tak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aiboom: aandrijf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urboom: gebogen/re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hangoog: ba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agstel: tui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ndwielhuis: vast/instelba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rnituur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ad/slagmes/zaagbl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chermkap: div. mode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-181080" y="1484280"/>
            <a:ext cx="4392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arnitu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8208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ebruik garnitu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aad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or gras + licht onkru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lagme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or riet, bramen, heide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dembedekker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kruiden, houtige gewass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aagblad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or houtige beplanting to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2 cm doorsne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agst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3622680" cy="47545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24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gzak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uderband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erse ma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fortabel z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ed afste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ede gewichtsver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soonlijke bescher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04960" y="1484280"/>
            <a:ext cx="3617640" cy="5040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557360"/>
            <a:ext cx="4316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hoor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og-/gelaats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otor met av-rub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uurb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ashen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ashendelblokk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aniekslu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andscho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en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oet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schermk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ransportk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138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6:14:27Z</dcterms:created>
  <dc:creator>vulpen</dc:creator>
  <dc:description/>
  <dc:language>en-US</dc:language>
  <cp:lastModifiedBy>johan</cp:lastModifiedBy>
  <dcterms:modified xsi:type="dcterms:W3CDTF">2008-11-02T16:30:26Z</dcterms:modified>
  <cp:revision>20</cp:revision>
  <dc:subject/>
  <dc:title>Dia 1</dc:title>
</cp:coreProperties>
</file>