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1E51-04C7-48C2-84EC-ABAE13AD0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BCA7-8A10-4F87-8C73-220045B1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A19F-B297-4CEA-B243-630C584E2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28EC-70AB-42F0-BBC5-FEF6483DA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0E5C-A5CE-48EC-90D4-E3EE1A7D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6C86-97A8-45DE-B5F0-51B110A1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C615-DE29-4629-A3FB-1525DACF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10AF-7A9D-4DB8-B4F8-72F2EDF0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65E9-F469-469C-8DE7-95F11688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ABB2-8E90-4C89-BD3A-AEC2D4C1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3120-E571-45F2-AF25-BE5BF6FF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9508-EB72-4B5D-9DBB-1FF3F388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180F-0CAC-42E3-9D1D-85858623F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en met motorza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ve breuklij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835280" y="1506600"/>
            <a:ext cx="626580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wijze uitsnoe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 1 kant van de 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us naar de 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ag op boom laten leunen of R b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or de knie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cht bij de motorza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bruik ketting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n kapstok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sdik = afko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velhevel en l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lh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770120"/>
            <a:ext cx="914400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aien b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349360" y="1484280"/>
            <a:ext cx="49896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9280" y="2413080"/>
            <a:ext cx="896472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ilig wer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hterbeen v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ag bij je lichaam 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et met de punt zage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ick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ttingrem gebruiken bij l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wen en trek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71640" y="1316160"/>
            <a:ext cx="763272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gono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92360" y="1503360"/>
            <a:ext cx="64800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wijze ve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ortelaan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Valke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Spintsne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Zaagsnede of velsne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breuklij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telaan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03280" y="1509840"/>
            <a:ext cx="70563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ker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174760"/>
            <a:ext cx="914400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ntsne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579680"/>
            <a:ext cx="9144000" cy="45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lsnede en breuklij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00000" y="1457280"/>
            <a:ext cx="799308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0:47:01Z</dcterms:created>
  <dc:creator>johan</dc:creator>
  <dc:description/>
  <dc:language>en-US</dc:language>
  <cp:lastModifiedBy>johan</cp:lastModifiedBy>
  <dcterms:modified xsi:type="dcterms:W3CDTF">2008-11-09T11:33:04Z</dcterms:modified>
  <cp:revision>4</cp:revision>
  <dc:subject/>
  <dc:title>Werken met motorzaag</dc:title>
</cp:coreProperties>
</file>