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CAE-9B43-4F47-AEB7-F9FA2E19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225-2EC2-42C3-8328-BE172F33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677-1421-4DB7-B5B0-B8570E90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E11-8F6E-4DB2-BC6E-51602257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311-1453-463E-AA25-51A327FB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4F6-9482-41A9-9593-9A4F99C1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75C-FDB7-4796-BADC-F5D018C4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FEA-68DA-4063-A4EE-1C28A87F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F84-2ADA-4B03-BC29-91B2710A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1A7-32CC-42FE-AFB9-A2C29CE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708-1183-4249-AAA4-B3B8F08B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460-E081-40A3-9462-3C2A2C8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1AE-9AAC-4F7A-8D4D-5B29F7801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 werkt een 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7640"/>
            <a:ext cx="7885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68770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17640"/>
            <a:ext cx="7020000" cy="68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7093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iger 2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35280" y="1989000"/>
            <a:ext cx="5508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8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343080"/>
            <a:ext cx="84596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9320"/>
            <a:ext cx="86421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620640"/>
            <a:ext cx="914400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8:07Z</dcterms:created>
  <dc:creator>johan</dc:creator>
  <dc:description/>
  <dc:language>en-US</dc:language>
  <cp:lastModifiedBy>johan</cp:lastModifiedBy>
  <dcterms:modified xsi:type="dcterms:W3CDTF">2009-01-25T20:11:05Z</dcterms:modified>
  <cp:revision>2</cp:revision>
  <dc:subject/>
  <dc:title>Zo werkt een auto</dc:title>
</cp:coreProperties>
</file>