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8E6-6CB4-47A2-8131-938F351C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111-4186-4E67-A65F-2606CB04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9B3-DD6B-413F-8BAF-6138CD98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DD7-8C86-4B7C-9341-F5E8B81F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14D-E5A2-41AC-B4D8-034BF99B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894-9F23-4617-BB87-6FD2C92C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366-7848-484F-8BC6-A3DE5410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A77-E46D-4425-B51E-DFE89DC8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029-C124-4114-9093-5CFF0DCA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02E-0269-448E-8F0F-00D5C86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CC4-6F32-49A1-AE9C-E3211C9F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C90-8152-4441-8854-673633E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DECF-454C-4D1E-8F1B-66385C41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bougie maar verst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aarder en ste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ere compr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(luchtfilter sch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banden (bandenspanning + profi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eling (koelribb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.L.O.K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d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verhouding niet altijd gelij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veel olie= 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weinig = vast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r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u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at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abel geraak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Ste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Niet afhankelijk van stroom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bbel geisol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2466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n (bosmaa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dwi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84720" y="3068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 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 s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ppe ketting 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ar span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t de hand ¼ slag draai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: V snaar vaak te stra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slijtage l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werkings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en, haken, beitels  enzov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: slijpen en/of vast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el: diepte (2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en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eboe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zach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har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489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sm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t ook “ scheef of op de kop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ne ben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4:33:27Z</dcterms:created>
  <dc:creator>johan</dc:creator>
  <dc:description/>
  <dc:language>en-US</dc:language>
  <cp:lastModifiedBy>johan</cp:lastModifiedBy>
  <dcterms:modified xsi:type="dcterms:W3CDTF">2009-07-10T15:11:43Z</dcterms:modified>
  <cp:revision>2</cp:revision>
  <dc:subject/>
  <dc:title>machines</dc:title>
</cp:coreProperties>
</file>