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00A-A349-4957-9606-F85D9E60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F37-A4D2-4239-A592-46B979AB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129-CD38-44BB-A61E-FB03D6FF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0E3-78A9-4E38-966A-C1EBE7A9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346-8A1F-4BAE-8B52-E356155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A7B-77B0-45A8-B040-32DC0461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97D-6770-4703-9F08-53378C1F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108-79A8-45DF-9373-F710E63A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D2A-3A5F-45C2-B00F-22AB3ABE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294-DCA2-46A3-BF60-C640791E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420-8973-4425-A611-31BC270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472-A15A-4CE0-9CA3-D74F989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CD20-FBF9-4FAC-A9F1-D18FAC76CF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ARBO-wet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werknemer + werkg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iligheid, gezondheid en welz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 gereedschap is het halve werk. (goedgekeurde machine + tuig is in ord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voldoende geschoold + ouder dan 18 bij zelfstand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dt voldoende afst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in orde. (goed uitgerust/geen stress/ niet dronk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e werkho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5877000"/>
            <a:ext cx="107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drijfsklaar 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iste garnituur + 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nituur sch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ht 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e (vet tandwielhuis. Niet te veel. Te weinig = he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 rubbers: scheurt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erkoord: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hangen draag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H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op gevaar. Jezelf + an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gaan wat er is gebeu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chtoffer gerust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orgen voor deskundige hu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en. EHBO k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rt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tank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ef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 gebruik chok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aait snijgarnituur niet stationa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e ty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g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wegende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strim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articu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drij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mogelijkhei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 draags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9760" y="198108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 bouw v.d.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1627200"/>
            <a:ext cx="61930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jzonderhed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521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: 2-ta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aiboom: aandrijf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urboom: gebogen/r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hangoog: 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gstel: tu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dwielhuis: vast/instel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nituur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d/slagmes/zaagb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chermkap: div. mod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81080" y="1484280"/>
            <a:ext cx="439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20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bruik 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gras + licht onkr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g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riet, bramen, heide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dembedekker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kruiden, houtige gewass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agbl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houtige beplanting t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 cm doorsne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ags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622680" cy="475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gzak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uderband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m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el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 afst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e gewichtsver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onlijke besche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4960" y="1484280"/>
            <a:ext cx="361764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316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g-/gelaats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 met av-rub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uur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blok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slu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nd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en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et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port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6:14:27Z</dcterms:created>
  <dc:creator>vulpen</dc:creator>
  <dc:description/>
  <dc:language>en-US</dc:language>
  <cp:lastModifiedBy>johan</cp:lastModifiedBy>
  <dcterms:modified xsi:type="dcterms:W3CDTF">2008-11-02T16:30:26Z</dcterms:modified>
  <cp:revision>20</cp:revision>
  <dc:subject/>
  <dc:title>Dia 1</dc:title>
</cp:coreProperties>
</file>