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F24-C353-4389-82B3-E0C22036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718-2118-45C0-A128-775E344E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16C-024A-46D5-8DCD-B2094CD8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1277-FEB4-4267-ACE9-3D6498E9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11D-6AEE-4411-A13D-1051B438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D50A-5A0D-491C-ADFD-6E2FDC1C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98C-3FA6-49D5-8C18-345DCF1C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AE2-2802-44D2-9651-647BB597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7925-9A3C-4E27-AAAA-4E137BBB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5711-848F-4F48-BA0F-A173EB06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204E-52FE-4331-B4D6-3C47715D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8C5-ED3F-4D59-89A3-D53702E6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7FAB-1F7D-4B8D-985D-E8DFEC125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en met motorz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ve breuklij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35280" y="1506600"/>
            <a:ext cx="62658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wijze uitsnoe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1 kant van de 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us naar de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ag op boom laten leunen of R b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de knie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cht bij de motorz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uik ketting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kapstok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sdik = afk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velhevel en 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h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770120"/>
            <a:ext cx="9144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aien b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49360" y="1484280"/>
            <a:ext cx="49896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2413080"/>
            <a:ext cx="89647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ilig wer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terbeen v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g bij je lichaam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t met de punt zage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ick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rem gebruiken bij 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wen en trek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1316160"/>
            <a:ext cx="76327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92360" y="1503360"/>
            <a:ext cx="6480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wijze v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ortelaan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Valke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pintsn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Zaagsnede of velsn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breuklij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telaan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03280" y="1509840"/>
            <a:ext cx="70563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ke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174760"/>
            <a:ext cx="914400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ntsne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14400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snede en breuklij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457280"/>
            <a:ext cx="799308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0:47:01Z</dcterms:created>
  <dc:creator>johan</dc:creator>
  <dc:description/>
  <dc:language>en-US</dc:language>
  <cp:lastModifiedBy>johan</cp:lastModifiedBy>
  <dcterms:modified xsi:type="dcterms:W3CDTF">2008-11-09T11:33:04Z</dcterms:modified>
  <cp:revision>4</cp:revision>
  <dc:subject/>
  <dc:title>Werken met motorzaag</dc:title>
</cp:coreProperties>
</file>