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C88-EB6E-441A-8A15-CE6A7EDA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8DA-8C8D-4636-B5DC-D267CCC3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324-EBB8-4BC9-A655-431E1020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07D-AAAA-4A45-AECF-6F6BEF28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FF4-CE9C-4199-ABED-7FB82EA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70B-4549-4986-BE51-62533E0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D66-CD27-4A8C-AB1A-3B09F00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B02-3E7D-48CC-92F9-38FB838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D82-1F01-43A8-B9E5-7B80F549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54A-43C4-41DF-8DF8-FF7D547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92A-E30B-4E09-AC07-24C18084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4D1-367D-4810-B3BD-FB87D00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964-C3B2-4D9A-8237-BA55F2A00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8748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0200"/>
            <a:ext cx="9144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je af vij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501920"/>
            <a:ext cx="612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B </a:t>
            </a: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Vijl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22360"/>
            <a:ext cx="9144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on)veil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k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reed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ing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V rubber of v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tingvanger + AV v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laars/schoen (motorzaagt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 (goedgekeu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 scherp?/spanning?/beitelleng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filter/ko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rubbers/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efstart (kettingrem/smering/station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j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vijldameter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beitelleng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uif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hoek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ijl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iep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 k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6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iteltandscha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964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16:03Z</dcterms:created>
  <dc:creator>johan</dc:creator>
  <dc:description/>
  <dc:language>en-US</dc:language>
  <cp:lastModifiedBy>johan</cp:lastModifiedBy>
  <dcterms:modified xsi:type="dcterms:W3CDTF">2008-11-09T11:19:08Z</dcterms:modified>
  <cp:revision>3</cp:revision>
  <dc:subject/>
  <dc:title>motorzaag</dc:title>
</cp:coreProperties>
</file>