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3FF5-50FB-470F-AAF8-24BCF6660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94BE-F3FE-4723-83C5-B45D7756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0FDC-1788-4291-B089-1166FC720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56DF-EB7C-4927-8984-AE6FCE7BB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9A3D-5633-4D56-A436-C43A3828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5BB7-3559-41E7-B059-30832DFB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B84F-9264-4515-BDD2-B2402E1C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6C5E-BD79-46BA-BC4F-DCC7A555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8237-5E46-4FD6-A1F9-4DAD560C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D09E-80BB-4119-AD85-72BFEB73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E27C-247D-431B-B19D-53A9CCC0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F95F-49B9-4348-BAEC-A304F5E9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9E79-8BC2-42EB-806F-9F5A1A918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derh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n bougie maar verstu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mo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waarder en ste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gere compres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d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cht (luchtfilter scho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cht banden (bandenspanning + profi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eling (koelribb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B.L.O.K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ndst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edko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gverhouding niet altijd gelij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 veel olie= ro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 weinig = vastlo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r uitlaat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u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andrij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is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Geen lawa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Geen uitlaat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Water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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ro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Kabel geraak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Ste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Niet afhankelijk van stroomk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s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bbel geisole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00720" y="1773360"/>
            <a:ext cx="246672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bren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n (bosmaai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ndwi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tt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sna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284720" y="306864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 overbren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tnippels sm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ppe ketting spa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snaar spann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et de hand ¼ slag draai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: V snaar vaak te stra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 slijtage la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werkings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sen, haken, beitels  enzovo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derhoud: slijpen en/of vastze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8360" y="220500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el: diepte (2m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densp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eboek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k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 zach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 hard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348912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tak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gsm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n peilst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n c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pt ook “ scheef of op de kop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tak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iec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ilst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ne benz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14:33:27Z</dcterms:created>
  <dc:creator>johan</dc:creator>
  <dc:description/>
  <dc:language>en-US</dc:language>
  <cp:lastModifiedBy>johan</cp:lastModifiedBy>
  <dcterms:modified xsi:type="dcterms:W3CDTF">2009-07-10T15:11:43Z</dcterms:modified>
  <cp:revision>2</cp:revision>
  <dc:subject/>
  <dc:title>machines</dc:title>
</cp:coreProperties>
</file>