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jpeg" ContentType="image/jpeg"/>
  <Override PartName="/ppt/media/image8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30131-54DB-476C-9218-0FB8B334B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04072-390A-44CA-8036-8FBFC3608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B2280-F66D-4A90-B54B-B999B9B90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8BA08-BA83-4627-9D83-BA5921D6B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55C83-C11A-459F-A056-A38A26D5E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E5FDB-4B9A-4BA1-ACD0-B71F699D1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C2A6F-A719-4F86-A874-A7CF42E59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562E2-5242-471C-A086-784AE0499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FBB28-6FC6-43BB-A2F8-850304DBD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86733-DCB0-4791-8218-5A80852CD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93DB0-90C1-4966-8BA2-A678F70EF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6BC49-CEF1-49B1-A32A-AF00BE33E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25A49-44F3-4D67-A7E9-83D45D3398FA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osmaai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Tahoma"/>
              </a:rPr>
              <a:t>ARBO-wet</a:t>
            </a:r>
            <a:br>
              <a:rPr sz="4000"/>
            </a:br>
            <a:r>
              <a:rPr b="0" lang="nl-NL" sz="4000" spc="-1" strike="noStrike">
                <a:solidFill>
                  <a:srgbClr val="000000"/>
                </a:solidFill>
                <a:latin typeface="Tahoma"/>
              </a:rPr>
              <a:t>werknemer + werkgev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072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iligheid, gezondheid en welzij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ed gereedschap is het halve werk. (goedgekeurde machine + tuig is in orde!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diener is voldoende geschoold + ouder dan 18 bij zelfstandig werk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udt voldoende afstand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diener is in orde. (goed uitgerust/geen stress/ niet dronke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ede werkhou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soonlijke beschermingsmiddel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7236000" y="5877000"/>
            <a:ext cx="107928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edrijfsklaar mak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iste garnituur + beschermk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arnituur scher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L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dst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cht (filt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e (vet tandwielhuis. Niet te veel. Te weinig = hee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e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 rubbers: scheurtj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erkoord: contro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fhangen draagst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EHB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t op gevaar. Jezelf + ander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agaan wat er is gebeu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lachtoffer geruststell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Zorgen voor deskundige hul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5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elpen. EHBO koff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Starten bosmaai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Aftanken in het vel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Proefsta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Kort gebruik choke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Draait snijgarnituur niet stationai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verse typ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ugmaai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bewegende a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rastrimm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particulier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osmaai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bedrijv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ndere mogelijkheid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p draagste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4649760" y="1981080"/>
            <a:ext cx="38052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De bouw v.d. bosmaai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1547640" y="1627200"/>
            <a:ext cx="6193080" cy="471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ijzonderheden bosmaai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924000" y="1484280"/>
            <a:ext cx="5219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tor: 2-tak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aiboom: aandrijf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uurboom: gebogen/rec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hangoog: bal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raagstel: tui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ndwielhuis: vast/instelba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rnituur: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raad/slagmes/zaagbl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chermkap: div. modell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-181080" y="1484280"/>
            <a:ext cx="439272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Garnituu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324000" y="1484280"/>
            <a:ext cx="820872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Gebruik garnituu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aad: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oor gras + licht onkrui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lagmes: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oor riet, bramen, heide,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odembedekkers,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kruiden, houtige gewass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Zaagblad: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oor houtige beplanting to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2 cm doorsne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raagst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179280" y="1628640"/>
            <a:ext cx="3622680" cy="47545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4244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gzak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ouderband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verse mat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fortabel zitt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ed afstell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ede gewichtsverde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rsoonlijke bescherm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804960" y="1484280"/>
            <a:ext cx="3617640" cy="504036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48320" y="1557360"/>
            <a:ext cx="43164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Gehoorbescher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Oog-/gelaatsbescher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Motor met av-rubb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Stuurbo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Gashen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Gashendelblokk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Paniekslui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Handschoen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Beenbescher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Voetbescher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Beschermk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Transportk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8713800" cy="66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7T16:14:27Z</dcterms:created>
  <dc:creator>vulpen</dc:creator>
  <dc:description/>
  <dc:language>en-US</dc:language>
  <cp:lastModifiedBy>johan</cp:lastModifiedBy>
  <dcterms:modified xsi:type="dcterms:W3CDTF">2008-11-02T16:30:26Z</dcterms:modified>
  <cp:revision>20</cp:revision>
  <dc:subject/>
  <dc:title>Dia 1</dc:title>
</cp:coreProperties>
</file>