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02C6-8682-4645-8171-A0DD354D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315B-35B6-4E79-A76E-3CCC5BD6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1A0-B632-4028-9CFF-6958C377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58DA-170C-4048-99B1-1681F83F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11F8-172C-4BF8-B047-B6148F12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03B-D5B8-432C-AD82-0D5CE730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49B9-E7BC-4A9D-92A2-55BCC916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B532-06C6-4A0D-8F67-82757E26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8AAD-4849-4ABF-B628-A7CCBD09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29D0-8A19-4754-AE80-5D182ED1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9B4-329C-414C-8EA8-4B1CBB4A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A9BA-C752-4370-9D03-B34EEB3D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BC62-7A44-4E2D-B81D-FB7F0CD96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en met motorz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ve breuklij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35280" y="1506600"/>
            <a:ext cx="62658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wijze uitsnoe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 1 kant van de 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us naar de 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ag op boom laten leunen of R b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de knie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cht bij de motorz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uik ketting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kapstok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sdik = afk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velhevel en 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h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770120"/>
            <a:ext cx="91440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aien b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49360" y="1484280"/>
            <a:ext cx="49896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2413080"/>
            <a:ext cx="89647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ilig wer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hterbeen v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ag bij je lichaam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t met de punt zage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ick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rem gebruiken bij l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wen en trek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1316160"/>
            <a:ext cx="763272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92360" y="1503360"/>
            <a:ext cx="6480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wijze v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ortelaan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Valke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pintsn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Zaagsnede of velsn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breuklij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telaan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03280" y="1509840"/>
            <a:ext cx="70563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ker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174760"/>
            <a:ext cx="914400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ntsne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144000" cy="45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snede en breuklij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1457280"/>
            <a:ext cx="799308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0:47:01Z</dcterms:created>
  <dc:creator>johan</dc:creator>
  <dc:description/>
  <dc:language>en-US</dc:language>
  <cp:lastModifiedBy>johan</cp:lastModifiedBy>
  <dcterms:modified xsi:type="dcterms:W3CDTF">2008-11-09T11:33:04Z</dcterms:modified>
  <cp:revision>4</cp:revision>
  <dc:subject/>
  <dc:title>Werken met motorzaag</dc:title>
</cp:coreProperties>
</file>