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EE9-A0C8-4189-9DA1-B40713D3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16C-85B1-46E0-AF8B-4975CB42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243-97C5-4380-963E-E61228E9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B3B-B766-455B-94C1-7D37B960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1CBC-711C-4363-A97A-6BFF8BF0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3F50-3934-4C00-AB06-CA7C9C5B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CB0-859C-4351-AD5C-DA287FE1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5592-DED5-44D6-83E2-8565F657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AA4-799F-4672-B074-BFFEE782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5529-D03F-4397-9F09-6224C6D1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05E9-ABEC-42FA-B39D-79266476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370-3F0B-461F-A4A7-92B8A57E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035F-B9D7-4A4C-84E1-6A0A3786C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 werkt een a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7640"/>
            <a:ext cx="78850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6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687708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24000" y="17640"/>
            <a:ext cx="7020000" cy="68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9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709308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uiger 2ta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635280" y="1989000"/>
            <a:ext cx="550872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82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65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817236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343080"/>
            <a:ext cx="845964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49320"/>
            <a:ext cx="864216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08000" y="620640"/>
            <a:ext cx="9144000" cy="59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20:08:07Z</dcterms:created>
  <dc:creator>johan</dc:creator>
  <dc:description/>
  <dc:language>en-US</dc:language>
  <cp:lastModifiedBy>johan</cp:lastModifiedBy>
  <dcterms:modified xsi:type="dcterms:W3CDTF">2009-01-25T20:11:05Z</dcterms:modified>
  <cp:revision>2</cp:revision>
  <dc:subject/>
  <dc:title>Zo werkt een auto</dc:title>
</cp:coreProperties>
</file>