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49C6-28A9-405A-BD6F-4B2EC6D7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4960-1B86-4304-847B-ED4CF43B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0687-E4E4-458C-8385-33598DF0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F5B-C7F4-4D1E-AA76-6BAA97A9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B35-2E92-4B73-AD8A-08A2AC63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D39-6250-41A3-A9A4-0D43B4AB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1A9A-619F-4351-A3FE-771EF60E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815-5575-4D61-8A10-F2D66225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C73D-9688-41D3-9CA4-00B888E6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811D-097B-4E98-8E3E-BCDAA83E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E6BF-C056-48A9-A055-9FD0C2DC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BCF8-210B-490A-B523-1E721B25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88FE-9C02-4B5A-9B8F-ADB4179EC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 werkt een a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7640"/>
            <a:ext cx="78850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6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687708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24000" y="17640"/>
            <a:ext cx="7020000" cy="68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9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709308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uiger 2ta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635280" y="1989000"/>
            <a:ext cx="550872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82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65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817236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343080"/>
            <a:ext cx="845964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49320"/>
            <a:ext cx="864216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08000" y="620640"/>
            <a:ext cx="9144000" cy="59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20:08:07Z</dcterms:created>
  <dc:creator>johan</dc:creator>
  <dc:description/>
  <dc:language>en-US</dc:language>
  <cp:lastModifiedBy>johan</cp:lastModifiedBy>
  <dcterms:modified xsi:type="dcterms:W3CDTF">2009-01-25T20:11:05Z</dcterms:modified>
  <cp:revision>2</cp:revision>
  <dc:subject/>
  <dc:title>Zo werkt een auto</dc:title>
</cp:coreProperties>
</file>