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C3A-9993-4751-A888-68866A0E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357-FC0D-498F-9E81-D7DDCF66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FFE-7CC3-4AC8-B7DE-2204ADFC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0B7-F3F3-45C5-A3C6-89D87A1F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7B9-7ADE-4EF1-93B8-662180D0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57B-F4B8-4115-BE1B-AD6850DC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1E50-C3B5-48A0-83BD-60644D75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BC6-360B-47FF-B5DF-01E0BDC4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A5D-D87D-4556-8F09-E4C2DE66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27E-EF7E-41CA-A6F4-C0E7AA7D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18F-10DD-4024-94B5-46C7119E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481-3539-49D8-A0BD-C85858AB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2D57-8730-41F6-9199-E632C01AD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z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pteste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976400"/>
            <a:ext cx="8748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9144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nijhoek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770200"/>
            <a:ext cx="9144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je af vijl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35280" y="1501920"/>
            <a:ext cx="61214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nijhoek B </a:t>
            </a:r>
            <a:r>
              <a:rPr b="0" lang="nl-N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Vijldia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422440"/>
            <a:ext cx="9144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322360"/>
            <a:ext cx="9144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on)veili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sk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reed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s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tting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tingv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V rubber of v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ttingvanger + AV v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6048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laars/schoen (motorzaagte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m (goedgekeurd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 scherp?/spanning?/beitelleng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filter/ko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 rubbers/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r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efstart (kettingrem/smering/station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j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vijldameter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t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beitellengte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uifm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hoek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ijl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diepte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eptest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delen k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89647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iteltandschak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9647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0:16:03Z</dcterms:created>
  <dc:creator>johan</dc:creator>
  <dc:description/>
  <dc:language>en-US</dc:language>
  <cp:lastModifiedBy>johan</cp:lastModifiedBy>
  <dcterms:modified xsi:type="dcterms:W3CDTF">2008-11-09T11:19:08Z</dcterms:modified>
  <cp:revision>3</cp:revision>
  <dc:subject/>
  <dc:title>motorzaag</dc:title>
</cp:coreProperties>
</file>