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788-9C08-450B-B0FD-372C70C6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0ED-1B62-484C-AE12-855797A1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A0A-D0D7-4C6C-AEF9-97507A7E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CE0-6231-4C9B-A1DE-70734E6E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12D-C2E5-47D0-9B37-D3EAEC40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E22-9D4B-4F67-87F5-F5490059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1D9-A09B-4818-9B39-E47C01D9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DCC-0EAE-4BBF-97B7-EA9EEFEA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984-DD01-48F7-A481-CE841818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516-7846-4FC1-A1F9-68621AEC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B0F-6851-400F-8204-78254766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671-A7E3-45DA-861D-47E070F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9D36-9098-4C6D-9693-3346A7CE0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bougie maar verst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aarder en ste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ere compr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(luchtfilter sch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banden (bandenspanning + prof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eling (koelribb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.L.O.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d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verhouding niet altijd gelij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veel olie=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= vast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r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u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at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abel geraak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Ste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Niet afhankelijk van stroom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bel geisol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2466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n (bosmaa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dwi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 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 s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ppe ketting 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ar span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t de hand ¼ slag draai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: V snaar vaak te stra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slijtage l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werkings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en, haken, beitels  enzov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: slijpen en/of vast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el: diepte (2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en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eboe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zach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har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48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sm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t ook “ scheef of op de ko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ne ben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4:33:27Z</dcterms:created>
  <dc:creator>johan</dc:creator>
  <dc:description/>
  <dc:language>en-US</dc:language>
  <cp:lastModifiedBy>johan</cp:lastModifiedBy>
  <dcterms:modified xsi:type="dcterms:W3CDTF">2009-07-10T15:11:43Z</dcterms:modified>
  <cp:revision>2</cp:revision>
  <dc:subject/>
  <dc:title>machines</dc:title>
</cp:coreProperties>
</file>