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A48-7225-45A8-8E55-BF09906D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62E-AF55-46AA-A7B5-CD31D30E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66C-1B70-40A2-9052-E45C578E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8E8-7573-4F84-8BE5-FFA80361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5AB-E0D3-4365-85F2-07CAB9FE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089-417C-4C86-B42A-8C2FE74B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86C-0B02-4419-B079-9F9202FC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F9D-5BB0-4FFC-B20A-9D4B8C51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E0E-51EF-4F4D-8EC7-328B863D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86A-48CC-4486-A0F8-B33FE74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CD7-8778-434E-9DA6-49B0E0F9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139-4407-461A-8C39-7AB239E8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3159-C6DD-4959-948B-E9446CD04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ve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5280" y="1506600"/>
            <a:ext cx="62658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uitsnoe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1 kant van de 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us naar d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g op boom laten leunen of R b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knie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 bij de motorz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kapstok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sdik = afk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velhevel en 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h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aien b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9360" y="1484280"/>
            <a:ext cx="498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2413080"/>
            <a:ext cx="8964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erbeen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 bij je lichaam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met de punt zag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ick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rem gebruiken bij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wen en tr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1316160"/>
            <a:ext cx="76327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2360" y="1503360"/>
            <a:ext cx="6480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v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ortelaan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Valke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int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aagsnede of vel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euklij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aan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03280" y="1509840"/>
            <a:ext cx="705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ke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174760"/>
            <a:ext cx="9144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tsn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14400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snede en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457280"/>
            <a:ext cx="7993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47:01Z</dcterms:created>
  <dc:creator>johan</dc:creator>
  <dc:description/>
  <dc:language>en-US</dc:language>
  <cp:lastModifiedBy>johan</cp:lastModifiedBy>
  <dcterms:modified xsi:type="dcterms:W3CDTF">2008-11-09T11:33:04Z</dcterms:modified>
  <cp:revision>4</cp:revision>
  <dc:subject/>
  <dc:title>Werken met motorzaag</dc:title>
</cp:coreProperties>
</file>