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11A-D5EF-4B8B-99DF-BCC5BD0C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AE4-6357-42BD-B431-B9123139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E34-5C51-4580-9B88-B47CCE7B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04C-787D-4D1F-9783-83FB6EF9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B98-7A72-4F91-A448-475DDD24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E67-DCAE-4845-87D8-CFE08B0B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1CC-27B9-4349-8D6B-70287BB1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25F-0C78-4F2D-8F48-0E81E105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E99C-D347-41D4-8EB6-83BEC309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59E-4466-4D60-A142-73D4854F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2C7-D207-46CB-9DD4-983DBE2F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ADB-D016-4479-9783-B8B77050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6478-EFAE-4354-86B9-D73418874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z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pteste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976400"/>
            <a:ext cx="8748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9144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nijhoek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770200"/>
            <a:ext cx="9144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je af vijl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35280" y="1501920"/>
            <a:ext cx="61214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nijhoek B </a:t>
            </a:r>
            <a:r>
              <a:rPr b="0" lang="nl-N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Vijldia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422440"/>
            <a:ext cx="9144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322360"/>
            <a:ext cx="91440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on)veili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sk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reed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s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tting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tingv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V rubber of v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ttingvanger + AV v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60487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glaars/schoen (motorzaagte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m (goedgekeurd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z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 scherp?/spanning?/beitelleng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htfilter/ko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 rubbers/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rk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efstart (kettingrem/smering/station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j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vijldameter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t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beitellengte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uifm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hoek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ijl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diepte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eptest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delen k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89647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iteltandschak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9647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0:16:03Z</dcterms:created>
  <dc:creator>johan</dc:creator>
  <dc:description/>
  <dc:language>en-US</dc:language>
  <cp:lastModifiedBy>johan</cp:lastModifiedBy>
  <dcterms:modified xsi:type="dcterms:W3CDTF">2008-11-09T11:19:08Z</dcterms:modified>
  <cp:revision>3</cp:revision>
  <dc:subject/>
  <dc:title>motorzaag</dc:title>
</cp:coreProperties>
</file>