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DB9-7E53-4CA5-B4D3-5271FB2B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667-3664-45F0-BFA4-0F46C96C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9F6-8D6D-4344-8BCA-1E5791AF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E34-1F70-4D0B-91B4-D72ACC9E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3B9-657D-4E09-B573-2C4AF27F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C5C-CABE-4A05-AD91-87936CB2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AB4-E4CD-49DA-AFD5-67711344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FB2-7040-41A3-9A01-7324AFBA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A2F-63E8-4B96-8976-D94FE6FA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79C-478A-4C26-9F02-3425F442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22E-F1D2-42B8-992E-5D3FBD40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AEE-459A-4606-9BE9-5F76B633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A83B-98A3-42A7-9D76-339FDE3C1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bougie maar verst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aarder en ste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ere compr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(luchtfilter sch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banden (bandenspanning + prof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eling (koelribb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.L.O.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d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verhouding niet altijd gelij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veel olie=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= vast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r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u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at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abel geraak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Ste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Niet afhankelijk van stroom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bel geisol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2466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n (bosmaa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dwi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 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 s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ppe ketting 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ar span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t de hand ¼ slag draai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: V snaar vaak te stra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slijtage l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werkings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en, haken, beitels  enzov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: slijpen en/of vast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el: diepte (2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en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eboe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zach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har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48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sm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t ook “ scheef of op de ko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ne ben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4:33:27Z</dcterms:created>
  <dc:creator>johan</dc:creator>
  <dc:description/>
  <dc:language>en-US</dc:language>
  <cp:lastModifiedBy>johan</cp:lastModifiedBy>
  <dcterms:modified xsi:type="dcterms:W3CDTF">2009-07-10T15:11:43Z</dcterms:modified>
  <cp:revision>2</cp:revision>
  <dc:subject/>
  <dc:title>machines</dc:title>
</cp:coreProperties>
</file>