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1C3-9FA3-46A1-A7FB-2B140DCC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8188-6784-48DC-AC9A-C85673CB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2A8-719E-49D1-9570-809BFE36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745-748B-4459-9DA6-DEA3C5B4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937-2C59-4C42-A2F7-671B30F9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051F-EC14-48E5-8CFF-D594F0CA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54C-38EC-401C-952F-E6DAD2C6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FA4-E3B1-4BCC-B2AE-066820AA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E70-B544-4436-9C7C-CCD252B1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95C-6352-419F-90A2-A202DD6F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EE7-A21F-42CD-B644-0ABAF137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A23-4F5B-4F9F-86B6-82520B7A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4065-8645-4E2D-BC92-7CA35E8BA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en met motorz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ve breuklij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35280" y="1506600"/>
            <a:ext cx="62658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wijze uitsnoe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1 kant van de 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us naar d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ag op boom laten leunen of R b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de knie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cht bij de motorz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uik ketting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kapstok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sdik = afk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velhevel en 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h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770120"/>
            <a:ext cx="9144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aien b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9360" y="1484280"/>
            <a:ext cx="49896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2413080"/>
            <a:ext cx="8964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ilig wer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terbeen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g bij je lichaam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t met de punt zage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ick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rem gebruiken bij 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wen en trek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1316160"/>
            <a:ext cx="76327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92360" y="1503360"/>
            <a:ext cx="6480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wijze v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ortelaan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Valke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pintsn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aagsnede of velsn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breuklij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telaan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03280" y="1509840"/>
            <a:ext cx="7056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ke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174760"/>
            <a:ext cx="91440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ntsne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14400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snede en breuklij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457280"/>
            <a:ext cx="79930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0:47:01Z</dcterms:created>
  <dc:creator>johan</dc:creator>
  <dc:description/>
  <dc:language>en-US</dc:language>
  <cp:lastModifiedBy>johan</cp:lastModifiedBy>
  <dcterms:modified xsi:type="dcterms:W3CDTF">2008-11-09T11:33:04Z</dcterms:modified>
  <cp:revision>4</cp:revision>
  <dc:subject/>
  <dc:title>Werken met motorzaag</dc:title>
</cp:coreProperties>
</file>