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4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15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87CB-0C64-45A9-AF6A-6353210002D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29BB-4B3D-4E84-BBBE-F678231F7BB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22A2-9F49-4A18-B219-D23BE962A2E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EAFD-68C0-4627-9CB1-7508AB29447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17B8-2702-4EFA-BD8C-E0798850E5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35D2-97C1-4B68-842C-7BBE3D7B258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15D-DAA1-42E1-AC76-DFAE149F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44D-79F5-4085-8C8F-C3359B79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834-EAA1-4FE2-A475-6CBB963B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346-6C1D-41F0-9B84-7809D150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7952-20F0-4EB3-AE4D-40CB964E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3F3F-3FB5-4D17-BCB1-080DA343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8E3D-F26B-493C-9B5D-0D10C42A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B2E9-33FC-436F-B48B-8FA118A6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43CB-8482-4F40-AE0C-58A2B01C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FCC9-36DC-4B3B-9168-B84BCF3A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5922-DB11-4111-80AF-BB290C6F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309-835A-43EF-9E4F-03020895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5C31-F007-4BC9-8B41-70271828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52BE-55A1-4B2C-B431-2E26D86D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5557-BE21-4511-9A11-948DDEA2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0121-A490-4E15-B920-CE726867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C153-F642-4EDF-8F20-5098EF68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5C6D-9953-4639-ACD0-8D0A292C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7B21-44B7-4673-A9F5-1C7DCB39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EA7B-D59D-47D1-B587-2982DAEC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4A48-7EAE-40CE-94BD-11E0B7EA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B9814-B2AB-49F6-8075-AE745D0D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393-F941-4DC6-BF43-4D860446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6425B-5E30-4246-9CDB-D7D7F6D1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590EE-0BE1-45AD-944D-2345817B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51DF-CD97-46D2-BF8A-6D28B5A1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9505-33A2-4FF8-B910-B462012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12B5F-EFDC-4DCD-A637-7D89A278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298D-A4F0-4AFD-85D2-9F2A9A90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9A20C-7D92-443D-A334-99DFE209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85C14-93B8-4DFC-AAD6-B0653709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09C18-0172-46F6-8150-9A1151FC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B9873-FD10-4903-81CD-3D372E9B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315-0234-4B9D-9C7F-7849E827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D8C60-C7E2-4192-A90F-5A90574B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694B8-27A0-49AC-ABBA-E1675DA7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8F45-C501-48F2-B052-7B234A1A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FD420-839B-4B57-A86F-1FA0ECCB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A67E6-58FE-40BB-8DD2-28098740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E900-1679-4B1E-BA8D-9E903D2E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A5480-62D7-4FD1-AF51-031EE0BE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FBAA3-7C26-4071-B741-91FC5B5F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A830C-9F64-4A6B-AA6A-EF5C0FFB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C71-3517-488A-BE4D-A84D8662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89F-555D-4C90-98D2-4B4859A2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F75-B395-4CBF-92CD-B86E1393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BE3-9C0A-4CAF-B0B0-8FC72CF1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E94-C95F-4941-A094-94381B0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E957-0B59-4CFA-9E00-6D7EE340006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26F1-6EC5-49B9-ACF6-4DD0276369F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86AE-AA0F-4178-A462-D5997C3F0BB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2089-9185-4C69-886A-71D60AE02A0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s://www.frieslandcampina.com/nl/eigendom-van-boeren/garantieprijs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Inleiding Voeding Melkve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1052280"/>
            <a:ext cx="792324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17640" y="1119240"/>
            <a:ext cx="9126360" cy="585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1196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Trebuchet MS"/>
              </a:rPr>
              <a:t>Daarom: </a:t>
            </a:r>
            <a:br>
              <a:rPr sz="4800"/>
            </a:br>
            <a:br>
              <a:rPr sz="4800"/>
            </a:br>
            <a:r>
              <a:rPr b="0" lang="nl-NL" sz="4800" spc="-1" strike="noStrike">
                <a:solidFill>
                  <a:srgbClr val="000000"/>
                </a:solidFill>
                <a:latin typeface="Trebuchet MS"/>
              </a:rPr>
              <a:t>Goed boeren?</a:t>
            </a:r>
            <a:br>
              <a:rPr sz="4800"/>
            </a:br>
            <a:br>
              <a:rPr sz="4800"/>
            </a:br>
            <a:r>
              <a:rPr b="0" lang="nl-NL" sz="4800" spc="-1" strike="noStrike">
                <a:solidFill>
                  <a:srgbClr val="000000"/>
                </a:solidFill>
                <a:latin typeface="Trebuchet MS"/>
              </a:rPr>
              <a:t>Dan goed voeren !!!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560" y="2446200"/>
            <a:ext cx="4321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Trebuchet MS"/>
              </a:rPr>
              <a:t>Zitten op </a:t>
            </a: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deze stoel?</a:t>
            </a:r>
            <a:br>
              <a:rPr sz="4400"/>
            </a:br>
            <a:br>
              <a:rPr sz="4400"/>
            </a:br>
            <a:r>
              <a:rPr b="0" i="1" lang="nl-NL" sz="4400" spc="-1" strike="noStrike">
                <a:solidFill>
                  <a:srgbClr val="000000"/>
                </a:solidFill>
                <a:latin typeface="Trebuchet MS"/>
              </a:rPr>
              <a:t>Geen balans!!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rcRect l="19047" t="0" r="46457" b="0"/>
          <a:stretch/>
        </p:blipFill>
        <p:spPr>
          <a:xfrm>
            <a:off x="4500720" y="0"/>
            <a:ext cx="4730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920" y="10800"/>
            <a:ext cx="7058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ok een koe heeft 4 poten, en die moeten even lang zijn om balans te krijgen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Grashoek Tonnie 72; een koe in balans, gebalanceerd gebouwd"/>
          <p:cNvPicPr/>
          <p:nvPr/>
        </p:nvPicPr>
        <p:blipFill>
          <a:blip r:embed="rId2"/>
          <a:stretch/>
        </p:blipFill>
        <p:spPr>
          <a:xfrm>
            <a:off x="-7920" y="1052640"/>
            <a:ext cx="9107640" cy="5805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275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De vier “poten” onder een ko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rcRect l="5498" t="17874" r="2412" b="18905"/>
          <a:stretch/>
        </p:blipFill>
        <p:spPr>
          <a:xfrm>
            <a:off x="1116000" y="134136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3"/>
          <p:cNvSpPr/>
          <p:nvPr/>
        </p:nvSpPr>
        <p:spPr>
          <a:xfrm>
            <a:off x="539640" y="465300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a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3  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4  Gezond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 goede resultaten is balans nodig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Melkkoe: 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65 % ruwvoer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35 % krachtvo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9290" t="0" r="0" b="0"/>
          <a:stretch/>
        </p:blipFill>
        <p:spPr>
          <a:xfrm>
            <a:off x="0" y="-112680"/>
            <a:ext cx="10024920" cy="6986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uwvoer: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antaardige produ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rotendeels zelf t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latief goedkoo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armee is de melkveehouderij afhankelijk van het weer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limaat (-sverandering) daarom belangrijk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oord-west Europa daarom goed geschikt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000" y="155160"/>
            <a:ext cx="6840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Niet vergeten: koe is grazer!!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0" y="1512720"/>
            <a:ext cx="9144000" cy="534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3384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Geld verdienen met melkvee  !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1" name="Picture 2" descr="Euro Tekens 3D · Gratis afbeelding op Pixabay"/>
          <p:cNvPicPr/>
          <p:nvPr/>
        </p:nvPicPr>
        <p:blipFill>
          <a:blip r:embed="rId1"/>
          <a:stretch/>
        </p:blipFill>
        <p:spPr>
          <a:xfrm>
            <a:off x="3745080" y="0"/>
            <a:ext cx="6426000" cy="6759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178920" y="28782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komt er aan geld binn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kg melk brengt  euro …. op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Garantieprijs - FrieslandCampina Nederland – FrieslandCampina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middelde koe produceert ……. Kg melk per j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s aan melkgeld komt binnen per koe per jaar……. Euro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arnaast ook nog inkomsten van verkoop van kalveren en uitstootkoeien. Per koe per jaar  …… eur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taal bruto aan inkomsten per koe per jaar  …… eur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De kosten!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08960" cy="7056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3131640" y="260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Bruto komt er per koe ieder jaar een mooi bedrag binnen, maar………………………………….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Hier moeten alle kosten nog vanaf!!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Een van de belangrijkste kosten posten is het voer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Voorbeeld van een simpel rantsoen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Koe eet per jaar: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2500 kg krachtvoer </a:t>
            </a:r>
            <a:r>
              <a:rPr b="1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  ……. Eur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6723 kg snijmais </a:t>
            </a:r>
            <a:r>
              <a:rPr b="1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   ……..Eur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6085 kg voordroog  </a:t>
            </a:r>
            <a:r>
              <a:rPr b="1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   …..Eur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Totaal aan voerkosten per jaar ……Eur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346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Verschillen in saldo door verschillen in voeding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7" name="Picture 2" descr="Geld, Geldscheine, Euro, Banknote"/>
          <p:cNvPicPr/>
          <p:nvPr/>
        </p:nvPicPr>
        <p:blipFill>
          <a:blip r:embed="rId1"/>
          <a:stretch/>
        </p:blipFill>
        <p:spPr>
          <a:xfrm>
            <a:off x="4745160" y="1700280"/>
            <a:ext cx="4211640" cy="3170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79280" y="1341360"/>
            <a:ext cx="605016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120 mk met 60 stuks jongve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1 kg ds kost 0,25 ce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Melkprijs 0,48 ce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Bedrijf A: secuur, alles op orde, goed vee, vakm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oerefficientie van 1,2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Bedrijf B: rauw, oude stal, mindere genetica, geen koeienm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oerefficientie van 0,85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erschil in voersaldo (=opbrengst –voerkosten) = </a:t>
            </a:r>
            <a:r>
              <a:rPr b="1" lang="nl-NL" sz="2800" spc="-1" strike="noStrike">
                <a:solidFill>
                  <a:srgbClr val="404040"/>
                </a:solidFill>
                <a:latin typeface="Trebuchet MS"/>
              </a:rPr>
              <a:t>175.000 </a:t>
            </a: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eur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07:33Z</dcterms:created>
  <dc:creator>6gws</dc:creator>
  <dc:description/>
  <dc:language>en-US</dc:language>
  <cp:lastModifiedBy>Geert Willems</cp:lastModifiedBy>
  <dcterms:modified xsi:type="dcterms:W3CDTF">2024-08-26T14:01:07Z</dcterms:modified>
  <cp:revision>162</cp:revision>
  <dc:subject/>
  <dc:title>Landbouw in Nederland</dc:title>
</cp:coreProperties>
</file>