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3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380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74640" y="4686120"/>
            <a:ext cx="538632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14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15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F608-F352-4401-B069-E77ABB5B486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74640" y="4686120"/>
            <a:ext cx="5386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ijdelijke aanduiding voor dianumm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107B-C9E1-4D69-9742-7D18C357CF6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4640" y="4686120"/>
            <a:ext cx="5386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ijdelijke aanduiding voor dianumm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F672-C0DE-4FD2-A722-89C90410E4F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74640" y="4686120"/>
            <a:ext cx="5386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ijdelijke aanduiding voor dianumm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5FAC-AB95-45E4-8B91-C2C73355F01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74640" y="4686120"/>
            <a:ext cx="5386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ijdelijke aanduiding voor dianumm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6C82-77D0-470B-A53B-ABAF2F10E64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74640" y="4686120"/>
            <a:ext cx="5386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ijdelijke aanduiding voor dianumm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2AC6-C31E-427B-973D-CF4E5CB40F8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2054-F29D-4A4C-A7E4-EBE85CD11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8EEF-E9DB-40A9-B01C-722FDAEC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7290-E566-4F8B-A91A-E7F0AD7B0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FDED-F5DA-4362-AD1B-39D9460C7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4DCC-6885-4570-89A7-A7D75A6F6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8F12-4238-4445-B14E-9853DF9F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A648-4F13-4C01-B6A0-CECDE84F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5310-0E4E-45EA-8A13-89373EC3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D5DD-A98F-4761-9D86-9802C6C9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0E37-CC3C-4527-9DA1-7AE01EDB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143E-CDE1-4A87-9868-EEF163CD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A04E-A6E9-4EBB-964E-C17E0C10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F874-EF8F-48E8-A55E-322BB2D5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B2DF-2AD5-47BD-86FB-0186809B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6997-5B9C-4857-890E-ABF1AB76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B48E-8D9B-4A18-84AB-297198728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CE41-8ACB-43C5-B74A-1529E5291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23AA6-DB8B-4445-B96A-4CF08249A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EE1E2-C037-4B66-8EBE-4CC01A02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21D16-802E-472E-A56E-781499B3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C8E05-AF72-4811-B908-FDC9C9A0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5D5B9-A00B-4DF6-B3F9-854A3B01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BDC0-4E95-47E6-9A1D-3A8F1220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03B63-5754-4F3B-9089-91A38C57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70A69-522A-42CC-94D0-61505BD2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2D67B-06F3-42AD-98C6-33B9496D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6AFDC-1771-4BEA-AA0C-F37174F4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3E941-F27D-4074-806F-78C2B075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9F201-1777-4CBB-9622-542594077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42AC4-979F-4DEA-A784-F4D3C0216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03631-AA39-4FD8-9E4C-99E00CB5F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AA02E-8516-4C55-B074-4BEC1F01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53C8F-B239-4CA5-9CBD-7876E81D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4853-82B6-4FBC-B135-CB521B02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A28CB-4FA2-4E19-9572-E759C310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C18B6-7DDC-4E70-B5DC-16AF87A5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75EEC-474F-4BBE-B18D-0691ECA7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05438-DCA1-4DCF-A986-A81EDDED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AD23D-EE89-408B-ADCD-4A91C76D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C6D9D-B869-4E85-8314-5A54C49E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8FA32-79B3-430E-BC23-876C2E9B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A33B8-5F9E-486E-AE01-E22A7938E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E19C5-4908-48F3-AC9D-2C265E153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142A-3475-451F-B1FC-53E0CBEA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542E-73C5-45C9-96EF-C0828F05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6BB3-46D3-4B14-8F14-4DD0DAB5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B0E0-304F-4E78-94E3-84F36885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0430-C3FE-43D2-B552-BE1D9889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91B9-5877-449E-BB4D-A9EA288B668F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" name="Afbeelding 7" descr="Powerpoint PTC blanco 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4C9C-3616-4FAB-8B1E-D1524DDE6FA7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5166-DA28-4D31-87AE-AF4C278AAFE2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6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0316-A54A-44A4-99F6-A5CF507A8571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4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Picture 2" descr="PTC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4"/>
          <p:cNvSpPr/>
          <p:nvPr/>
        </p:nvSpPr>
        <p:spPr>
          <a:xfrm>
            <a:off x="685800" y="1371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edankt voor uw aandach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1371600" y="23623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zie voor meer informatie: www.ptcplus.c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s://www.frieslandcampina.com/nl/eigendom-van-boeren/garantieprijs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7138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Inleiding Voeding Melkvee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09120" y="1052280"/>
            <a:ext cx="7923240" cy="49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4" name="Picture 6" descr=""/>
          <p:cNvPicPr/>
          <p:nvPr/>
        </p:nvPicPr>
        <p:blipFill>
          <a:blip r:embed="rId1"/>
          <a:stretch/>
        </p:blipFill>
        <p:spPr>
          <a:xfrm>
            <a:off x="17640" y="1119240"/>
            <a:ext cx="9126360" cy="5859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119664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Trebuchet MS"/>
              </a:rPr>
              <a:t>Daarom: </a:t>
            </a:r>
            <a:br>
              <a:rPr sz="4800"/>
            </a:br>
            <a:br>
              <a:rPr sz="4800"/>
            </a:br>
            <a:r>
              <a:rPr b="0" lang="nl-NL" sz="4800" spc="-1" strike="noStrike">
                <a:solidFill>
                  <a:srgbClr val="000000"/>
                </a:solidFill>
                <a:latin typeface="Trebuchet MS"/>
              </a:rPr>
              <a:t>Goed boeren?</a:t>
            </a:r>
            <a:br>
              <a:rPr sz="4800"/>
            </a:br>
            <a:br>
              <a:rPr sz="4800"/>
            </a:br>
            <a:r>
              <a:rPr b="0" lang="nl-NL" sz="4800" spc="-1" strike="noStrike">
                <a:solidFill>
                  <a:srgbClr val="000000"/>
                </a:solidFill>
                <a:latin typeface="Trebuchet MS"/>
              </a:rPr>
              <a:t>Dan goed voeren !!!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50560" y="2446200"/>
            <a:ext cx="432108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Trebuchet MS"/>
              </a:rPr>
              <a:t>Zitten op </a:t>
            </a:r>
            <a:r>
              <a:rPr b="0" lang="nl-NL" sz="4400" spc="-1" strike="noStrike">
                <a:solidFill>
                  <a:srgbClr val="000000"/>
                </a:solidFill>
                <a:latin typeface="Trebuchet MS"/>
              </a:rPr>
              <a:t>deze stoel?</a:t>
            </a:r>
            <a:br>
              <a:rPr sz="4400"/>
            </a:br>
            <a:br>
              <a:rPr sz="4400"/>
            </a:br>
            <a:r>
              <a:rPr b="0" i="1" lang="nl-NL" sz="4400" spc="-1" strike="noStrike">
                <a:solidFill>
                  <a:srgbClr val="000000"/>
                </a:solidFill>
                <a:latin typeface="Trebuchet MS"/>
              </a:rPr>
              <a:t>Geen balans!!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"/>
          <p:cNvPicPr/>
          <p:nvPr/>
        </p:nvPicPr>
        <p:blipFill>
          <a:blip r:embed="rId2"/>
          <a:srcRect l="19047" t="0" r="46457" b="0"/>
          <a:stretch/>
        </p:blipFill>
        <p:spPr>
          <a:xfrm>
            <a:off x="4500720" y="0"/>
            <a:ext cx="47307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4920" y="10800"/>
            <a:ext cx="705816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Ook een koe heeft 4 poten, en die moeten even lang zijn om balans te krijgen</a:t>
            </a:r>
            <a:r>
              <a:rPr b="0" lang="nl-NL" sz="3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" descr="Grashoek Tonnie 72; een koe in balans, gebalanceerd gebouwd"/>
          <p:cNvPicPr/>
          <p:nvPr/>
        </p:nvPicPr>
        <p:blipFill>
          <a:blip r:embed="rId2"/>
          <a:stretch/>
        </p:blipFill>
        <p:spPr>
          <a:xfrm>
            <a:off x="-7920" y="1052640"/>
            <a:ext cx="9107640" cy="5805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275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rebuchet MS"/>
              </a:rPr>
              <a:t>De vier “poten” onder een ko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rcRect l="5498" t="17874" r="2412" b="18905"/>
          <a:stretch/>
        </p:blipFill>
        <p:spPr>
          <a:xfrm>
            <a:off x="1116000" y="1341360"/>
            <a:ext cx="4824360" cy="3311640"/>
          </a:xfrm>
          <a:prstGeom prst="rect">
            <a:avLst/>
          </a:prstGeom>
          <a:ln w="0">
            <a:noFill/>
          </a:ln>
        </p:spPr>
      </p:pic>
      <p:sp>
        <p:nvSpPr>
          <p:cNvPr id="283" name="Tekstvak 3"/>
          <p:cNvSpPr/>
          <p:nvPr/>
        </p:nvSpPr>
        <p:spPr>
          <a:xfrm>
            <a:off x="539640" y="465300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tal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 3  Gene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oer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 4  Gezondhe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oor goede resultaten is balans nodig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rebuchet MS"/>
              </a:rPr>
              <a:t>Melkkoe: </a:t>
            </a:r>
            <a:r>
              <a:rPr b="0" lang="nl-NL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Trebuchet MS"/>
              </a:rPr>
              <a:t>65 % ruwvoer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Trebuchet MS"/>
              </a:rPr>
              <a:t>35 % krachtvoer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rcRect l="19290" t="0" r="0" b="0"/>
          <a:stretch/>
        </p:blipFill>
        <p:spPr>
          <a:xfrm>
            <a:off x="0" y="-112680"/>
            <a:ext cx="10024920" cy="69865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 txBox="1"/>
          <p:nvPr/>
        </p:nvSpPr>
        <p:spPr>
          <a:xfrm>
            <a:off x="609120" y="2160720"/>
            <a:ext cx="63486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uwvoer: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lantaardige produc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rotendeels zelf tel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elatief goedkoo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aarmee is de melkveehouderij afhankelijk van het weer!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Klimaat (-sverandering) daarom belangrijk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oord-west Europa daarom goed geschikt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4000" y="155160"/>
            <a:ext cx="684036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rebuchet MS"/>
              </a:rPr>
              <a:t>Niet vergeten: koe is grazer!!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0" y="1512720"/>
            <a:ext cx="9144000" cy="5345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33847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rebuchet MS"/>
              </a:rPr>
              <a:t>Geld verdienen met melkvee  !!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91" name="Picture 2" descr="Euro Tekens 3D · Gratis afbeelding op Pixabay"/>
          <p:cNvPicPr/>
          <p:nvPr/>
        </p:nvPicPr>
        <p:blipFill>
          <a:blip r:embed="rId1"/>
          <a:stretch/>
        </p:blipFill>
        <p:spPr>
          <a:xfrm>
            <a:off x="3745080" y="0"/>
            <a:ext cx="6426000" cy="67597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 txBox="1"/>
          <p:nvPr/>
        </p:nvSpPr>
        <p:spPr>
          <a:xfrm>
            <a:off x="178920" y="287820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at komt er aan geld binnen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kg melk brengt  euro …. op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 u="sng">
                <a:solidFill>
                  <a:srgbClr val="99ca3c"/>
                </a:solidFill>
                <a:uFillTx/>
                <a:latin typeface="Trebuchet MS"/>
                <a:hlinkClick r:id="rId2"/>
              </a:rPr>
              <a:t>Garantieprijs - FrieslandCampina Nederland – FrieslandCampina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emiddelde koe produceert ……. Kg melk per jaa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us aan melkgeld komt binnen per koe per jaar……. Euro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aarnaast ook nog inkomsten van verkoop van kalveren en uitstootkoeien. Per koe per jaar  …… euro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otaal bruto aan inkomsten per koe per jaar  …… euro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rebuchet MS"/>
              </a:rPr>
              <a:t>De kosten!!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408960" cy="70563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 txBox="1"/>
          <p:nvPr/>
        </p:nvSpPr>
        <p:spPr>
          <a:xfrm>
            <a:off x="3131640" y="26028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Bruto komt er per koe ieder jaar een mooi bedrag binnen, maar………………………………….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Hier moeten alle kosten nog vanaf!!!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Een van de belangrijkste kosten posten is het voer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Voorbeeld van een simpel rantsoen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Koe eet per jaar: 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2500 kg krachtvoer </a:t>
            </a:r>
            <a:r>
              <a:rPr b="1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  ……. Euro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6723 kg snijmais </a:t>
            </a:r>
            <a:r>
              <a:rPr b="1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   ……..Euro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6085 kg voordroog  </a:t>
            </a:r>
            <a:r>
              <a:rPr b="1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   …..Euro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Totaal aan voerkosten per jaar ……Euro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7346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rebuchet MS"/>
              </a:rPr>
              <a:t>Verschillen in saldo door verschillen in voeding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97" name="Picture 2" descr="Geld, Geldscheine, Euro, Banknote"/>
          <p:cNvPicPr/>
          <p:nvPr/>
        </p:nvPicPr>
        <p:blipFill>
          <a:blip r:embed="rId1"/>
          <a:stretch/>
        </p:blipFill>
        <p:spPr>
          <a:xfrm>
            <a:off x="4745160" y="1700280"/>
            <a:ext cx="4211640" cy="31701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 txBox="1"/>
          <p:nvPr/>
        </p:nvSpPr>
        <p:spPr>
          <a:xfrm>
            <a:off x="179280" y="1341360"/>
            <a:ext cx="6050160" cy="28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120 mk met 60 stuks jongve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171360" indent="-1713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1 kg ds kost 0,25 cen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171360" indent="-1713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Melkprijs 0,48 cen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171360" indent="-1713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Bedrijf A: secuur, alles op orde, goed vee, vakma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171360" indent="-1713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Voerefficientie van 1,2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171360" indent="-1713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171360" indent="-1713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Bedrijf B: rauw, oude stal, mindere genetica, geen koeienma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171360" indent="-1713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Voerefficientie van 0,85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171360" indent="-1713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171360" indent="-1713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Verschil in voersaldo (=opbrengst –voerkosten) = </a:t>
            </a:r>
            <a:r>
              <a:rPr b="1" lang="nl-NL" sz="2800" spc="-1" strike="noStrike">
                <a:solidFill>
                  <a:srgbClr val="404040"/>
                </a:solidFill>
                <a:latin typeface="Trebuchet MS"/>
              </a:rPr>
              <a:t>175.000 </a:t>
            </a:r>
            <a:r>
              <a:rPr b="1" lang="nl-NL" sz="2000" spc="-1" strike="noStrike">
                <a:solidFill>
                  <a:srgbClr val="404040"/>
                </a:solidFill>
                <a:latin typeface="Trebuchet MS"/>
              </a:rPr>
              <a:t>euro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13:07:33Z</dcterms:created>
  <dc:creator>6gws</dc:creator>
  <dc:description/>
  <dc:language>en-US</dc:language>
  <cp:lastModifiedBy>Geert Willems</cp:lastModifiedBy>
  <dcterms:modified xsi:type="dcterms:W3CDTF">2024-08-26T14:01:07Z</dcterms:modified>
  <cp:revision>162</cp:revision>
  <dc:subject/>
  <dc:title>Landbouw in Nederland</dc:title>
</cp:coreProperties>
</file>