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9.jpeg" ContentType="image/jpe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5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1.png" ContentType="image/png"/>
  <Override PartName="/ppt/media/image2.png" ContentType="image/png"/>
  <Override PartName="/ppt/media/image8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E142-9778-44A6-A2B6-3E1688481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D178-D5E3-42CB-887E-7E5DC287D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E652-EC71-4E92-B66D-2C70D6444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F65D-9A79-4DCF-A7D3-6569A580D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3A8CC-5DED-4EEC-BA60-674197CE7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E73B3-4BEE-45EF-BADE-8B7CF4EA9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01798-697A-428D-87D2-9FCBD6466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EBF8B-4658-4069-AB08-CEBF57AEF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44188-F522-4D3A-A75B-57ADFFF58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B6DB1-3483-4EA2-A5B3-B2EB4B476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7967A-9480-45AB-8007-73A877F31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242E-BD79-4D45-9A0B-129C9549F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1CB19-4AE5-4716-8686-CD7CB4236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1F299-E6E9-4964-BA6E-F00EE1DA7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44A62-1D8E-42FA-B4C9-85146A7D6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7D99B-F2A4-48EC-9DFA-1FCC68249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0778E-9BAD-40EB-AD35-C9C776FCF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3E0E24-1E3A-4774-AF46-06775E835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C23501-C2CD-4430-8D42-426FD833B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18A0DF-25E1-49A5-955E-A10C9F964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59648B-5B6F-4D5C-B8F7-007D91289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9ED4CE-D70A-4656-99B9-8475DE783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1354-E32C-449F-9DDA-8E9936334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9D0E6A-69D1-4B0F-8EDB-E4EE3BAC5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65F369-E0E4-4EBE-983B-13E32471C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5E7F9D-C2D1-4274-9B38-5FCF4E62D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0DC74B-7271-46A6-9059-45AE9585A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FA9E7A-8568-432B-81DF-F13BFD748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D1B671-C752-45A4-9E9F-FE4B9756E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664C91-2CDB-4385-976C-405E904E4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577CF1-7FC1-4391-A7BE-167217249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87C511-B2D5-4E5F-815C-AA3F22BB8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AAC59E-11CA-4024-A00F-2DAA76E9D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65B0-DAED-40BB-9307-FAED02E61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94E44B-D7C0-4988-865F-600A38D76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7474ED-266A-49A3-8C6E-774A9683F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F180E7-127B-40B2-BABF-99D9CE4A4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0725AE-1665-4CBF-92F3-141639278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53F00F-C35C-4424-B813-E42DF6368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BDC98E-1563-486F-8354-05694852B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0E581C-C3D0-427C-904C-40318C385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E793B1-D013-407A-845F-15C60C651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DA55EA-F8AC-4470-83EE-0DE2CC867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86FF72-3B5D-4B5A-9625-305B03160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CC7A-2815-4ECB-98EF-551861B6C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4358C4-4AA8-4F1F-9ED0-63E4D0317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CA5ABC-1B00-44B7-8B7A-DB794466A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B7B7E5-BFD2-4030-800F-B87320914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1A1AD1-6364-4807-8E21-7D5F47914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6D6866-3C87-428F-9B86-FD11FD9C3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3D7A0C-9D52-46BE-8E87-54C5A8823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D318AB-A490-4483-A33A-DF5102534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5BEFC8-3A5A-40D3-97DB-7DC03F3AE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99804A-2A3F-4260-9B05-475DCA345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8BDE8E-579B-442D-97EA-D6B63D62D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461E-7CE7-4F60-904D-943469898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B3A9FB-7AC6-4949-B64A-672D97AD2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9C6F82-023D-418A-949C-A92A34544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350AE3-CF02-4126-8351-79C8028F1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40E931-3E94-47A5-BD68-3AC8508A3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4C9196-F7EE-4AA9-B7E4-314AECEE1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602E4A-78E9-4F62-BE51-14E6AEC1A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1DE4BE-20BE-41EE-9381-EF5C404E0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ABE8EC-98DA-49C0-8AD1-0880F1806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B0C236-4CCF-426E-BCB0-FB4F53940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AD24F6-EF87-4217-8C10-CA6BF3AF5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CF92-ADA8-4BCB-A994-8FDC95FA4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14DA76-E996-45AF-9E0F-AF4822A0B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75118D-35A3-451E-8339-DA840D5B6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57A6AF-E675-41B3-A273-74DF704C9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4C8A13-8B77-4652-B390-AD3275AAC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C07094-10B9-46C1-94CF-96F037BFE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17995C-46C7-425B-96F0-2DC0DE0CF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BF183C-6E90-4F65-A8C1-474E4380D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11315A-2F47-4062-85C1-60CD3E223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48754F-0D7A-479C-B870-7139219D6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DAE49B-BA47-4357-991D-77626674D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F8E8-8E3B-4B29-9B1E-9CAAF1D49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7D1E9A-BA75-4BDB-8BA5-65CAEC47F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085D79-BC63-431B-B755-BD02B714B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D952E2-FA45-435E-8964-547F7DAB9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F5EFA4-7D54-4DB9-ADDB-6681913B5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27F4BF-403C-49A5-8E3A-81C07CDFA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423D95-772F-4DE6-B7DC-0C78C1946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A8A735-4BEA-46E7-88EE-80EE27E56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6F7E72-3E48-48C2-9B4B-830BAFECF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13D41F-F7EB-4F99-8808-115474CB8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F8E295-18AE-4057-9A79-9F226BE17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86CB-EB03-4258-808B-4A02E55CC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7182E5-BF7F-4017-ACF0-95B875BCF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DDA4EF-63AE-4761-86D3-0978B32DA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2D3040-8A8C-4120-98A1-D948BD7C1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9D8B70-0F30-437C-B834-F036871E7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9F2333-5170-44B5-A25D-13E958963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29A1B9-0FF2-418B-AF17-D327C4549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9BAACB-E048-4FBA-8B37-5BF42DF56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368F9-8784-4648-9218-9E5A5CA96EA5}" type="slidenum">
              <a:rPr b="0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4640" y="5237640"/>
              <a:ext cx="9099360" cy="788400"/>
            </a:xfrm>
            <a:custGeom>
              <a:avLst/>
              <a:gdLst>
                <a:gd name="textAreaLeft" fmla="*/ 0 w 9099360"/>
                <a:gd name="textAreaRight" fmla="*/ 9099720 w 9099360"/>
                <a:gd name="textAreaTop" fmla="*/ 0 h 788400"/>
                <a:gd name="textAreaBottom" fmla="*/ 788760 h 7884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Vrije v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B71C7-D9A9-4841-A368-A3711EF00F4B}" type="slidenum">
              <a:rPr b="0" lang="nl-NL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DA115-76CA-482D-BC41-AE6CA41B9711}" type="slidenum">
              <a:rPr b="0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7FE22-3EDE-44A4-AE37-2C7E89303563}" type="slidenum">
              <a:rPr b="0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5A26A-D3A2-4AE4-B982-E8BB44C0AA41}" type="slidenum">
              <a:rPr b="0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9ACB4-2CFE-40AD-8C8E-A6AE0C161717}" type="slidenum">
              <a:rPr b="0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7F12C-E8DF-4156-BEF8-0247F8748F41}" type="slidenum">
              <a:rPr b="0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49DEA-A31A-4DB1-BB9F-1248E4EE470A}" type="slidenum">
              <a:rPr b="0" lang="nl-NL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Rectangle 2" descr=""/>
          <p:cNvPicPr/>
          <p:nvPr/>
        </p:nvPicPr>
        <p:blipFill>
          <a:blip r:embed="rId1"/>
          <a:stretch/>
        </p:blipFill>
        <p:spPr>
          <a:xfrm>
            <a:off x="-219240" y="-109440"/>
            <a:ext cx="8448840" cy="103032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/>
          </p:nvPr>
        </p:nvSpPr>
        <p:spPr>
          <a:xfrm>
            <a:off x="76320" y="762120"/>
            <a:ext cx="90676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Insuline en glucagon hebben een antagonistische werking. Wat wil dat zeggen?</a:t>
            </a:r>
            <a:br>
              <a:rPr sz="2700"/>
            </a:br>
            <a:r>
              <a:rPr b="0" lang="nl-NL" sz="2700" spc="-1" strike="noStrike">
                <a:solidFill>
                  <a:srgbClr val="0000ff"/>
                </a:solidFill>
                <a:latin typeface="Lucida Sans Unicode"/>
              </a:rPr>
              <a:t>Tegengestelde werking op bloedsuikerspiegel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Welk hormoon wordt afgegeven enige tijd na een maaltijd? Waarom? </a:t>
            </a:r>
            <a:r>
              <a:rPr b="0" lang="nl-NL" sz="2700" spc="-1" strike="noStrike">
                <a:solidFill>
                  <a:srgbClr val="0000ff"/>
                </a:solidFill>
                <a:latin typeface="Lucida Sans Unicode"/>
              </a:rPr>
              <a:t>Insuline, om te voorkomen dat er teveel glucose in bloed kom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Welk effect heeft het hormoon uit vraag 2 op de bloedsuikerspiegel? </a:t>
            </a:r>
            <a:r>
              <a:rPr b="0" lang="nl-NL" sz="2700" spc="-1" strike="noStrike">
                <a:solidFill>
                  <a:srgbClr val="0000ff"/>
                </a:solidFill>
                <a:latin typeface="Lucida Sans Unicode"/>
              </a:rPr>
              <a:t>Verlagend effec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Titel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39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Lucida Sans Unicode"/>
              </a:rPr>
              <a:t>Een lege maag heeft enorm veel </a:t>
            </a:r>
            <a:r>
              <a:rPr b="1" i="1" lang="nl-NL" sz="2500" spc="-1" strike="noStrike">
                <a:solidFill>
                  <a:srgbClr val="000000"/>
                </a:solidFill>
                <a:latin typeface="Lucida Sans Unicode"/>
              </a:rPr>
              <a:t>plooien</a:t>
            </a:r>
            <a:r>
              <a:rPr b="0" lang="nl-NL" sz="25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Lucida Sans Unicode"/>
              </a:rPr>
              <a:t>Plooien zorgen ervoor dat de maag heel ver kan uitrekken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Lucida Sans Unicode"/>
              </a:rPr>
              <a:t>Gemiddeld is de </a:t>
            </a:r>
            <a:r>
              <a:rPr b="1" i="1" lang="nl-NL" sz="2500" spc="-1" strike="noStrike">
                <a:solidFill>
                  <a:srgbClr val="000000"/>
                </a:solidFill>
                <a:latin typeface="Lucida Sans Unicode"/>
              </a:rPr>
              <a:t>maximale maagvolume </a:t>
            </a:r>
            <a:r>
              <a:rPr b="0" lang="nl-NL" sz="2500" spc="-1" strike="noStrike">
                <a:solidFill>
                  <a:srgbClr val="000000"/>
                </a:solidFill>
                <a:latin typeface="Lucida Sans Unicode"/>
              </a:rPr>
              <a:t>zo’n </a:t>
            </a:r>
            <a:r>
              <a:rPr b="1" i="1" lang="nl-NL" sz="2500" spc="-1" strike="noStrike">
                <a:solidFill>
                  <a:srgbClr val="000000"/>
                </a:solidFill>
                <a:latin typeface="Lucida Sans Unicode"/>
              </a:rPr>
              <a:t>3 liter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Lucida Sans Unicode"/>
              </a:rPr>
              <a:t>In lege toestand is het maagvolume zo’n 1 liter maagsap.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500" spc="-1" strike="noStrike">
                <a:solidFill>
                  <a:srgbClr val="000000"/>
                </a:solidFill>
                <a:latin typeface="Lucida Sans Unicode"/>
              </a:rPr>
              <a:t>Rondom de maag liggen spieren </a:t>
            </a:r>
            <a:r>
              <a:rPr b="0" lang="nl-NL" sz="2500" spc="-1" strike="noStrike">
                <a:solidFill>
                  <a:srgbClr val="000000"/>
                </a:solidFill>
                <a:latin typeface="Lucida Sans Unicode"/>
              </a:rPr>
              <a:t>die de maaginhoud kunnen ‘mixen’ en voedselbrokken veranderen daardoor in een dunne voedselbrij.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Noem de 5 structuren/ruimten waar de keelholte mee in verbinding staa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Blz. 233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Vraag 4, 6, en 7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2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Rectangle 2" descr=""/>
          <p:cNvPicPr/>
          <p:nvPr/>
        </p:nvPicPr>
        <p:blipFill>
          <a:blip r:embed="rId1"/>
          <a:stretch/>
        </p:blipFill>
        <p:spPr>
          <a:xfrm>
            <a:off x="225360" y="304920"/>
            <a:ext cx="884556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2" descr=""/>
          <p:cNvPicPr/>
          <p:nvPr/>
        </p:nvPicPr>
        <p:blipFill>
          <a:blip r:embed="rId1"/>
          <a:stretch/>
        </p:blipFill>
        <p:spPr>
          <a:xfrm>
            <a:off x="0" y="1066680"/>
            <a:ext cx="5257800" cy="582624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Keelholt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Slokdarm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Maa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5" name="Titel 1" descr=""/>
          <p:cNvPicPr/>
          <p:nvPr/>
        </p:nvPicPr>
        <p:blipFill>
          <a:blip r:embed="rId2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Afbeelding 1" descr=""/>
          <p:cNvPicPr/>
          <p:nvPr/>
        </p:nvPicPr>
        <p:blipFill>
          <a:blip r:embed="rId1"/>
          <a:stretch/>
        </p:blipFill>
        <p:spPr>
          <a:xfrm>
            <a:off x="5562720" y="-20520"/>
            <a:ext cx="5324400" cy="417168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 txBox="1"/>
          <p:nvPr/>
        </p:nvSpPr>
        <p:spPr>
          <a:xfrm>
            <a:off x="0" y="990720"/>
            <a:ext cx="8229600" cy="56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7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Functie: 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doorgang voor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voedsel naar slokdarm en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in- en uitademing van lucht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7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Keelholte staat in verbinding met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Neusholt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Mondholt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Strottenhoof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Slokdarm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Buis van Eustachius </a:t>
            </a:r>
            <a:r>
              <a:rPr b="0" lang="nl-NL" sz="20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(verbinding met middenoor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8" name="Rectangle 2" descr=""/>
          <p:cNvPicPr/>
          <p:nvPr/>
        </p:nvPicPr>
        <p:blipFill>
          <a:blip r:embed="rId2"/>
          <a:stretch/>
        </p:blipFill>
        <p:spPr>
          <a:xfrm>
            <a:off x="-255600" y="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3" descr=""/>
          <p:cNvPicPr/>
          <p:nvPr/>
        </p:nvPicPr>
        <p:blipFill>
          <a:blip r:embed="rId1"/>
          <a:stretch/>
        </p:blipFill>
        <p:spPr>
          <a:xfrm>
            <a:off x="1766880" y="36360"/>
            <a:ext cx="5608800" cy="678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erbinding van keelholte naar de maa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Functie: transport van voedsel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3 vernauwingen </a:t>
            </a:r>
            <a:r>
              <a:rPr b="0" lang="nl-NL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990720" indent="-533520">
              <a:spcBef>
                <a:spcPts val="326"/>
              </a:spcBef>
              <a:buClr>
                <a:srgbClr val="2da2bf"/>
              </a:buClr>
              <a:buFont typeface="Lucida Sans Unicod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Achter het strottenhoofd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990720" indent="-533520">
              <a:spcBef>
                <a:spcPts val="326"/>
              </a:spcBef>
              <a:buClr>
                <a:srgbClr val="2da2bf"/>
              </a:buClr>
              <a:buFont typeface="Lucida Sans Unicod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Splitsing luchtpijp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990720" indent="-533520">
              <a:spcBef>
                <a:spcPts val="326"/>
              </a:spcBef>
              <a:buClr>
                <a:srgbClr val="2da2bf"/>
              </a:buClr>
              <a:buFont typeface="Lucida Sans Unicod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Doorgang diafragma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Transport via peristaltische beweging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990720" indent="-533520">
              <a:spcBef>
                <a:spcPts val="326"/>
              </a:spcBef>
              <a:buClr>
                <a:srgbClr val="2da2bf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990720" indent="-533520">
              <a:spcBef>
                <a:spcPts val="326"/>
              </a:spcBef>
              <a:buClr>
                <a:srgbClr val="2da2bf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Bestaat uit meerdere lagen speciaal slijmvlie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Produceert slijm dat beschermt tegen scherp of zuur voedsel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erder bestaat de wand uit spierweefsel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Titel 3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84" name="Afbeelding 5" descr=""/>
          <p:cNvPicPr/>
          <p:nvPr/>
        </p:nvPicPr>
        <p:blipFill>
          <a:blip r:embed="rId2"/>
          <a:stretch/>
        </p:blipFill>
        <p:spPr>
          <a:xfrm>
            <a:off x="2895480" y="3809880"/>
            <a:ext cx="6248520" cy="34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4" descr="maag onderdelen"/>
          <p:cNvPicPr/>
          <p:nvPr/>
        </p:nvPicPr>
        <p:blipFill>
          <a:blip r:embed="rId1"/>
          <a:stretch/>
        </p:blipFill>
        <p:spPr>
          <a:xfrm>
            <a:off x="4952880" y="1523880"/>
            <a:ext cx="3962520" cy="3929040"/>
          </a:xfrm>
          <a:prstGeom prst="rect">
            <a:avLst/>
          </a:prstGeom>
          <a:ln w="0">
            <a:noFill/>
          </a:ln>
        </p:spPr>
      </p:pic>
      <p:sp>
        <p:nvSpPr>
          <p:cNvPr id="386" name=""/>
          <p:cNvSpPr txBox="1"/>
          <p:nvPr/>
        </p:nvSpPr>
        <p:spPr>
          <a:xfrm>
            <a:off x="457200" y="1480680"/>
            <a:ext cx="822960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5 onderdelen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914400" indent="-4572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Lucida Sans Unicode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Cardia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914400" indent="-4572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Lucida Sans Unicode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Fundu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914400" indent="-4572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Lucida Sans Unicode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Corpu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914400" indent="-4572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Lucida Sans Unicode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Antrum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914400" indent="-45720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1. Pylorus = maagportier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700" spc="-1" strike="noStrike">
                <a:solidFill>
                  <a:srgbClr val="000000"/>
                </a:solidFill>
                <a:latin typeface="Lucida Sans Unicode"/>
              </a:rPr>
              <a:t>Maagstraat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= kleine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     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curvatuur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Ligging </a:t>
            </a:r>
            <a:r>
              <a:rPr b="0" lang="nl-NL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Links boven in buikholt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Rectangle 2" descr=""/>
          <p:cNvPicPr/>
          <p:nvPr/>
        </p:nvPicPr>
        <p:blipFill>
          <a:blip r:embed="rId2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Picture 4" descr="maag wand"/>
          <p:cNvPicPr/>
          <p:nvPr/>
        </p:nvPicPr>
        <p:blipFill>
          <a:blip r:embed="rId1"/>
          <a:stretch/>
        </p:blipFill>
        <p:spPr>
          <a:xfrm>
            <a:off x="380880" y="212760"/>
            <a:ext cx="8305920" cy="664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Hans,N.H.M.</dc:creator>
  <dc:description/>
  <dc:language>en-US</dc:language>
  <cp:lastModifiedBy>Hans,N.H.M.</cp:lastModifiedBy>
  <dcterms:modified xsi:type="dcterms:W3CDTF">2016-05-23T09:53:37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