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820-0EB0-4F37-8096-CC6A300B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8B9-B44D-4F70-84E9-13976D5B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19F-AC8F-460F-A13C-30E64842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7A4-CE63-427D-9244-8503D342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4935-50CC-40EF-807D-5C945792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972B-8F93-4DD6-9AE3-436FB3ED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42AF-458C-4CD7-80A9-858A07DE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6D40-946D-4DFC-B6CA-F4A7C9B8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DE17-A8D8-40A7-9CA9-F0161768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7BDE-61BA-4BC1-A8B2-9086D741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73B7-D114-4526-9DD3-03DF2A46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655-8B17-4ECD-9359-21C1042A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4A55-73E1-4AA5-B799-A176F2A1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0A0E-B6E9-4580-A83B-BC785E44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C924-25FD-4D36-B7B7-E4C068C2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0AC6-1089-4622-859F-72135105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7C22-AAEA-47D3-AE26-9B7CC0B5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C3FA6-F510-4839-B15C-46FF7EE2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D02E7-F28A-4440-8AE2-8778F700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7C36A-CB19-433F-A079-80D050E1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D42B3-F76A-4B71-A718-D646158E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A571F-0EC3-4411-9A31-E2C6018A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697-66C3-432F-B8C2-0EEE9259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CDCF-B3ED-429D-A01F-6B1DF775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4B804-1D1E-4419-8BF3-536958EF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7D941-6DDA-4F7F-9554-C19FA987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0DC54-145E-488F-947E-A19ED7B6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7180C-274F-4D05-803F-3449A08B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51FAD-F0A9-47A6-82CF-47E54E34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70CEF-5C7E-41A1-BE34-0B4C3EB0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0C803-8657-47A1-8E10-4B563AF1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99A05-D5E8-4D7A-A09C-8AF5FD59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8AE17-44CA-43FA-A917-EC8E9592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249-A713-4A52-856F-62AF7F3A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D1E18-D355-45D9-A977-F5F5DD53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DD223-4B7D-432D-B025-9ADDFEB7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C9736-04C9-4142-A2A8-0FF04916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D1D00-212B-4D76-96C3-79F071C4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8E53C-34D9-44BE-9A92-43FE56D4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C9DC7-82D7-490E-AC54-C3471276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ED0F0-7C5D-49A6-9BDB-3B33163F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5688A-6F51-43B6-8DD0-95C51A89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F4366-A559-4048-8ED4-8B036834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505C8-AB26-4AB3-970D-35C8924D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10C-3EEE-4CDA-976D-EB236EB0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93F84-F932-4DA7-A9B3-DC9BE187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7DC6C-86BE-4C1D-A25E-7268312C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2CCB5-F218-43EF-BF1D-A9122AA8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B4CC1-A864-49FA-B682-AD488A3A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77D0C-F0B7-454C-B484-E0D592C6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3E899-1566-4A5B-9A93-697D85E5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33DAC-0F42-4E9D-940D-D334E83E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43DA3-1FE8-4422-8CB9-25E81FAE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05792-7A72-4FBD-A339-CBF2F06D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E6935-0982-4EA6-9F82-A6D8062C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3A3-398D-4866-B010-741E7021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325D4-6F89-444C-83D3-20AAAC7D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DF9EA-0FB7-41FC-8BFA-57789D03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8B7CE-F5D4-470D-AEC3-57EAB182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14BF2-EA67-4506-B6A9-533198A1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0FED6-542A-4557-BE39-55E717B0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3EFEC-582D-41B3-B89E-D90B84D2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B5ECB-119F-4781-89D9-3B0F53E3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DE812-A42E-410A-A735-70F7F1C7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E553C-C62B-4EE1-B5F6-C5B062A3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45C8C-E77D-4A1D-B160-90C42FFE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9F3-A1F2-4209-92EC-6CBB406C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AB2FA-74A0-48B6-8D94-658EE121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D373D-B106-47A0-B777-D6E9B393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821B3-F98E-4263-A088-A256C422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A7C7F-9503-4B19-A18B-82EE74DC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6A52A-9B05-4A3C-801C-9D2D83BB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A1456-81BA-4B4F-91CA-E1B55599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3D896-1408-4AA0-9D19-C50A42C1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F9456-AFEF-4ED7-BD17-3B6D0F32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37CB3-2792-4438-838A-2CC929B6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D783F-9E4B-4FF2-89D0-0F085D5C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F13-DCD0-485E-8201-B5F7DF74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5E3A5-D146-45B0-9FF1-5BC03C1B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970AC-60D8-4223-8DA9-066F139E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852D1-7C2C-4DC2-9CC8-F39EEF2F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48431-EB93-403A-9730-02C42060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C5F71-28AA-4510-93E1-BE4F9F3B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1C76D-D763-45CC-A4C5-6B9BA14D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0DE5A-E3FD-4D00-8967-3F159A52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40F66-FF6C-4705-A32F-558A0867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9D60F-8A66-471B-9B96-A5B41AE9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67E06-1B3A-4DEF-876E-DD92C4A0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07A-DE36-45C6-A421-4779FD5D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BB2FD-F618-43B9-8109-47EC1949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C5EC1-AC34-473F-B5DF-575D990A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8416E-010B-4FCB-A8BB-4FD675DF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BF332-494D-477F-9D8E-3DCB8190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070D7-8B37-48C5-843A-E8994570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478E0-8C9B-48AC-B4EC-DE763C8D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58C0B-D8E5-41D7-892E-32BE92D1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EEF1-498F-4935-A457-CB4B5A930D85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284B-640E-41E9-973F-F754126EA440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D8B0-00E3-445F-A850-80B29D1C38F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CB8D-B319-41DC-A899-C89216FF28B6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5968-251F-49C0-A9B2-EA95E2BBBC63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8736-E50C-499F-9743-21C968D71440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D3CE-8CB5-41B4-9B7A-4BB25838722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96E4-3218-4178-819A-2CE52B8A91B3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eusholte, mond, luchtpijp, slokdarm, buis van Eustachiu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 De luchtpijp en de neusholte.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a natriumbicarbonaat maakt de chymus (voedselbrij) enorm veel minder zuu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b Anders zou je 12-vingerige darm wegbrand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a koolhydraten(suikers), vetten en eiwitt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b emulgeren(verspreiden) van ve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237960" y="-10944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0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Bestaan alleen uit glucosemoleculen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Meervoudige suiker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 en cellulose zij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plantaardige suikers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(rijst, granen en aardappelen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Glycogeen is ee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dierlijk suiker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ycogeen 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ucos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Cellulose kan niet worden afgebroken door het lichaam.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En heeft een stimulerende functie van de darmbewegingen.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(cellulose vormt de vezels in de voeding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el 1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5465880" y="1447920"/>
            <a:ext cx="2603520" cy="1384200"/>
          </a:xfrm>
          <a:prstGeom prst="rect">
            <a:avLst/>
          </a:prstGeom>
          <a:ln w="0">
            <a:noFill/>
          </a:ln>
        </p:spPr>
      </p:pic>
      <p:cxnSp>
        <p:nvCxnSpPr>
          <p:cNvPr id="423" name="Rechte verbindingslijn met pijl 4"/>
          <p:cNvCxnSpPr/>
          <p:nvPr/>
        </p:nvCxnSpPr>
        <p:spPr>
          <a:xfrm>
            <a:off x="2438280" y="3962160"/>
            <a:ext cx="60372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riglyceriden (verzadigde/onverzadigde vette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Fosfolipiden (bouwstof voor celmembraa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Steroïden (hormonen bijv. cholestero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Vetten hebben uiteenlopende functies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voor alle cell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Belangrijke </a:t>
            </a: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rand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 (energieleveraar, vetverbranding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Overschot wordt opgeslagen (</a:t>
            </a: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reserve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Isolatie (warmt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ervoer van vitamin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 enzym nodig voor afbraak van alle vetten!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nzym LIPASE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Je kunt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en reserve-eiwitten in je lichaam opslaa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us is het belangrijk dat je dagelijks voldoende eiwitten binnenkrijg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iwitten dienen al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ouwstof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n in noodgevallen als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randsto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escherming: anti-stoffen en stollingsfactoren in het bloed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pierwerking: actine en myosin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nezingsproces van wonden!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fbeelding 2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577960" cy="27842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96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 zijn opgebouwd ui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2 aminozuren maakt je lichaam zel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8 aminozuren via voeds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nzymen genaamd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proteasen breken eiwitten af terug to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minozuren kunnen via de darmwand in het bloed worden opgen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2 en 3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sse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aar welk orgaan gaan de opgenomen voedingstoffen(behalve grote vetzuren)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eiwi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ve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om kan de mens geen cellulose verter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el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Afbeelding 3" descr=""/>
          <p:cNvPicPr/>
          <p:nvPr/>
        </p:nvPicPr>
        <p:blipFill>
          <a:blip r:embed="rId1"/>
          <a:stretch/>
        </p:blipFill>
        <p:spPr>
          <a:xfrm>
            <a:off x="3657600" y="3605040"/>
            <a:ext cx="5513400" cy="3259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produceerd in de maagsapkli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sap bestaa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trinsieke factor (beschermt vitamine B12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epsine (enzym dat eiwitten verteer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utzuur (HCI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te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lij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nemen vitamine B1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den micro-organis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Pepsin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orgt voor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deeltelijke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koolhydra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tstaan van een dunne voedselbrij: ook wel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chymu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noem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 de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ve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n de voedselbrij gebeurt nog niets in de m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Enorme variatie in voedingsmiddelen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Ze bevatten maar 6 verschillende voedingsstoffen, namelijk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Suikers (koolhydra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Vetten (lipid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Eiwitten (proteïn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Mineralen (zou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Vitamin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Het lichaam gebruikt voedingsstoffen al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Brandstof, bouwstof of reservestof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1" name="Afbeelding 3" descr=""/>
          <p:cNvPicPr/>
          <p:nvPr/>
        </p:nvPicPr>
        <p:blipFill>
          <a:blip r:embed="rId2"/>
          <a:stretch/>
        </p:blipFill>
        <p:spPr>
          <a:xfrm>
            <a:off x="5638680" y="335916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elangrijkste brandstof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or het licha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Daarnaast ook 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voor de aanmaak van molecul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3 groepen suikers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Enkel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wee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Meer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335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kel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Twee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eer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4"/>
          <p:cNvSpPr/>
          <p:nvPr/>
        </p:nvSpPr>
        <p:spPr>
          <a:xfrm>
            <a:off x="2438280" y="1981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997440" y="190512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3048120" y="2819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3435480" y="274320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5964120" y="19051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9"/>
          <p:cNvSpPr/>
          <p:nvPr/>
        </p:nvSpPr>
        <p:spPr>
          <a:xfrm>
            <a:off x="2514600" y="3124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0"/>
          <p:cNvSpPr/>
          <p:nvPr/>
        </p:nvSpPr>
        <p:spPr>
          <a:xfrm>
            <a:off x="2895480" y="308628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289548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251460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3"/>
          <p:cNvSpPr/>
          <p:nvPr/>
        </p:nvSpPr>
        <p:spPr>
          <a:xfrm>
            <a:off x="4876920" y="5105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4"/>
          <p:cNvSpPr/>
          <p:nvPr/>
        </p:nvSpPr>
        <p:spPr>
          <a:xfrm>
            <a:off x="5029200" y="52578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5"/>
          <p:cNvSpPr/>
          <p:nvPr/>
        </p:nvSpPr>
        <p:spPr>
          <a:xfrm>
            <a:off x="51814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6"/>
          <p:cNvSpPr/>
          <p:nvPr/>
        </p:nvSpPr>
        <p:spPr>
          <a:xfrm>
            <a:off x="4114800" y="60199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7"/>
          <p:cNvSpPr/>
          <p:nvPr/>
        </p:nvSpPr>
        <p:spPr>
          <a:xfrm>
            <a:off x="5486400" y="57150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5638680" y="5867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9"/>
          <p:cNvSpPr/>
          <p:nvPr/>
        </p:nvSpPr>
        <p:spPr>
          <a:xfrm>
            <a:off x="6095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0"/>
          <p:cNvSpPr/>
          <p:nvPr/>
        </p:nvSpPr>
        <p:spPr>
          <a:xfrm>
            <a:off x="5791320" y="60199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1"/>
          <p:cNvSpPr/>
          <p:nvPr/>
        </p:nvSpPr>
        <p:spPr>
          <a:xfrm>
            <a:off x="5943600" y="60958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2"/>
          <p:cNvSpPr/>
          <p:nvPr/>
        </p:nvSpPr>
        <p:spPr>
          <a:xfrm>
            <a:off x="5334120" y="55627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3"/>
          <p:cNvSpPr/>
          <p:nvPr/>
        </p:nvSpPr>
        <p:spPr>
          <a:xfrm>
            <a:off x="4648320" y="52578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4"/>
          <p:cNvSpPr/>
          <p:nvPr/>
        </p:nvSpPr>
        <p:spPr>
          <a:xfrm>
            <a:off x="4343400" y="56386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5"/>
          <p:cNvSpPr/>
          <p:nvPr/>
        </p:nvSpPr>
        <p:spPr>
          <a:xfrm>
            <a:off x="4191120" y="586728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6"/>
          <p:cNvSpPr/>
          <p:nvPr/>
        </p:nvSpPr>
        <p:spPr>
          <a:xfrm>
            <a:off x="3962520" y="61722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7"/>
          <p:cNvSpPr/>
          <p:nvPr/>
        </p:nvSpPr>
        <p:spPr>
          <a:xfrm>
            <a:off x="3809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8"/>
          <p:cNvSpPr/>
          <p:nvPr/>
        </p:nvSpPr>
        <p:spPr>
          <a:xfrm>
            <a:off x="44956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 suikers in het voedsel word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afgebroken tot enkelvoudige suikers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enkelvoudige suikers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kunn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via de darmwand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naar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het bloed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Lichaamscellen gebruiken 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LLEEN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als brandstof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kan de enkelvoudige suikers fructose en galactose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omzette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n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el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1738440" y="5486400"/>
            <a:ext cx="317520" cy="244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3"/>
          <a:stretch/>
        </p:blipFill>
        <p:spPr>
          <a:xfrm>
            <a:off x="3510000" y="5413320"/>
            <a:ext cx="317520" cy="390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4"/>
          <a:stretch/>
        </p:blipFill>
        <p:spPr>
          <a:xfrm>
            <a:off x="5411880" y="5450040"/>
            <a:ext cx="32868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e groot om via de darmwand in het bloed opgenomen te word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Worden gesplitst tot enkelvoudige suikers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weevoudige suiker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1154160" cy="1219320"/>
          </a:xfrm>
          <a:prstGeom prst="rect">
            <a:avLst/>
          </a:prstGeom>
          <a:ln w="0">
            <a:noFill/>
          </a:ln>
        </p:spPr>
      </p:pic>
      <p:cxnSp>
        <p:nvCxnSpPr>
          <p:cNvPr id="419" name="Rechte verbindingslijn met pijl 4"/>
          <p:cNvCxnSpPr/>
          <p:nvPr/>
        </p:nvCxnSpPr>
        <p:spPr>
          <a:xfrm>
            <a:off x="3638520" y="4114440"/>
            <a:ext cx="41976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6-06T09:58:3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