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EEE-E002-4689-9E29-91703D49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E08-D73B-46B1-8E04-095320D7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B21-93FB-4FCC-A7C3-4CAFA15C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B81-E5A6-48A2-9BB2-433C7292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080A-66B2-4AC6-9E23-F87706CC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A81A-96B7-4838-AFCD-F38D7C0C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EBFC-BB04-44DF-A59F-3DA23D12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2580-CF1F-46E3-B504-16764AA3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0FCF-201A-49A5-AA12-F67B3DEB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9192-5550-45B7-AA25-5E4876ED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C43F-CE02-4719-B40A-43C3D24A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81F-AD38-438D-B4D4-E9E22AA7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3157-46BE-4036-A1C6-584617EA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60D7-AC99-47F9-9D0B-1780B79E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7710-2732-408B-9391-A224CE47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80B1-4008-438A-B7E5-3BFE9675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170D-7F1B-4616-9B8B-173135EB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58E3-A8DA-4C24-8FC7-A0D7BFA7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D2C09-62EA-4D9F-BDD9-D827B03C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2D389-E994-4855-B373-022740F8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FED1-184A-4CA0-8107-47CAFC6B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0C24-C6F5-44A3-BA7F-0BEE07A1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4D4-253B-4621-92AA-844503FE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390F7-23D3-4795-AB99-4C8F0C5E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148FB-B7FC-403C-8463-DDFB9385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FF41A-7394-4EE5-979D-07EB69C4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D67BF-0499-40E0-8DF0-CEFD76A1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CB442-D290-488D-934E-7B712249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0EEFA-324C-4677-AEDD-02197155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C28A-9B95-4821-8BDD-127ADF7C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FDD99-3F6F-4B40-9965-98AF6D8F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CF27D-6277-4F2B-868F-0387F5BF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FF9E9-AD2A-40F9-99D9-CF8D03ED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6C0-5B09-4AA4-8C80-4DF66DFD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6233B-DF80-47AC-8EFC-FFF38182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949AD-1DDD-4B1E-9A87-02D8F02D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F42CC-8E58-41B1-A36B-88330B67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9C66D-A058-4DD6-8259-B60E165F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B6316-CA9C-4D24-910E-1E1D6982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B31C-E831-4B91-921C-8ED6A1E4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A7AB5-C1A5-4B75-8545-7EDDD4BB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93B3-56F4-4EA7-A8BA-2CB0AC79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47BDC-9202-4E59-A69C-81B7B596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56EC0-F6BD-464D-AD75-1C40138F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67A-3B6B-4431-9769-953398D3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8F3D5-1401-4C27-9798-20B8468F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A342A-CB44-4A30-9A0F-FE8302D5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BD59E-81EA-4BE4-90D9-EF558928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06662-57C9-4F42-A7EC-C92DFF37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DAD32-B4BF-407E-96A2-35362249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5D58F-A93F-4F85-B70A-F99F450D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6692A-5742-46D9-B229-894AACEB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41A20-0ADE-4931-BC10-AD7CD3BD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78779-D018-4B98-ADD0-1E4CEAFA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AB4BF-C1AA-4B44-A3D7-284195C2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50A-B048-49EA-8372-FDBFDB0B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1C94B-1FCF-4C6E-852D-FA33A56D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7490E-EDB3-42D4-8AE8-8BC7FADB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FF4B3-EC0C-4451-8C71-E5153A9C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1328C-EA72-4241-960D-D8BD5735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43E75-9565-41B1-BB65-C3D4DA18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E34EA-DBF8-4F9F-AF5D-9F78D7CF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52C91-4C21-4E71-8627-6B437CD3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0F1B4-690F-43F9-B4D9-93BB036D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C11DF-CD4A-43A4-9312-7F51A4FD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EDA11-A209-47EB-8EAE-AB231B7C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C44-DD07-4F2F-AAAB-862C67C8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EEA5F-6B94-41BD-836F-66262D66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D2193-5DB4-43AC-B2FD-CD2999E2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127C1-48A4-40D2-8935-9B80A9AE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4C870-5AAB-4F6B-9B4E-26D15A77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A8B5B-95DF-424D-9B2B-F1D9E5FF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C28A5-60D0-48EF-A6F2-8BB897BB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8D1E1-8811-49EB-8396-56BE2CD2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63D2A-C059-4210-99AE-033F0F19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6FFA0-1B9E-4EDF-B99A-F1FD2D62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9857F-6639-45F3-89A1-52D36966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78C-74E5-47CF-A2CE-9898C697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C9777-8676-4CCB-95A5-562B049B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D01A2-1462-4D37-A31A-7C9F9A19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DF4F3-B251-42B3-AAB0-46F86D51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40BCF-3A7A-410E-A14B-AF5BB51B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E63D7-851C-4E09-A6C0-B481C8CC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52966-02A6-4826-8CDB-FECDE913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E9621-7914-4903-9942-5F469FAD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945B6-D895-4FF3-8917-34E4CBB8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4FC00-7A9D-4606-8DE2-D43EF295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1A9C5-96B6-41ED-B2CC-AA992540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962-567C-49C0-A611-7D6B600E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6E1C6-7848-4118-A586-7287C050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1F4CD-A83B-44D7-8A4A-F577B753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BBF8D-A75D-4E68-B8CC-A6CC1E27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5FEA9-EE71-4FCC-BEC6-891BCC46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1793A-3FD6-4C6F-92A7-14D43EC4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79BA5-F753-407C-94E9-07C47A36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31840-559B-4B0D-ACA0-5EFE14C0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63E3-294A-4BE5-B3A6-F512151177C2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1EED-80A1-482A-A879-FD6A2D3F3B9D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6071-B80A-4E6B-92EE-E915705ABBF3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FB9A-3321-4EB1-AD76-A2D3449FEE75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8ABC-3C62-4CBF-A772-156262F36B89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D323-81C8-41AF-ABD7-6AB2E1573CFF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806F-1A30-4576-80B9-C8F2DD8AE760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4E5D-A6A0-4497-B366-6518BDD6F7BA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-219240" y="-109440"/>
            <a:ext cx="8448840" cy="103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suline en glucagon hebben een antagonistische werking. Wat wil dat zeggen?</a:t>
            </a:r>
            <a:br>
              <a:rPr sz="2700"/>
            </a:b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Tegengestelde werking op bloedsuikerspieg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hormoon wordt afgegeven enige tijd na een maaltijd? Waarom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Insuline, om te voorkomen dat er teveel glucose in bloed kom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effect heeft het hormoon uit vraag 2 op de bloedsuikerspiegel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Verlagend effe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Een lege maag heeft enorm veel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plooien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Plooien zorgen ervoor dat de maag heel ver kan uitrekk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Gemiddeld is de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maximale maagvolume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zo’n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3 lit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In lege toestand is het maagvolume zo’n 1 liter maagsap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Rondom de maag liggen spieren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die de maaginhoud kunnen ‘mixen’ en voedselbrokken veranderen daardoor in een dunne voedselbrij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, 6, en 7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225360" y="304920"/>
            <a:ext cx="8845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257800" cy="58262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el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Afbeelding 1" descr=""/>
          <p:cNvPicPr/>
          <p:nvPr/>
        </p:nvPicPr>
        <p:blipFill>
          <a:blip r:embed="rId1"/>
          <a:stretch/>
        </p:blipFill>
        <p:spPr>
          <a:xfrm>
            <a:off x="5562720" y="-20520"/>
            <a:ext cx="5324400" cy="4171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0" y="990720"/>
            <a:ext cx="8229600" cy="56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nctie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oorgang voo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voedsel naar slokdarm 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in- en uitademing van luch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Keelholte staat in verbinding m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Neus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Mond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trottenhoof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uis van Eustachius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(verbinding met middenoor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2"/>
          <a:stretch/>
        </p:blipFill>
        <p:spPr>
          <a:xfrm>
            <a:off x="-255600" y="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1766880" y="36360"/>
            <a:ext cx="5608800" cy="67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binding van keelholte naar de 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unctie: transport van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 vernauw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chter het strottenhoof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litsing luchtpij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oorgang diafragm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nsport via peristaltische bewegin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uit meerdere lagen speciaal slijmv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oduceert slijm dat beschermt tegen scherp of zuur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der bestaat de wand uit spierweef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Afbeelding 5" descr=""/>
          <p:cNvPicPr/>
          <p:nvPr/>
        </p:nvPicPr>
        <p:blipFill>
          <a:blip r:embed="rId2"/>
          <a:stretch/>
        </p:blipFill>
        <p:spPr>
          <a:xfrm>
            <a:off x="2895480" y="3809880"/>
            <a:ext cx="62485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maag onderdelen"/>
          <p:cNvPicPr/>
          <p:nvPr/>
        </p:nvPicPr>
        <p:blipFill>
          <a:blip r:embed="rId1"/>
          <a:stretch/>
        </p:blipFill>
        <p:spPr>
          <a:xfrm>
            <a:off x="4952880" y="1523880"/>
            <a:ext cx="3962520" cy="39290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4806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 onderde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ard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Fund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orp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ntru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1. Pylorus = maagporti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Maagstraa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= klein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urvatuu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ggin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inks boven in buik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maag wand"/>
          <p:cNvPicPr/>
          <p:nvPr/>
        </p:nvPicPr>
        <p:blipFill>
          <a:blip r:embed="rId1"/>
          <a:stretch/>
        </p:blipFill>
        <p:spPr>
          <a:xfrm>
            <a:off x="380880" y="212760"/>
            <a:ext cx="830592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5-23T09:53:3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