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63D-7988-408D-AFE5-7CD26141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E5F-2E1C-4FD7-BE34-9A623CCD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E81-4658-4F76-AB48-E4A51E45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A17-E9FB-444B-91AA-F5B34BE2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387E-5FBD-4CCE-A703-FB86362B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DE0E-8B7B-4701-BB90-9762EC6F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BED0-7B28-4D53-8C8C-70765447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3D8C-FAC6-4ACA-B4DB-77210E76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21CE-338F-4C78-B715-E19735B2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343A-6D2E-4D94-916C-E167BF09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6BC3-2884-45CA-B65F-E4842743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088-6469-4C04-AE79-D51C173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4589-1321-40D5-BDC2-F238723E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BC8C-5FDF-4E68-8CA7-B46E6C5A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D8B5-064E-4942-993A-75A87229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66DE-6008-4AAA-B348-DE8091C2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9C2E-9F76-4D9D-BED2-8B37B2FF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4696-D027-454C-8AD0-A73D2E89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F4B4-4FE4-4488-8497-9F23FE25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16DE-ADBA-4E5E-AFCC-534DEB45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C3CC-2AFC-4786-98C7-C20A235A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C749-0DD7-4216-BF6F-8C41495D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BA8-2D87-4119-AB64-A397B447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1E0F-A0D8-4A82-8147-257C349D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15C37-82B6-4FB1-B1EC-92166CC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43A6-BD3E-4786-84D7-5CDCD2E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2AB2-2EFA-4EBE-8FB2-66F302C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6914-5335-4DAF-9604-9E0C4F59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724A-B6B3-498B-8B9C-FDD63801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393B-45E6-4416-9364-311ABB2C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48ED-EF43-40D1-A265-3F7138CB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8537E-4025-434A-B42B-ED4057D2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9710-3E68-4665-887D-098A5319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529-C086-4C24-BD65-2B00DBF9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298B5-6ADD-43CF-AF00-F8771272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2E7F1-16AF-405F-B68C-59D21204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94DB-3D3D-4ACE-A7C3-547BB278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F2B8-12D5-467E-81F2-49FF1C81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1070-DE07-411F-B74B-C4DA8067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288CA-1120-4A93-9ADC-C4075CD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90E3-AD32-4421-A5DD-76716D9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2823C-734B-4861-A4D5-0FA42696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D77E4-B697-4832-AAA7-4F82F0B5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00416-5E0C-46AA-A4DF-88B58B6B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453-45AE-4F2D-889E-4D9713B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8DA3F-EE31-4529-A26C-84DB5F21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1627-D3FF-4722-9B6D-3CFA65FA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2567-849D-47A4-9323-58013C24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B03F-77C3-457F-8C67-D9934991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24926-11F5-4B42-A7D8-C5E9BD7B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A781-B5C8-439B-9594-9DFB26E6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F4492-C9C3-4AC9-8E70-48804E96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8D17-90E7-4EC6-A212-D8BCFAD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F04A7-22B6-48CE-BC0F-34A8DE33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98E4-EDFC-491C-B376-4BB5A3B9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B81-7AA5-432A-9806-F8E98021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87761-69CA-438B-A01D-AE7C36CF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E71F-3890-467D-B9AD-67746196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6FEBA-2432-4B13-A326-5987F3AD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BDCB1-4A18-434A-B591-C7608BFE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15368-0204-4D45-BEB6-69B849BB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F9E75-9041-4594-8219-F0D1F99A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EECD-E8AA-495C-A232-47909AAE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165D1-F95B-4F02-B70F-DEC1349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F5D6-6D24-4EBC-B9A2-8D680D2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CB4D6-BFBB-4051-9A4D-68605014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1BA-8CC4-4F7F-A21A-37E9DA1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AF99-68D7-4978-9571-1459C75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4EC0-7540-440C-A572-3ECC274F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49F6F-FC57-46CB-9A51-93D5D555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B62D-0902-44E4-87D4-9BD4837F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1B616-1205-413D-9501-8CF025B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691A2-EE00-445F-BC1A-42EBB374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8FBA1-5882-4489-BBAA-716A4E5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1263C-1C9A-4289-B7E2-83791A18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6B226-DA88-4CDF-B0F5-A07C4874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00805-B8DD-4F2F-A05D-EE97A079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70D-8C50-442B-9ECB-A3D10D8B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181C9-E78A-4EA5-B55B-81FDE9E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F6DA5-1864-44A8-8E58-BBA4DE8C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04D9-4C09-4666-AD9F-68D83CC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8946F-52F5-44EC-B17F-C33A11EF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A68BA-4789-4E74-AD26-00C2669D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481CD-7E3E-4511-86A2-3968D863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29B4F-E37B-49DC-93A6-068FE335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21AEC-C831-410C-848D-47EA86F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B9F92-3BF1-4EDA-A36A-C01A206A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7C45E-8093-40DB-BADA-751A24A3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F51-4089-4E14-8C5A-F9D99799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EFEF8-CD30-438A-A02F-0F8DAA57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64EE9-5806-4100-8EA8-92CDFD08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F0A37-9C37-4C85-8A0E-870474C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7A185-4FF2-427C-BB30-DCACE4D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13319-535C-4F4F-8C13-A322B07B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9D479-2E41-46F0-93FA-720EF8EC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8F5E4-1D78-447D-AD4F-8AFB4DE2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65DC-68E9-427F-B7B0-4586E73F9E1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8094-DAC6-4C41-BD70-57F2E4F01A8A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8538-44C5-458D-BE68-FEB98B8015E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3FDC-90DB-4CA0-B92E-C9869A3C425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6DBB-B327-44CA-A97B-908DAD72221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2E31-2B43-4E59-9C76-8F713467D5F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430D-6DC5-46A2-970F-694B0DED749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3296-57FE-4EC8-BCEF-5C1B82D0ABC0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suline en glucagon hebben een antagonistische werking. Wat wil dat zeggen?</a:t>
            </a:r>
            <a:br>
              <a:rPr sz="2700"/>
            </a:b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Tegengestelde werking op bloedsuikerspie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hormoon wordt afgegeven enige tijd na een maaltijd? Waarom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Insuline, om te voorkomen dat er teveel glucose in bloed kom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effect heeft het hormoon uit vraag 2 op de bloedsuikerspiegel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Verlagend eff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en lege maag heeft enorm veel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plooien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Plooien zorgen ervoor dat de maag heel ver kan uitrekk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Gemiddeld is de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maximale maagvolume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zo’n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3 lit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lege toestand is het maagvolume zo’n 1 liter maagsap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Rondom de maag liggen spieren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ie de maaginhoud kunnen ‘mixen’ en voedselbrokken veranderen daardoor in een dunne voedselbrij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, 6, en 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845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257800" cy="582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el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fbeelding 1" descr=""/>
          <p:cNvPicPr/>
          <p:nvPr/>
        </p:nvPicPr>
        <p:blipFill>
          <a:blip r:embed="rId1"/>
          <a:stretch/>
        </p:blipFill>
        <p:spPr>
          <a:xfrm>
            <a:off x="5562720" y="-20520"/>
            <a:ext cx="5324400" cy="4171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0" y="990720"/>
            <a:ext cx="8229600" cy="56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nctie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oorgang v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voedsel naar slokdarm 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n- en uitademing van luch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eelholte staat in verbinding m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Neus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Mond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trottenhoo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uis van Eustachius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verbinding met middeno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-255600" y="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766880" y="36360"/>
            <a:ext cx="56088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binding van keelholte naar de 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unctie: transport van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 vernauw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chter het strottenhoof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litsing luchtpij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oorgang diafrag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port via peristaltische bewegin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uit meerdere lagen speciaal slijmv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oduceert slijm dat beschermt tegen scherp of zuur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der bestaat de wand uit spierweef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Afbeelding 5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248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ag onderdelen"/>
          <p:cNvPicPr/>
          <p:nvPr/>
        </p:nvPicPr>
        <p:blipFill>
          <a:blip r:embed="rId1"/>
          <a:stretch/>
        </p:blipFill>
        <p:spPr>
          <a:xfrm>
            <a:off x="4952880" y="1523880"/>
            <a:ext cx="3962520" cy="3929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06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 onderd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ard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Fund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rp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tru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. Pylorus = maagporti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Maagstraa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= kle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urvatuu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inks boven in buik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aag wand"/>
          <p:cNvPicPr/>
          <p:nvPr/>
        </p:nvPicPr>
        <p:blipFill>
          <a:blip r:embed="rId1"/>
          <a:stretch/>
        </p:blipFill>
        <p:spPr>
          <a:xfrm>
            <a:off x="380880" y="21276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5-23T09:53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