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12.png" ContentType="image/png"/>
  <Override PartName="/ppt/media/image7.png" ContentType="image/png"/>
  <Override PartName="/ppt/media/image8.png" ContentType="image/png"/>
  <Override PartName="/ppt/media/image5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9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5.jpeg" ContentType="image/jpe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EECB-DFB4-4EBF-B53B-E9184E769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81B1-EBC7-489D-8627-17446548A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C072-D41B-4585-8C3D-FE6155037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6BBF-6C4D-4244-9F12-1B0DF4BA2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5FFFE-5816-4518-9A98-D8D8D97C0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1CF70-9E90-4494-84EB-235521286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19B4B-5DA9-48A8-889E-86496BDC9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9DD55-EFFC-46ED-8950-D8469BFA0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7FF69-C4CE-4CD7-A588-76B24F494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240C9-36A5-4B79-AF7E-D6EC605D3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6A46A-BB77-4C38-B72B-7AFED2FD3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55C7-D0C9-4773-8DEA-0431D1E81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85A7E-E264-4D60-857B-9D7B33CD2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BDA61-244F-4B04-B403-FC7C1B7C5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8504E-D696-4DDE-9141-DF28F1959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51597-75F3-4C9E-8BEF-E19D614FB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30178-FCAD-4CD5-BF39-6FC558CFB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D43D7-72B9-42AE-978E-94863BD81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BAA1A-E5FC-46FF-9A2A-39808ACA9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6DE44-9C76-48DE-9446-4C4E7FB72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E23A5-0B85-4678-8D80-557053EF3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5A142-DA9B-4374-AA1B-52182AA62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1BF8-63D9-4688-B418-8ACB3EEA8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6BE42-115D-4899-AD53-EE508E980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3AED9-FD9F-4289-A815-740098212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5430C-B757-4AC5-83BB-281F9562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7C679-C095-4ECE-A7ED-8A8C23E5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8182A-AD03-4990-A7D5-6A1A683C9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C24A7-D391-4BAD-92E7-3AFB8AE07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18687-C3E2-4763-A105-4B1D90807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B7EB6-C86B-4A36-A304-2EB1CD451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3D70D-1A32-4207-A7F9-0BC9A155C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7790F-4414-4EEB-AF10-68A23C66B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03BF-FF0E-46D3-9232-788AA933F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7D640-1328-4B9E-BF20-9F85A6107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8A432-8235-4371-9830-77DEF6AF7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712F6-2345-4996-B849-784CD5A88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1CE69-2087-41AC-8D40-F14EA0D9A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5A925-1449-4885-94F2-861CB6778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0ADF9-29C1-4485-83CC-0F5AEBD19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ADA9E-D968-4398-BA23-7D34CDA41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A8B9B-0AF7-4002-B959-DA5B78019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87E3D-C929-40B5-BA0F-2B3276C10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0D3313-78DA-4CEF-A883-05E213E94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6E10-D64E-4E1F-B094-B16AC624E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DE79C0-85BC-4AB9-ADCE-19F738983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D65C7E-B652-48FF-9240-F8948DB9F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F561D1-6C24-4B9B-A090-8F7168DD4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8E1EFB-EB9F-4EB1-8EF0-D20D7F58E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E6CF7F-10B7-4CF9-ACA2-4C601B7B3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AA765D-CCFC-472E-8280-C8F0CAD26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447E37-0287-4177-B3D0-86E05C5D2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DD46D7-D2EA-4D61-983B-CEEEDD934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2EF34F-D3D4-4886-81C4-6FFD5CF41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9916F2-071C-4100-A19C-CD79312FC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946C-CFC7-4C60-B279-01B99209A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D4DD0F-1264-437C-A46D-1E97DFC5C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9F9C54-AF10-413A-8E20-0FF2D3278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E68D73-37F1-4ECF-8C71-2948E45E8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8172F5-963B-4965-84A4-2E62C53BE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ADB143-8582-4B97-9756-37A5BBE3D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4DBF8C-4D05-424F-9471-443014345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F0FCC1-8EAB-42A0-8612-5B92C1003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5F308D-82B1-4CC2-A7A3-4A3FC5950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7F7195-F87C-41A8-AB0F-9DA1D731F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0DE833-B06E-4C94-B341-771ACFB54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7A14-36EF-4869-AA66-33C2AAC2C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29C45C-AA81-435C-AAF3-414DEDF3C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9C852D-9DCB-484F-8F78-86330C439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59E043-2527-4155-A054-87E7ABE4C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D954ED-EB3B-485F-A54D-486C25471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C5AE5C-0EA3-4343-B3F5-53FA2BAE1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189CC5-C7E8-4251-9800-D74AFAA6B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0AD30D-F4CA-4590-B28E-79A54F675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EB140A-673C-496D-B985-3887005CA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0B51AD-2B89-4B87-9957-4F860AB01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67CAEB-1EE5-4A87-B9B4-57B75B964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73F5-626A-45F2-8D26-0228392B6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5A247A-B9B6-4673-BEBC-333AA25FB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274704-5E22-4949-99AA-408A6E317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32E4DB-16FA-4A33-A49B-05D8B1511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293E06-D3E2-42F2-A230-A97906A96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02BE06-9E5C-4C4E-B9DB-0E34EC8E0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9015AC-56C6-4C87-9741-2B10DF491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AAF4D4-B281-4238-9AF9-7A24B106B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544239-ECDD-4A09-AA11-EF326EFCF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2F056C-767C-4B6E-A630-E011C95C0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AD6D91-F09D-4F42-BC79-D7DDF3FAE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F399-AA25-4B00-A8BF-701A5596A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6F6D55-AB99-44D3-B179-2EBAF6682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44EF8E-39A6-4267-B3E2-28EB60FFA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4FDB67-BE32-4313-A69D-9576E8BE8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03BF74-FEF1-4474-85CE-279FA6F7B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4703DE-73F0-4121-8ACA-BA0D49D84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24F71E-AA74-460D-A766-7250DB6BF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8CC3C2-3194-4C55-A012-82D42C2AC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A17F4-0A7B-4C2B-A2E5-40A5204C934A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4640" y="5237640"/>
              <a:ext cx="9099360" cy="788400"/>
            </a:xfrm>
            <a:custGeom>
              <a:avLst/>
              <a:gdLst>
                <a:gd name="textAreaLeft" fmla="*/ 0 w 9099360"/>
                <a:gd name="textAreaRight" fmla="*/ 9099720 w 909936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11952-B82A-418C-B49F-2F0268C38768}" type="slidenum">
              <a:rPr b="0" lang="nl-NL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537BD-2E2A-4C7A-B9A1-8B85D58905AD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FD5B3-F1CE-4F14-A8B2-1202BEACA833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37D50-49A7-4028-A008-0A8A5DCABAE8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16EE0-8515-4946-BB3B-4B71A8C2A6C1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B5C56-147C-4CBE-A497-90B2A5B6E052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26F2A-2ACC-4C29-8894-BFE4425D0533}" type="slidenum">
              <a:rPr b="0" lang="nl-NL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Noem de 5 structuren/ruimten waar de keelholte mee in verbinding staa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Neusholte, mond, luchtpijp, slokdarm, buis van Eustachius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Blz. 233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Vraag 4 De luchtpijp en de neusholte.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Vraag 6a natriumbicarbonaat maakt de chymus (voedselbrij) enorm veel minder zuur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Vraag 6b Anders zou je 12-vingerige darm wegbrande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Vraag 7a koolhydraten(suikers), vetten en eiwitte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Vraag 7b emulgeren(verspreiden) van vet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1" name="Rectangle 2" descr=""/>
          <p:cNvPicPr/>
          <p:nvPr/>
        </p:nvPicPr>
        <p:blipFill>
          <a:blip r:embed="rId1"/>
          <a:stretch/>
        </p:blipFill>
        <p:spPr>
          <a:xfrm>
            <a:off x="237960" y="-109440"/>
            <a:ext cx="8448840" cy="10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380880" y="1393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200" spc="-1" strike="noStrike">
                <a:solidFill>
                  <a:srgbClr val="000000"/>
                </a:solidFill>
                <a:latin typeface="Lucida Sans Unicode"/>
              </a:rPr>
              <a:t>Bestaan alleen uit glucosemoleculen</a:t>
            </a:r>
            <a:r>
              <a:rPr b="0" lang="nl-NL" sz="22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Lucida Sans Unicode"/>
              </a:rPr>
              <a:t>Meervoudige suikers: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Lucida Sans Unicode"/>
              </a:rPr>
              <a:t>Zetmeel, glycogeen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Lucida Sans Unicode"/>
              </a:rPr>
              <a:t>Cellulose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Lucida Sans Unicode"/>
              </a:rPr>
              <a:t>Zetmeel en cellulose zijn </a:t>
            </a:r>
            <a:r>
              <a:rPr b="1" i="1" lang="nl-NL" sz="2200" spc="-1" strike="noStrike">
                <a:solidFill>
                  <a:srgbClr val="000000"/>
                </a:solidFill>
                <a:latin typeface="Lucida Sans Unicode"/>
              </a:rPr>
              <a:t>plantaardige suikers </a:t>
            </a:r>
            <a:r>
              <a:rPr b="0" lang="nl-NL" sz="2200" spc="-1" strike="noStrike">
                <a:solidFill>
                  <a:srgbClr val="000000"/>
                </a:solidFill>
                <a:latin typeface="Lucida Sans Unicode"/>
              </a:rPr>
              <a:t>(rijst, granen en aardappelen)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Lucida Sans Unicode"/>
              </a:rPr>
              <a:t>Glycogeen is een </a:t>
            </a:r>
            <a:r>
              <a:rPr b="1" i="1" lang="nl-NL" sz="2200" spc="-1" strike="noStrike">
                <a:solidFill>
                  <a:srgbClr val="000000"/>
                </a:solidFill>
                <a:latin typeface="Lucida Sans Unicode"/>
              </a:rPr>
              <a:t>dierlijk suiker</a:t>
            </a:r>
            <a:r>
              <a:rPr b="0" lang="nl-NL" sz="2200" spc="-1" strike="noStrike">
                <a:solidFill>
                  <a:srgbClr val="000000"/>
                </a:solidFill>
                <a:latin typeface="Lucida Sans Unicode"/>
              </a:rPr>
              <a:t>.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Lucida Sans Unicode"/>
              </a:rPr>
              <a:t>Glycogeen </a:t>
            </a:r>
            <a:r>
              <a:rPr b="0" lang="nl-NL" sz="19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1900" spc="-1" strike="noStrike">
                <a:solidFill>
                  <a:srgbClr val="000000"/>
                </a:solidFill>
                <a:latin typeface="Lucida Sans Unicode"/>
              </a:rPr>
              <a:t>glucose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200" spc="-1" strike="noStrike">
                <a:solidFill>
                  <a:srgbClr val="000000"/>
                </a:solidFill>
                <a:latin typeface="Lucida Sans Unicode"/>
              </a:rPr>
              <a:t>Cellulose kan niet worden afgebroken door het lichaam. </a:t>
            </a:r>
            <a:r>
              <a:rPr b="0" lang="nl-NL" sz="2200" spc="-1" strike="noStrike">
                <a:solidFill>
                  <a:srgbClr val="000000"/>
                </a:solidFill>
                <a:latin typeface="Lucida Sans Unicode"/>
              </a:rPr>
              <a:t>En heeft een stimulerende functie van de darmbewegingen. </a:t>
            </a:r>
            <a:r>
              <a:rPr b="1" i="1" lang="nl-NL" sz="2200" spc="-1" strike="noStrike">
                <a:solidFill>
                  <a:srgbClr val="000000"/>
                </a:solidFill>
                <a:latin typeface="Lucida Sans Unicode"/>
              </a:rPr>
              <a:t>(cellulose vormt de vezels in de voeding)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1" name="Titel 1" descr=""/>
          <p:cNvPicPr/>
          <p:nvPr/>
        </p:nvPicPr>
        <p:blipFill>
          <a:blip r:embed="rId1"/>
          <a:stretch/>
        </p:blipFill>
        <p:spPr>
          <a:xfrm>
            <a:off x="201600" y="304920"/>
            <a:ext cx="8485200" cy="124272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" descr=""/>
          <p:cNvPicPr/>
          <p:nvPr/>
        </p:nvPicPr>
        <p:blipFill>
          <a:blip r:embed="rId2"/>
          <a:stretch/>
        </p:blipFill>
        <p:spPr>
          <a:xfrm>
            <a:off x="5465880" y="1447920"/>
            <a:ext cx="2603520" cy="1384200"/>
          </a:xfrm>
          <a:prstGeom prst="rect">
            <a:avLst/>
          </a:prstGeom>
          <a:ln w="0">
            <a:noFill/>
          </a:ln>
        </p:spPr>
      </p:pic>
      <p:cxnSp>
        <p:nvCxnSpPr>
          <p:cNvPr id="423" name="Rechte verbindingslijn met pijl 4"/>
          <p:cNvCxnSpPr/>
          <p:nvPr/>
        </p:nvCxnSpPr>
        <p:spPr>
          <a:xfrm>
            <a:off x="2438280" y="3962160"/>
            <a:ext cx="603720" cy="1080"/>
          </a:xfrm>
          <a:prstGeom prst="straightConnector1">
            <a:avLst/>
          </a:prstGeom>
          <a:ln w="5508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151920" y="137124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Triglyceriden (verzadigde/onverzadigde vetten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Fosfolipiden (bouwstof voor celmembraan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Steroïden (hormonen bijv. cholesterol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Lucida Sans Unicode"/>
              </a:rPr>
              <a:t>Vetten hebben uiteenlopende functies: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000000"/>
                </a:solidFill>
                <a:latin typeface="Lucida Sans Unicode"/>
              </a:rPr>
              <a:t>Bouwstof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 voor alle cellen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Belangrijke </a:t>
            </a:r>
            <a:r>
              <a:rPr b="1" i="1" lang="nl-NL" sz="2000" spc="-1" strike="noStrike">
                <a:solidFill>
                  <a:srgbClr val="000000"/>
                </a:solidFill>
                <a:latin typeface="Lucida Sans Unicode"/>
              </a:rPr>
              <a:t>brandstof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  (energieleveraar, vetverbranding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Overschot wordt opgeslagen (</a:t>
            </a:r>
            <a:r>
              <a:rPr b="1" lang="nl-NL" sz="2000" spc="-1" strike="noStrike">
                <a:solidFill>
                  <a:srgbClr val="000000"/>
                </a:solidFill>
                <a:latin typeface="Lucida Sans Unicode"/>
              </a:rPr>
              <a:t>reservestof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Isolatie (warmte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Vervoer van vitaminen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1 enzym nodig voor afbraak van alle vetten!!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Enzym LIPASE</a:t>
            </a:r>
            <a:r>
              <a:rPr b="0" lang="nl-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5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Je kunt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geen reserve-eiwitten in je lichaam opslaan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Dus is het belangrijk dat je dagelijks voldoende eiwitten binnenkrijgt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Eiwitten dienen als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bouwstof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en in noodgevallen als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brandstof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Bescherming: anti-stoffen en stollingsfactoren in het bloed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Spierwerking: actine en myosine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Genezingsproces van wonden!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7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Afbeelding 2" descr=""/>
          <p:cNvPicPr/>
          <p:nvPr/>
        </p:nvPicPr>
        <p:blipFill>
          <a:blip r:embed="rId1"/>
          <a:stretch/>
        </p:blipFill>
        <p:spPr>
          <a:xfrm>
            <a:off x="6248520" y="3733920"/>
            <a:ext cx="2577960" cy="278424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 txBox="1"/>
          <p:nvPr/>
        </p:nvSpPr>
        <p:spPr>
          <a:xfrm>
            <a:off x="5968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700" spc="-1" strike="noStrike">
                <a:solidFill>
                  <a:srgbClr val="000000"/>
                </a:solidFill>
                <a:latin typeface="Lucida Sans Unicode"/>
              </a:rPr>
              <a:t>Eiwitten zijn opgebouwd uit aminozuren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12 aminozuren maakt je lichaam zelf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8 aminozuren via voedsel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Enzymen genaamd </a:t>
            </a:r>
            <a:r>
              <a:rPr b="1" i="1" lang="nl-NL" sz="2700" spc="-1" strike="noStrike">
                <a:solidFill>
                  <a:srgbClr val="000000"/>
                </a:solidFill>
                <a:latin typeface="Lucida Sans Unicode"/>
              </a:rPr>
              <a:t>proteasen breken eiwitten af terug tot aminozuren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Aminozuren kunnen via de darmwand in het bloed worden opgenomen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Titel 1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Blz. 20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Vraag 2 en 3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Losse vrage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Naar welk orgaan gaan de opgenomen voedingstoffen(behalve grote vetzuren)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Waar begint de eiwitvertering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Waar begint de vetvertering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Waarom kan de mens geen cellulose verteren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Titel 3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8083440" cy="220032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Afbeelding 3" descr=""/>
          <p:cNvPicPr/>
          <p:nvPr/>
        </p:nvPicPr>
        <p:blipFill>
          <a:blip r:embed="rId1"/>
          <a:stretch/>
        </p:blipFill>
        <p:spPr>
          <a:xfrm>
            <a:off x="3657600" y="3605040"/>
            <a:ext cx="5513400" cy="325944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Geproduceerd in de maagsapklier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Maagsap bestaat uit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Intrinsieke factor (beschermt vitamine B12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Pepsine (enzym dat eiwitten verteert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Zoutzuur (HCI)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Water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Slijm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6" name="Titel 1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Opnemen vitamine B12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oden micro-organism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Pepsine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zorgt voor vertering van </a:t>
            </a:r>
            <a:r>
              <a:rPr b="1" i="1" lang="nl-NL" sz="2700" spc="-1" strike="noStrike">
                <a:solidFill>
                  <a:srgbClr val="000000"/>
                </a:solidFill>
                <a:latin typeface="Lucida Sans Unicode"/>
              </a:rPr>
              <a:t>eiwitten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Gedeeltelijke vertering van </a:t>
            </a:r>
            <a:r>
              <a:rPr b="1" i="1" lang="nl-NL" sz="2700" spc="-1" strike="noStrike">
                <a:solidFill>
                  <a:srgbClr val="000000"/>
                </a:solidFill>
                <a:latin typeface="Lucida Sans Unicode"/>
              </a:rPr>
              <a:t>koolhydraten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Ontstaan van een dunne voedselbrij: ook wel </a:t>
            </a:r>
            <a:r>
              <a:rPr b="1" i="1" lang="nl-NL" sz="2700" spc="-1" strike="noStrike">
                <a:solidFill>
                  <a:srgbClr val="000000"/>
                </a:solidFill>
                <a:latin typeface="Lucida Sans Unicode"/>
              </a:rPr>
              <a:t>chymus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genoemd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Met de </a:t>
            </a:r>
            <a:r>
              <a:rPr b="1" i="1" lang="nl-NL" sz="2700" spc="-1" strike="noStrike">
                <a:solidFill>
                  <a:srgbClr val="000000"/>
                </a:solidFill>
                <a:latin typeface="Lucida Sans Unicode"/>
              </a:rPr>
              <a:t>vetten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in de voedselbrij gebeurt nog niets in de maa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Titel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1522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Enorme variatie in voedingsmiddelen.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Ze bevatten maar 6 verschillende voedingsstoffen, namelijk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Lucida Sans Unicode"/>
              </a:rPr>
              <a:t>Suikers (koolhydraten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Lucida Sans Unicode"/>
              </a:rPr>
              <a:t>Vetten (lipiden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Lucida Sans Unicode"/>
              </a:rPr>
              <a:t>Eiwitten (proteïnen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Lucida Sans Unicode"/>
              </a:rPr>
              <a:t>Mineralen (zouten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Lucida Sans Unicode"/>
              </a:rPr>
              <a:t>Vitaminen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Lucida Sans Unicode"/>
              </a:rPr>
              <a:t>Water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Het lichaam gebruikt voedingsstoffen als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Lucida Sans Unicode"/>
              </a:rPr>
              <a:t>Brandstof, bouwstof of reservestof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el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1" name="Afbeelding 3" descr=""/>
          <p:cNvPicPr/>
          <p:nvPr/>
        </p:nvPicPr>
        <p:blipFill>
          <a:blip r:embed="rId2"/>
          <a:stretch/>
        </p:blipFill>
        <p:spPr>
          <a:xfrm>
            <a:off x="5638680" y="3359160"/>
            <a:ext cx="35053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Lucida Sans Unicode"/>
              </a:rPr>
              <a:t>Belangrijkste brandstof </a:t>
            </a: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voor het lichaam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Daarnaast ook een </a:t>
            </a:r>
            <a:r>
              <a:rPr b="1" i="1" lang="nl-NL" sz="2400" spc="-1" strike="noStrike">
                <a:solidFill>
                  <a:srgbClr val="000000"/>
                </a:solidFill>
                <a:latin typeface="Lucida Sans Unicode"/>
              </a:rPr>
              <a:t>bouwstof</a:t>
            </a: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 voor de aanmaak van moleculen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3 groepen suikers: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Enkelvoudige suiker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Tweevoudige suiker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Meervoudige suiker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el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53352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Enkelvoudige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suik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Glucose   , fructose    , galactose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Tweevoudige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suik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Saccharose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tafelsuiker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Lactos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Maltose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Meervoudige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suik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Zetmeel, glycoge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Cellulose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86" name="AutoShape 4"/>
          <p:cNvSpPr/>
          <p:nvPr/>
        </p:nvSpPr>
        <p:spPr>
          <a:xfrm>
            <a:off x="2438280" y="1981080"/>
            <a:ext cx="30492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5"/>
          <p:cNvSpPr/>
          <p:nvPr/>
        </p:nvSpPr>
        <p:spPr>
          <a:xfrm>
            <a:off x="3997440" y="1905120"/>
            <a:ext cx="304560" cy="3808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6"/>
          <p:cNvSpPr/>
          <p:nvPr/>
        </p:nvSpPr>
        <p:spPr>
          <a:xfrm>
            <a:off x="3048120" y="2819520"/>
            <a:ext cx="30456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7"/>
          <p:cNvSpPr/>
          <p:nvPr/>
        </p:nvSpPr>
        <p:spPr>
          <a:xfrm>
            <a:off x="3435480" y="2743200"/>
            <a:ext cx="304560" cy="3808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8"/>
          <p:cNvSpPr/>
          <p:nvPr/>
        </p:nvSpPr>
        <p:spPr>
          <a:xfrm>
            <a:off x="5964120" y="1905120"/>
            <a:ext cx="304920" cy="304560"/>
          </a:xfrm>
          <a:prstGeom prst="hexagon">
            <a:avLst>
              <a:gd name="adj" fmla="val 25030"/>
              <a:gd name="vf" fmla="val 11547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9"/>
          <p:cNvSpPr/>
          <p:nvPr/>
        </p:nvSpPr>
        <p:spPr>
          <a:xfrm>
            <a:off x="2514600" y="3124080"/>
            <a:ext cx="30492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10"/>
          <p:cNvSpPr/>
          <p:nvPr/>
        </p:nvSpPr>
        <p:spPr>
          <a:xfrm>
            <a:off x="2895480" y="3086280"/>
            <a:ext cx="304920" cy="304560"/>
          </a:xfrm>
          <a:prstGeom prst="hexagon">
            <a:avLst>
              <a:gd name="adj" fmla="val 25030"/>
              <a:gd name="vf" fmla="val 11547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11"/>
          <p:cNvSpPr/>
          <p:nvPr/>
        </p:nvSpPr>
        <p:spPr>
          <a:xfrm>
            <a:off x="2895480" y="3581280"/>
            <a:ext cx="30492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12"/>
          <p:cNvSpPr/>
          <p:nvPr/>
        </p:nvSpPr>
        <p:spPr>
          <a:xfrm>
            <a:off x="2514600" y="3581280"/>
            <a:ext cx="30492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13"/>
          <p:cNvSpPr/>
          <p:nvPr/>
        </p:nvSpPr>
        <p:spPr>
          <a:xfrm>
            <a:off x="4876920" y="5105520"/>
            <a:ext cx="30456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14"/>
          <p:cNvSpPr/>
          <p:nvPr/>
        </p:nvSpPr>
        <p:spPr>
          <a:xfrm>
            <a:off x="5029200" y="5257800"/>
            <a:ext cx="30492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15"/>
          <p:cNvSpPr/>
          <p:nvPr/>
        </p:nvSpPr>
        <p:spPr>
          <a:xfrm>
            <a:off x="5181480" y="5410080"/>
            <a:ext cx="30492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16"/>
          <p:cNvSpPr/>
          <p:nvPr/>
        </p:nvSpPr>
        <p:spPr>
          <a:xfrm>
            <a:off x="4114800" y="6019920"/>
            <a:ext cx="30492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17"/>
          <p:cNvSpPr/>
          <p:nvPr/>
        </p:nvSpPr>
        <p:spPr>
          <a:xfrm>
            <a:off x="5486400" y="5715000"/>
            <a:ext cx="30492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18"/>
          <p:cNvSpPr/>
          <p:nvPr/>
        </p:nvSpPr>
        <p:spPr>
          <a:xfrm>
            <a:off x="5638680" y="5867280"/>
            <a:ext cx="30492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19"/>
          <p:cNvSpPr/>
          <p:nvPr/>
        </p:nvSpPr>
        <p:spPr>
          <a:xfrm>
            <a:off x="6095880" y="6248520"/>
            <a:ext cx="30492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20"/>
          <p:cNvSpPr/>
          <p:nvPr/>
        </p:nvSpPr>
        <p:spPr>
          <a:xfrm>
            <a:off x="5791320" y="6019920"/>
            <a:ext cx="30456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21"/>
          <p:cNvSpPr/>
          <p:nvPr/>
        </p:nvSpPr>
        <p:spPr>
          <a:xfrm>
            <a:off x="5943600" y="6095880"/>
            <a:ext cx="30492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22"/>
          <p:cNvSpPr/>
          <p:nvPr/>
        </p:nvSpPr>
        <p:spPr>
          <a:xfrm>
            <a:off x="5334120" y="5562720"/>
            <a:ext cx="30456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23"/>
          <p:cNvSpPr/>
          <p:nvPr/>
        </p:nvSpPr>
        <p:spPr>
          <a:xfrm>
            <a:off x="4648320" y="5257800"/>
            <a:ext cx="30456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24"/>
          <p:cNvSpPr/>
          <p:nvPr/>
        </p:nvSpPr>
        <p:spPr>
          <a:xfrm>
            <a:off x="4343400" y="5638680"/>
            <a:ext cx="30492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25"/>
          <p:cNvSpPr/>
          <p:nvPr/>
        </p:nvSpPr>
        <p:spPr>
          <a:xfrm>
            <a:off x="4191120" y="5867280"/>
            <a:ext cx="30456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26"/>
          <p:cNvSpPr/>
          <p:nvPr/>
        </p:nvSpPr>
        <p:spPr>
          <a:xfrm>
            <a:off x="3962520" y="6172200"/>
            <a:ext cx="30456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27"/>
          <p:cNvSpPr/>
          <p:nvPr/>
        </p:nvSpPr>
        <p:spPr>
          <a:xfrm>
            <a:off x="3809880" y="6248520"/>
            <a:ext cx="30492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28"/>
          <p:cNvSpPr/>
          <p:nvPr/>
        </p:nvSpPr>
        <p:spPr>
          <a:xfrm>
            <a:off x="4495680" y="5410080"/>
            <a:ext cx="30492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Alle suikers in het voedsel worden </a:t>
            </a:r>
            <a:r>
              <a:rPr b="1" i="1" lang="nl-NL" sz="2400" spc="-1" strike="noStrike">
                <a:solidFill>
                  <a:srgbClr val="000000"/>
                </a:solidFill>
                <a:latin typeface="Lucida Sans Unicode"/>
              </a:rPr>
              <a:t>afgebroken tot enkelvoudige suikers</a:t>
            </a: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Alleen </a:t>
            </a:r>
            <a:r>
              <a:rPr b="1" i="1" lang="nl-NL" sz="2400" spc="-1" strike="noStrike">
                <a:solidFill>
                  <a:srgbClr val="000000"/>
                </a:solidFill>
                <a:latin typeface="Lucida Sans Unicode"/>
              </a:rPr>
              <a:t>enkelvoudige suikers </a:t>
            </a: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kunnen </a:t>
            </a:r>
            <a:r>
              <a:rPr b="1" i="1" lang="nl-NL" sz="2400" spc="-1" strike="noStrike">
                <a:solidFill>
                  <a:srgbClr val="000000"/>
                </a:solidFill>
                <a:latin typeface="Lucida Sans Unicode"/>
              </a:rPr>
              <a:t>via de darmwand </a:t>
            </a: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naar </a:t>
            </a:r>
            <a:r>
              <a:rPr b="1" i="1" lang="nl-NL" sz="2400" spc="-1" strike="noStrike">
                <a:solidFill>
                  <a:srgbClr val="000000"/>
                </a:solidFill>
                <a:latin typeface="Lucida Sans Unicode"/>
              </a:rPr>
              <a:t>het bloed</a:t>
            </a: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Lucida Sans Unicode"/>
              </a:rPr>
              <a:t>Lichaamscellen gebruiken  </a:t>
            </a:r>
            <a:r>
              <a:rPr b="1" i="1" lang="nl-NL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ALLEEN</a:t>
            </a:r>
            <a:r>
              <a:rPr b="1" i="1" lang="nl-NL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i="1" lang="nl-NL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glucose</a:t>
            </a:r>
            <a:r>
              <a:rPr b="1" i="1" lang="nl-NL" sz="2400" spc="-1" strike="noStrike">
                <a:solidFill>
                  <a:srgbClr val="000000"/>
                </a:solidFill>
                <a:latin typeface="Lucida Sans Unicode"/>
              </a:rPr>
              <a:t> als brandstof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Lever 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 kan de enkelvoudige suikers fructose en galactose </a:t>
            </a:r>
            <a:r>
              <a:rPr b="1" i="1" lang="nl-NL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omzetten 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in </a:t>
            </a:r>
            <a:r>
              <a:rPr b="1" i="1" lang="nl-NL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glucose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Glucose   , fructose    , galactose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Titel 1" descr=""/>
          <p:cNvPicPr/>
          <p:nvPr/>
        </p:nvPicPr>
        <p:blipFill>
          <a:blip r:embed="rId1"/>
          <a:stretch/>
        </p:blipFill>
        <p:spPr>
          <a:xfrm>
            <a:off x="231840" y="274680"/>
            <a:ext cx="8454960" cy="11890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2" descr=""/>
          <p:cNvPicPr/>
          <p:nvPr/>
        </p:nvPicPr>
        <p:blipFill>
          <a:blip r:embed="rId2"/>
          <a:stretch/>
        </p:blipFill>
        <p:spPr>
          <a:xfrm>
            <a:off x="1738440" y="5486400"/>
            <a:ext cx="317520" cy="24444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3" descr=""/>
          <p:cNvPicPr/>
          <p:nvPr/>
        </p:nvPicPr>
        <p:blipFill>
          <a:blip r:embed="rId3"/>
          <a:stretch/>
        </p:blipFill>
        <p:spPr>
          <a:xfrm>
            <a:off x="3510000" y="5413320"/>
            <a:ext cx="317520" cy="39060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4" descr=""/>
          <p:cNvPicPr/>
          <p:nvPr/>
        </p:nvPicPr>
        <p:blipFill>
          <a:blip r:embed="rId4"/>
          <a:stretch/>
        </p:blipFill>
        <p:spPr>
          <a:xfrm>
            <a:off x="5411880" y="5450040"/>
            <a:ext cx="328680" cy="3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Te groot om via de darmwand in het bloed opgenomen te worden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Lucida Sans Unicode"/>
              </a:rPr>
              <a:t>Worden gesplitst tot enkelvoudige suikers. 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Tweevoudige suikers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Saccharose</a:t>
            </a: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tafelsuike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Lactos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Maltose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Titel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2" descr=""/>
          <p:cNvPicPr/>
          <p:nvPr/>
        </p:nvPicPr>
        <p:blipFill>
          <a:blip r:embed="rId2"/>
          <a:stretch/>
        </p:blipFill>
        <p:spPr>
          <a:xfrm>
            <a:off x="2133720" y="3886200"/>
            <a:ext cx="1154160" cy="1219320"/>
          </a:xfrm>
          <a:prstGeom prst="rect">
            <a:avLst/>
          </a:prstGeom>
          <a:ln w="0">
            <a:noFill/>
          </a:ln>
        </p:spPr>
      </p:pic>
      <p:cxnSp>
        <p:nvCxnSpPr>
          <p:cNvPr id="419" name="Rechte verbindingslijn met pijl 4"/>
          <p:cNvCxnSpPr/>
          <p:nvPr/>
        </p:nvCxnSpPr>
        <p:spPr>
          <a:xfrm>
            <a:off x="3638520" y="4114440"/>
            <a:ext cx="419760" cy="1080"/>
          </a:xfrm>
          <a:prstGeom prst="straightConnector1">
            <a:avLst/>
          </a:prstGeom>
          <a:ln w="55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ans,N.H.M.</dc:creator>
  <dc:description/>
  <dc:language>en-US</dc:language>
  <cp:lastModifiedBy>Hans,N.H.M.</cp:lastModifiedBy>
  <dcterms:modified xsi:type="dcterms:W3CDTF">2016-06-06T09:58:38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