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CCF-A037-4BD5-AA40-BFC4FF92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BE2-8DA0-46F4-96BA-09E32AC6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2910-9DF6-4ED6-B8B5-AA6AF46C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6004-D184-450B-A8E9-4481525C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D73D-DF75-453A-A206-EB2FB510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A2D7-2956-438C-B511-5AA14D72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CC49-5348-42A9-A67F-86D1BFC8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A2F3-FBA0-4F3C-905D-70219FA8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C0FD-86BC-479B-8CA5-F324FB11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389D-7B61-4C5C-A798-62713BC4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1031-4242-451E-9DB1-7498D17A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7E3-53BC-4005-A668-2F3A04E7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ACB8-29C5-4C4C-A780-8B94648F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E9ED-3919-44D2-8202-EDE09272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26E2-374F-4C56-84B9-1FAB6108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0D4C-C9D8-4EFC-8E0F-E90A7AE4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78A8-221A-4419-B633-7472F420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799E7-EA04-438E-ABAB-9255C6BF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1911A-3049-4833-9B3B-3192ED80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CD06B-6B0D-4226-BCC0-643D1A83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2F2CE-5CD5-44D6-9CDD-4D05CF80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AC1EB-B6DD-41FD-956A-733494D1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C92-1937-41C1-8459-C57162F6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590C-B867-4C2C-A768-089F4006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B17D3-49D7-400D-8709-1A6AA6CA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A0CC0-95EE-4E99-84DA-BC19D78A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15F4F-EEBF-4C22-BCE8-119D378B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87FD6-A2BC-47BD-9AEC-FF3EB5A4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D0E78-1BB2-42B7-A51F-EF60621A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A6E1B-D821-407B-A480-6357D4DB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67A00-86AA-4661-8160-E2DA114D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AD4CC-427F-4759-998C-4AE49906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3DBA5-AB97-4C2F-87B1-F82BC741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B786-4794-4A3C-88A4-7298EE68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41423-08F3-43DC-B180-31AA50C7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8C0D3-9038-4416-92CD-932D0120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971A0-D10B-40BB-8B69-159E3578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AE33E-BEC7-4355-B119-7FE3E610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31C6E-F40A-44BC-95C4-257D9BBC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40995-68C3-497A-B31F-EDF46A9C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6715A-F63C-41DE-B54F-B6B17C68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F69FD-5B3B-4E37-85F9-59969B69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A8F05-C39F-4055-8079-DDD0E0A0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AEE1A-5B6C-4F73-8F33-18740351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715-AA37-4476-82C6-C3496FB2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4035D-DE39-4CDC-B2AB-C64694F2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F4F93-804E-4543-9494-DC70A561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134FF-1AB9-4E82-B965-7BC861D6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E8C1C-4A0A-48A6-B20C-9A026F6E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D936C-AAFE-4C79-B478-6087E3E7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891F5-96C7-43B6-9D02-FFC68500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D020E-DB4B-4E87-8063-6FE8C1DF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024A0-A173-4846-B09B-BD2FC847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D3465-7B5C-43F8-834E-B442E15A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50CA9-F82A-480B-9B5A-5F03C2DE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D8C-3B66-4518-A2FC-F23CF7C0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53935-BE0D-4669-AD49-D11A03E4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7E18C-F787-4097-B522-DBF46D15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32E8C-6AC1-4580-972C-66042660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7C24A-7115-4A77-A3D5-D8BCD66E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DAB0C-9692-4A90-84C7-A4B72DFF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D93AE-518B-410B-B4A3-B80E28D6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D9EBB-5BBF-4C54-8BB3-07949C5E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ED836-B6FB-4710-8826-D71580EB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4A192-D231-4437-A3B7-EDDEAC81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0E6C0-7AEF-4F2B-A06C-5F44C848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E72-4C41-45FE-A80E-56D351E7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F0528-6B71-4F94-809D-1F9E8964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6AC0F-84A1-47A0-B1F2-154E1247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E6C75-FE31-4791-9E61-445F3AFA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C9924-C3B8-4BF9-845D-D1539B2B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CE4BE-22D4-4D6E-8E69-B85F21AB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0018F-4869-42B4-8257-8DC33D21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FE01A-1189-48CD-8A05-A8E3E130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A012A-2AC1-4DB8-967E-2D786A11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E633A-00D7-4433-AC6B-7B941F44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20558-0078-4118-9168-24B989EF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4BA7-18F9-4692-BCFB-5B9751D5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ED66D-0B9D-4934-BED8-D236B3A0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82168-990D-4908-9937-DC2F9CA3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1DE7B-1F04-4E07-B170-CB06BB6D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11853-7EF8-409F-960E-1050FF95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33D4D-1110-403D-8A49-AD99026E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A3075-002A-4669-9434-9CED3205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68429-3567-4227-808D-6BE14B46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4A2AF-9014-41DD-904B-61632EFC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F1779-E67E-47AD-8EA1-94DF8D59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E14D5-5991-4123-8005-CF744864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35A4-6C4D-49CB-9A65-9A50E8B7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D9F17-7748-4E5C-B375-B273182D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5AD60-F3EE-4E5C-9682-7CBE1D44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0A54A-422C-4253-A3B2-0895D3A7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D5D19-43D0-44EB-92E2-12FCC117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9AD86-C14C-4F0B-A24F-0CB286A4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D816F-CA50-4BB7-895F-51FC1F94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1E0C3-5FCF-4C7E-8F64-720FD2B8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B8FE-70C4-401F-8A05-C88F69BF2751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6528-A743-4141-AC40-F7FBCDFDD130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1B42-CCF6-4FE4-AD42-9E4DED1051B5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C2A1-5CCE-4276-8A61-7A96C60B4CD6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630B-F419-4CC3-9ED7-767533CBCBA5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60A4-9E71-498D-AEF3-967B05D7E951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998B-E2CA-446E-A929-75254EA2D8EC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000F-BE87-44EE-811D-173D4E27FA8E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oem de 5 structuren/ruimten waar de keelholte mee in verbind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Neusholte, mond, luchtpijp, slokdarm, buis van Eustachiu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33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4 De luchtpijp en de neusholte.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6a natriumbicarbonaat maakt de chymus (voedselbrij) enorm veel minder zuu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6b Anders zou je 12-vingerige darm wegbrand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7a koolhydraten(suikers), vetten en eiwitt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7b emulgeren(verspreiden) van ve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237960" y="-109440"/>
            <a:ext cx="8448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0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Bestaan alleen uit glucosemoleculen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Meervoudige suiker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Zetmeel, glycogee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Cellulos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Zetmeel en cellulose zijn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plantaardige suikers 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(rijst, granen en aardappelen)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Glycogeen is een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dierlijk suiker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.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Glycogeen </a:t>
            </a: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glucos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Cellulose kan niet worden afgebroken door het lichaam. 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En heeft een stimulerende functie van de darmbewegingen.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(cellulose vormt de vezels in de voeding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el 1" descr=""/>
          <p:cNvPicPr/>
          <p:nvPr/>
        </p:nvPicPr>
        <p:blipFill>
          <a:blip r:embed="rId1"/>
          <a:stretch/>
        </p:blipFill>
        <p:spPr>
          <a:xfrm>
            <a:off x="201600" y="304920"/>
            <a:ext cx="8485200" cy="1242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"/>
          <p:cNvPicPr/>
          <p:nvPr/>
        </p:nvPicPr>
        <p:blipFill>
          <a:blip r:embed="rId2"/>
          <a:stretch/>
        </p:blipFill>
        <p:spPr>
          <a:xfrm>
            <a:off x="5465880" y="1447920"/>
            <a:ext cx="2603520" cy="1384200"/>
          </a:xfrm>
          <a:prstGeom prst="rect">
            <a:avLst/>
          </a:prstGeom>
          <a:ln w="0">
            <a:noFill/>
          </a:ln>
        </p:spPr>
      </p:pic>
      <p:cxnSp>
        <p:nvCxnSpPr>
          <p:cNvPr id="423" name="Rechte verbindingslijn met pijl 4"/>
          <p:cNvCxnSpPr/>
          <p:nvPr/>
        </p:nvCxnSpPr>
        <p:spPr>
          <a:xfrm>
            <a:off x="2438280" y="3962160"/>
            <a:ext cx="603720" cy="1080"/>
          </a:xfrm>
          <a:prstGeom prst="straightConnector1">
            <a:avLst/>
          </a:prstGeom>
          <a:ln w="550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5192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Triglyceriden (verzadigde/onverzadigde vette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Fosfolipiden (bouwstof voor celmembraa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Steroïden (hormonen bijv. cholestero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Vetten hebben uiteenlopende functies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Lucida Sans Unicode"/>
              </a:rPr>
              <a:t>Bouw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voor alle celle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Belangrijke </a:t>
            </a:r>
            <a:r>
              <a:rPr b="1" i="1" lang="nl-NL" sz="2000" spc="-1" strike="noStrike">
                <a:solidFill>
                  <a:srgbClr val="000000"/>
                </a:solidFill>
                <a:latin typeface="Lucida Sans Unicode"/>
              </a:rPr>
              <a:t>brand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 (energieleveraar, vetverbranding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Overschot wordt opgeslagen (</a:t>
            </a: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reserve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Isolatie (warmt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ervoer van vitamine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 enzym nodig voor afbraak van alle vetten!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Enzym LIPASE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Je kunt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geen reserve-eiwitten in je lichaam opslaa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Dus is het belangrijk dat je dagelijks voldoende eiwitten binnenkrijgt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Eiwitten dienen al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ouwstof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en in noodgevallen als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randstof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escherming: anti-stoffen en stollingsfactoren in het bloed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pierwerking: actine en myosine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Genezingsproces van wonden!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Afbeelding 2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2577960" cy="27842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596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Eiwitten zijn opgebouwd uit aminozu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2 aminozuren maakt je lichaam zelf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8 aminozuren via voedse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nzymen genaamd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proteasen breken eiwitten af terug tot aminozu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minozuren kunnen via de darmwand in het bloed worden opgenom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2 en 3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sse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Naar welk orgaan gaan de opgenomen voedingstoffen(behalve grote vetzuren)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 begint de eiwitvertering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 begint de vetvertering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om kan de mens geen cellulose verter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el 3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Afbeelding 3" descr=""/>
          <p:cNvPicPr/>
          <p:nvPr/>
        </p:nvPicPr>
        <p:blipFill>
          <a:blip r:embed="rId1"/>
          <a:stretch/>
        </p:blipFill>
        <p:spPr>
          <a:xfrm>
            <a:off x="3657600" y="3605040"/>
            <a:ext cx="5513400" cy="32594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produceerd in de maagsapkli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gsap bestaat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trinsieke factor (beschermt vitamine B12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epsine (enzym dat eiwitten verteert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utzuur (HCI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ter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lij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nemen vitamine B1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den micro-organis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Pepsin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orgt voor vertering van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eiwit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deeltelijke vertering van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koolhydra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tstaan van een dunne voedselbrij: ook wel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chymus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noem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t de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vet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n de voedselbrij gebeurt nog niets in de m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522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Enorme variatie in voedingsmiddelen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Ze bevatten maar 6 verschillende voedingsstoffen, namelijk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Suikers (koolhydrat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Vetten (lipid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Eiwitten (proteïn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Mineralen (zout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Vitamin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Het lichaam gebruikt voedingsstoffen al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Brandstof, bouwstof of reservestof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1" name="Afbeelding 3" descr=""/>
          <p:cNvPicPr/>
          <p:nvPr/>
        </p:nvPicPr>
        <p:blipFill>
          <a:blip r:embed="rId2"/>
          <a:stretch/>
        </p:blipFill>
        <p:spPr>
          <a:xfrm>
            <a:off x="5638680" y="335916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Belangrijkste brandstof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voor het lichaa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Daarnaast ook e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bouwstof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voor de aanmaak van moleculen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3 groepen suikers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Enkel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Twee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Meer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5335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kel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lucose   , fructose    , galact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Twee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accharose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tafelsuik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acto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alt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eer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etmeel, glycoge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ellul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4"/>
          <p:cNvSpPr/>
          <p:nvPr/>
        </p:nvSpPr>
        <p:spPr>
          <a:xfrm>
            <a:off x="2438280" y="1981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3997440" y="1905120"/>
            <a:ext cx="304560" cy="3808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3048120" y="28195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3435480" y="2743200"/>
            <a:ext cx="304560" cy="3808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5964120" y="19051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9"/>
          <p:cNvSpPr/>
          <p:nvPr/>
        </p:nvSpPr>
        <p:spPr>
          <a:xfrm>
            <a:off x="2514600" y="3124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0"/>
          <p:cNvSpPr/>
          <p:nvPr/>
        </p:nvSpPr>
        <p:spPr>
          <a:xfrm>
            <a:off x="2895480" y="308628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2895480" y="3581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2514600" y="3581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3"/>
          <p:cNvSpPr/>
          <p:nvPr/>
        </p:nvSpPr>
        <p:spPr>
          <a:xfrm>
            <a:off x="4876920" y="51055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4"/>
          <p:cNvSpPr/>
          <p:nvPr/>
        </p:nvSpPr>
        <p:spPr>
          <a:xfrm>
            <a:off x="5029200" y="525780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5"/>
          <p:cNvSpPr/>
          <p:nvPr/>
        </p:nvSpPr>
        <p:spPr>
          <a:xfrm>
            <a:off x="5181480" y="5410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6"/>
          <p:cNvSpPr/>
          <p:nvPr/>
        </p:nvSpPr>
        <p:spPr>
          <a:xfrm>
            <a:off x="4114800" y="60199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7"/>
          <p:cNvSpPr/>
          <p:nvPr/>
        </p:nvSpPr>
        <p:spPr>
          <a:xfrm>
            <a:off x="5486400" y="571500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8"/>
          <p:cNvSpPr/>
          <p:nvPr/>
        </p:nvSpPr>
        <p:spPr>
          <a:xfrm>
            <a:off x="5638680" y="5867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9"/>
          <p:cNvSpPr/>
          <p:nvPr/>
        </p:nvSpPr>
        <p:spPr>
          <a:xfrm>
            <a:off x="6095880" y="62485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0"/>
          <p:cNvSpPr/>
          <p:nvPr/>
        </p:nvSpPr>
        <p:spPr>
          <a:xfrm>
            <a:off x="5791320" y="60199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1"/>
          <p:cNvSpPr/>
          <p:nvPr/>
        </p:nvSpPr>
        <p:spPr>
          <a:xfrm>
            <a:off x="5943600" y="60958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2"/>
          <p:cNvSpPr/>
          <p:nvPr/>
        </p:nvSpPr>
        <p:spPr>
          <a:xfrm>
            <a:off x="5334120" y="55627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3"/>
          <p:cNvSpPr/>
          <p:nvPr/>
        </p:nvSpPr>
        <p:spPr>
          <a:xfrm>
            <a:off x="4648320" y="525780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24"/>
          <p:cNvSpPr/>
          <p:nvPr/>
        </p:nvSpPr>
        <p:spPr>
          <a:xfrm>
            <a:off x="4343400" y="56386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5"/>
          <p:cNvSpPr/>
          <p:nvPr/>
        </p:nvSpPr>
        <p:spPr>
          <a:xfrm>
            <a:off x="4191120" y="586728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6"/>
          <p:cNvSpPr/>
          <p:nvPr/>
        </p:nvSpPr>
        <p:spPr>
          <a:xfrm>
            <a:off x="3962520" y="617220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7"/>
          <p:cNvSpPr/>
          <p:nvPr/>
        </p:nvSpPr>
        <p:spPr>
          <a:xfrm>
            <a:off x="3809880" y="62485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8"/>
          <p:cNvSpPr/>
          <p:nvPr/>
        </p:nvSpPr>
        <p:spPr>
          <a:xfrm>
            <a:off x="4495680" y="5410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Alle suikers in het voedsel word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afgebroken tot enkelvoudige suikers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Alle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enkelvoudige suikers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kunn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via de darmwand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naar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het bloed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Lichaamscellen gebruiken 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LLEEN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lucose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 als brandstof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Lever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kan de enkelvoudige suikers fructose en galactose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omzetten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n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lucose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Glucose   , fructose    , galactos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el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1738440" y="5486400"/>
            <a:ext cx="317520" cy="244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3"/>
          <a:stretch/>
        </p:blipFill>
        <p:spPr>
          <a:xfrm>
            <a:off x="3510000" y="5413320"/>
            <a:ext cx="317520" cy="3906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4"/>
          <a:stretch/>
        </p:blipFill>
        <p:spPr>
          <a:xfrm>
            <a:off x="5411880" y="5450040"/>
            <a:ext cx="32868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e groot om via de darmwand in het bloed opgenomen te worden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Worden gesplitst tot enkelvoudige suikers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weevoudige suiker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Saccharose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afelsuik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Lacto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Maltos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1154160" cy="1219320"/>
          </a:xfrm>
          <a:prstGeom prst="rect">
            <a:avLst/>
          </a:prstGeom>
          <a:ln w="0">
            <a:noFill/>
          </a:ln>
        </p:spPr>
      </p:pic>
      <p:cxnSp>
        <p:nvCxnSpPr>
          <p:cNvPr id="419" name="Rechte verbindingslijn met pijl 4"/>
          <p:cNvCxnSpPr/>
          <p:nvPr/>
        </p:nvCxnSpPr>
        <p:spPr>
          <a:xfrm>
            <a:off x="3638520" y="4114440"/>
            <a:ext cx="419760" cy="108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s,N.H.M.</dc:creator>
  <dc:description/>
  <dc:language>en-US</dc:language>
  <cp:lastModifiedBy>Hans,N.H.M.</cp:lastModifiedBy>
  <dcterms:modified xsi:type="dcterms:W3CDTF">2016-06-06T09:58:3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