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CF92-D090-4E53-9A24-DAE4F6E3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757-D12D-46CF-8BEE-0325467E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826-E270-47DD-B9AF-248073A9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7C0-620B-4F60-AAC6-AABDCDFD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3C33-33CD-4181-BB29-593E5EEC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8011-522D-446B-8101-7E23AC3A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15F0-56BC-4184-962E-CDE0491C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F9F5-A076-46B4-A832-FDC4804C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C0AE-9F8C-4629-81C0-1A061E20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519B-9244-41D3-913E-0E74FC84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1A01-59BC-4882-A6EE-D7EED354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119A-1284-4586-B8F9-AE25CCAD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0E93-FB78-4F32-ACE0-CBE0D8E1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1DAF-12AB-4509-AA58-5272DB3A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C00B-5BFE-4DB6-83D0-95E8ACD0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5D3F-4750-4CA2-88A8-51789C70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8A58-A529-4C84-9C8A-C3625453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84379-AA1C-45EB-B280-B1513F18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B63C5-4812-498D-BC7C-DD27535D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2502A-BD6E-4137-9728-CFAA613E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A8FAE-EB6B-437D-A1A5-69EDEECB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BECAF-D54F-402E-8478-02E79073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2C4-3EA6-4721-9851-68D4E15E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0E20F-9C79-4E8A-A543-586F4DC2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E4F84-B26A-4D3C-B1D0-32ACB52F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A17AD-2B52-4741-B322-9783F74B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FD77B-DE8B-47F3-9722-EAD8FDA1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B5C89-349D-4432-A25F-1616ABD9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40212-AC52-41D2-8660-2C813B07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70BDD-BE68-404A-87FA-DE4BFFEB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FF967-082B-4E77-A0C6-FAC06A79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601AD-611B-43A1-B6E4-9F59F3B2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5C453-F283-406D-BF91-424B88B2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3684-D876-4824-A4A6-3109DC42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DFA94-7C81-49C1-ACEC-0B1E659B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F923C-6BC8-472C-A155-2DC51332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59B77-8D6B-46EB-A6F7-71E3023C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3AB8F-6301-4227-9B29-498A66C2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65996-DBFF-4B86-82AD-AFECF159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E11C2-84FE-4931-910A-4ABC469E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3158C-1EDF-435B-8F58-E836BC5B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F363C-D16A-4B92-9746-4EF69830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ABFDB-FF62-49C3-A07D-B2CD30F7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6A16D-8255-4656-9CF2-1E5A8F93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FB5-C4D6-43BB-90E4-6D3B2262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4F791-036A-47A6-9319-AEB679F0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E893B-435D-4145-893A-5727E2EF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F372D-9CDB-43A5-AB27-0D29767D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7E62F-80B8-4D7A-A10F-7C9CBF4F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256A5-506E-4A8B-A4B7-B4EB18F3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3A34B-ED1D-4701-A449-8EA8DE73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6B727-72AB-4F52-99FA-0B73489B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210C6-607A-4DBB-8232-AA0E5B70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8ED17-D9DA-4C04-94DD-5C8C9B53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04D04-AA1F-4234-8971-B8F25A90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AAF-24E9-4778-A057-184B94A1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C6B66-7484-4719-A747-C85A806A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BDD87-B0AA-431D-ABBE-A7C3672A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56FE7-41E0-434B-80A0-23761C46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A0668-BAC5-4C36-A474-1B167971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2C93E-B821-4AD5-A483-BC42542B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13F9E-7D78-4579-BAB7-E8C3AA56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51D36-02D4-493F-8C74-8DC72146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7FB95-799C-46A2-9BA5-4F0C697C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AB7CD-D0A5-45FC-873B-95F91D45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55A63-A2B7-49A5-AB38-222EC4F7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C06-AA06-4D83-983E-4DB5B3FC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EB73F-A77E-4614-B8EB-E46289C7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865BF-7526-4E1F-BB6D-650D305E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FC7A0-C602-4E75-8E92-3F3696A0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EAC02-FD6A-494C-AF0D-096E0751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5D21B-2056-4724-8915-9840CC07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336F6-2F34-4109-B2A1-99869B45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E1C3B-194C-4EBC-BF58-7B67F3CF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E9B04-0EB9-4E88-9DDA-D187BBC8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9D612-376F-4928-9811-914A4076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83BFA-A306-4D3A-B189-F2923659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4081-27F2-4936-97CE-40816ACA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06F02-C998-4970-BEFD-BFD1C985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CBD73-FA6D-4663-9DB1-04470F5F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C6872-CF35-4E9D-B31D-6A294F06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A204B-F720-450C-BEB6-74C4FF6B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727DD-342A-450B-9419-44994823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FF5E4-70C7-41E2-AF8B-DA4DE1DF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CAE85-DA7B-46F9-B7A2-B0059C3F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D8056-AD84-42F8-989A-2BD9DF1D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82CA1-ED72-4BEA-BCC2-DEB7B718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7BA20-EB38-40AF-9A77-697EFC60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571-BA47-47C0-A8C2-1B125E87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E9435-B64C-45BC-A7FE-4E50C751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7586D-3C2A-4ECF-BBA0-033BE20F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CB7B7-68D6-4C84-A64C-CB4A4034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5C5E5-CC24-42A3-90A3-32A13334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5C33F-8311-4997-9C14-CE45B602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2EB1D-2002-4303-BDB0-E54D4C9F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9637A-4FB6-4058-B99F-AB165F8E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7604-C171-4226-94DB-CBFC4849568A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79C1-9785-4661-A87B-0BFEA93F5618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8ED9-F0DF-41E1-84B4-F9C4F549AECD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399D-B8B4-4731-A3AC-73E3655972FC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64B0-D935-408A-AAC7-E975711C469D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66AB-C3ED-4B82-B32B-7CABA5133D94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0AAA-93F0-40B0-A865-0B3CC304BF43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0986-72A1-4D63-A18B-687CEC9B23BD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oem de 5 structuren/ruimten waar de keelholte mee in verbind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Neusholte, mond, luchtpijp, slokdarm, buis van Eustachiu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33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4 De luchtpijp en de neusholte.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6a natriumbicarbonaat maakt de chymus (voedselbrij) enorm veel minder zuu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6b Anders zou je 12-vingerige darm wegbrand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7a koolhydraten(suikers), vetten en eiwitt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7b emulgeren(verspreiden) van ve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237960" y="-109440"/>
            <a:ext cx="8448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0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Bestaan alleen uit glucosemoleculen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Meervoudige suiker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Zetmeel, glycogee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Cellulos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Zetmeel en cellulose zijn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plantaardige suikers 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(rijst, granen en aardappelen)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Glycogeen is een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dierlijk suiker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.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Glycogeen </a:t>
            </a: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glucos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Cellulose kan niet worden afgebroken door het lichaam. 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En heeft een stimulerende functie van de darmbewegingen.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(cellulose vormt de vezels in de voeding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el 1" descr=""/>
          <p:cNvPicPr/>
          <p:nvPr/>
        </p:nvPicPr>
        <p:blipFill>
          <a:blip r:embed="rId1"/>
          <a:stretch/>
        </p:blipFill>
        <p:spPr>
          <a:xfrm>
            <a:off x="201600" y="304920"/>
            <a:ext cx="8485200" cy="1242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"/>
          <p:cNvPicPr/>
          <p:nvPr/>
        </p:nvPicPr>
        <p:blipFill>
          <a:blip r:embed="rId2"/>
          <a:stretch/>
        </p:blipFill>
        <p:spPr>
          <a:xfrm>
            <a:off x="5465880" y="1447920"/>
            <a:ext cx="2603520" cy="1384200"/>
          </a:xfrm>
          <a:prstGeom prst="rect">
            <a:avLst/>
          </a:prstGeom>
          <a:ln w="0">
            <a:noFill/>
          </a:ln>
        </p:spPr>
      </p:pic>
      <p:cxnSp>
        <p:nvCxnSpPr>
          <p:cNvPr id="423" name="Rechte verbindingslijn met pijl 4"/>
          <p:cNvCxnSpPr/>
          <p:nvPr/>
        </p:nvCxnSpPr>
        <p:spPr>
          <a:xfrm>
            <a:off x="2438280" y="3962160"/>
            <a:ext cx="603720" cy="1080"/>
          </a:xfrm>
          <a:prstGeom prst="straightConnector1">
            <a:avLst/>
          </a:prstGeom>
          <a:ln w="550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5192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Triglyceriden (verzadigde/onverzadigde vette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Fosfolipiden (bouwstof voor celmembraa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Steroïden (hormonen bijv. cholestero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Vetten hebben uiteenlopende functies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Lucida Sans Unicode"/>
              </a:rPr>
              <a:t>Bouw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voor alle celle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Belangrijke </a:t>
            </a:r>
            <a:r>
              <a:rPr b="1" i="1" lang="nl-NL" sz="2000" spc="-1" strike="noStrike">
                <a:solidFill>
                  <a:srgbClr val="000000"/>
                </a:solidFill>
                <a:latin typeface="Lucida Sans Unicode"/>
              </a:rPr>
              <a:t>brand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 (energieleveraar, vetverbranding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Overschot wordt opgeslagen (</a:t>
            </a: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reserve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Isolatie (warmt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ervoer van vitamine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 enzym nodig voor afbraak van alle vetten!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Enzym LIPASE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Je kunt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geen reserve-eiwitten in je lichaam opslaa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Dus is het belangrijk dat je dagelijks voldoende eiwitten binnenkrijgt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Eiwitten dienen al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ouwstof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en in noodgevallen als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randstof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escherming: anti-stoffen en stollingsfactoren in het bloed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pierwerking: actine en myosine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Genezingsproces van wonden!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Afbeelding 2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2577960" cy="27842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596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Eiwitten zijn opgebouwd uit aminozu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2 aminozuren maakt je lichaam zelf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8 aminozuren via voedse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nzymen genaamd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proteasen breken eiwitten af terug tot aminozu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minozuren kunnen via de darmwand in het bloed worden opgenom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2 en 3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sse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Naar welk orgaan gaan de opgenomen voedingstoffen(behalve grote vetzuren)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 begint de eiwitvertering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 begint de vetvertering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om kan de mens geen cellulose verter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el 3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Afbeelding 3" descr=""/>
          <p:cNvPicPr/>
          <p:nvPr/>
        </p:nvPicPr>
        <p:blipFill>
          <a:blip r:embed="rId1"/>
          <a:stretch/>
        </p:blipFill>
        <p:spPr>
          <a:xfrm>
            <a:off x="3657600" y="3605040"/>
            <a:ext cx="5513400" cy="32594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produceerd in de maagsapkli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gsap bestaat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trinsieke factor (beschermt vitamine B12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epsine (enzym dat eiwitten verteert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utzuur (HCI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ter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lij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nemen vitamine B1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den micro-organis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Pepsin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orgt voor vertering van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eiwit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deeltelijke vertering van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koolhydra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tstaan van een dunne voedselbrij: ook wel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chymus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noem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t de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vet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n de voedselbrij gebeurt nog niets in de m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522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Enorme variatie in voedingsmiddelen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Ze bevatten maar 6 verschillende voedingsstoffen, namelijk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Suikers (koolhydrat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Vetten (lipid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Eiwitten (proteïn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Mineralen (zout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Vitamin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Het lichaam gebruikt voedingsstoffen al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Brandstof, bouwstof of reservestof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1" name="Afbeelding 3" descr=""/>
          <p:cNvPicPr/>
          <p:nvPr/>
        </p:nvPicPr>
        <p:blipFill>
          <a:blip r:embed="rId2"/>
          <a:stretch/>
        </p:blipFill>
        <p:spPr>
          <a:xfrm>
            <a:off x="5638680" y="335916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Belangrijkste brandstof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voor het lichaa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Daarnaast ook e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bouwstof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voor de aanmaak van moleculen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3 groepen suikers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Enkel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Twee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Meer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5335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kel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lucose   , fructose    , galact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Twee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accharose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tafelsuik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acto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alt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eer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etmeel, glycoge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ellul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4"/>
          <p:cNvSpPr/>
          <p:nvPr/>
        </p:nvSpPr>
        <p:spPr>
          <a:xfrm>
            <a:off x="2438280" y="1981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3997440" y="1905120"/>
            <a:ext cx="304560" cy="3808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3048120" y="28195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3435480" y="2743200"/>
            <a:ext cx="304560" cy="3808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5964120" y="19051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9"/>
          <p:cNvSpPr/>
          <p:nvPr/>
        </p:nvSpPr>
        <p:spPr>
          <a:xfrm>
            <a:off x="2514600" y="3124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0"/>
          <p:cNvSpPr/>
          <p:nvPr/>
        </p:nvSpPr>
        <p:spPr>
          <a:xfrm>
            <a:off x="2895480" y="308628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2895480" y="3581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2514600" y="3581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3"/>
          <p:cNvSpPr/>
          <p:nvPr/>
        </p:nvSpPr>
        <p:spPr>
          <a:xfrm>
            <a:off x="4876920" y="51055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4"/>
          <p:cNvSpPr/>
          <p:nvPr/>
        </p:nvSpPr>
        <p:spPr>
          <a:xfrm>
            <a:off x="5029200" y="525780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5"/>
          <p:cNvSpPr/>
          <p:nvPr/>
        </p:nvSpPr>
        <p:spPr>
          <a:xfrm>
            <a:off x="5181480" y="5410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6"/>
          <p:cNvSpPr/>
          <p:nvPr/>
        </p:nvSpPr>
        <p:spPr>
          <a:xfrm>
            <a:off x="4114800" y="60199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7"/>
          <p:cNvSpPr/>
          <p:nvPr/>
        </p:nvSpPr>
        <p:spPr>
          <a:xfrm>
            <a:off x="5486400" y="571500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8"/>
          <p:cNvSpPr/>
          <p:nvPr/>
        </p:nvSpPr>
        <p:spPr>
          <a:xfrm>
            <a:off x="5638680" y="5867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9"/>
          <p:cNvSpPr/>
          <p:nvPr/>
        </p:nvSpPr>
        <p:spPr>
          <a:xfrm>
            <a:off x="6095880" y="62485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0"/>
          <p:cNvSpPr/>
          <p:nvPr/>
        </p:nvSpPr>
        <p:spPr>
          <a:xfrm>
            <a:off x="5791320" y="60199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1"/>
          <p:cNvSpPr/>
          <p:nvPr/>
        </p:nvSpPr>
        <p:spPr>
          <a:xfrm>
            <a:off x="5943600" y="60958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2"/>
          <p:cNvSpPr/>
          <p:nvPr/>
        </p:nvSpPr>
        <p:spPr>
          <a:xfrm>
            <a:off x="5334120" y="55627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3"/>
          <p:cNvSpPr/>
          <p:nvPr/>
        </p:nvSpPr>
        <p:spPr>
          <a:xfrm>
            <a:off x="4648320" y="525780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24"/>
          <p:cNvSpPr/>
          <p:nvPr/>
        </p:nvSpPr>
        <p:spPr>
          <a:xfrm>
            <a:off x="4343400" y="56386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5"/>
          <p:cNvSpPr/>
          <p:nvPr/>
        </p:nvSpPr>
        <p:spPr>
          <a:xfrm>
            <a:off x="4191120" y="586728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6"/>
          <p:cNvSpPr/>
          <p:nvPr/>
        </p:nvSpPr>
        <p:spPr>
          <a:xfrm>
            <a:off x="3962520" y="617220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7"/>
          <p:cNvSpPr/>
          <p:nvPr/>
        </p:nvSpPr>
        <p:spPr>
          <a:xfrm>
            <a:off x="3809880" y="62485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8"/>
          <p:cNvSpPr/>
          <p:nvPr/>
        </p:nvSpPr>
        <p:spPr>
          <a:xfrm>
            <a:off x="4495680" y="5410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Alle suikers in het voedsel word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afgebroken tot enkelvoudige suikers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Alle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enkelvoudige suikers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kunn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via de darmwand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naar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het bloed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Lichaamscellen gebruiken 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LLEEN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lucose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 als brandstof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Lever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kan de enkelvoudige suikers fructose en galactose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omzetten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n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lucose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Glucose   , fructose    , galactos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el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1738440" y="5486400"/>
            <a:ext cx="317520" cy="244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3"/>
          <a:stretch/>
        </p:blipFill>
        <p:spPr>
          <a:xfrm>
            <a:off x="3510000" y="5413320"/>
            <a:ext cx="317520" cy="3906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4"/>
          <a:stretch/>
        </p:blipFill>
        <p:spPr>
          <a:xfrm>
            <a:off x="5411880" y="5450040"/>
            <a:ext cx="32868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e groot om via de darmwand in het bloed opgenomen te worden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Worden gesplitst tot enkelvoudige suikers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weevoudige suiker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Saccharose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afelsuik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Lacto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Maltos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1154160" cy="1219320"/>
          </a:xfrm>
          <a:prstGeom prst="rect">
            <a:avLst/>
          </a:prstGeom>
          <a:ln w="0">
            <a:noFill/>
          </a:ln>
        </p:spPr>
      </p:pic>
      <p:cxnSp>
        <p:nvCxnSpPr>
          <p:cNvPr id="419" name="Rechte verbindingslijn met pijl 4"/>
          <p:cNvCxnSpPr/>
          <p:nvPr/>
        </p:nvCxnSpPr>
        <p:spPr>
          <a:xfrm>
            <a:off x="3638520" y="4114440"/>
            <a:ext cx="419760" cy="108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s,N.H.M.</dc:creator>
  <dc:description/>
  <dc:language>en-US</dc:language>
  <cp:lastModifiedBy>Hans,N.H.M.</cp:lastModifiedBy>
  <dcterms:modified xsi:type="dcterms:W3CDTF">2016-06-06T09:58:3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