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3B73-49FB-4765-8BA8-D732CC8F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F25-B2C2-4F9D-B0AE-49006C25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DF7-242A-4F48-83AC-99FB216D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523-B66E-4A94-ADAE-33822E9C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A7E3-42EF-404A-A5FC-A57902F8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5D77-6BBC-4CD0-8595-AE0DA038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5E0F-1E4B-4A82-9B12-C27C10E9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CCEF-336E-4148-A8BD-05171A29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C5A8-9E4A-43AA-9488-CA89DAD7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168-CB72-41D1-8477-0CFE1A9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581D-62DA-4C3C-80D7-9EE1EA94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1FF9-FDFD-4FB6-89C3-0B9A3DA7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A0C4-5C1B-4A21-A70F-281744C0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389A-5A1A-4682-9941-0F1DBE18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05F2-7BCE-4264-A3E2-0E752D46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02C-2908-48CE-BD14-1C498D22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69E7-1321-49B1-84BA-5B551122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21237-B043-4F80-997A-808727C1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41A4-9505-4076-B0EB-4BFAA714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C713-27B0-4FE2-8E39-95EA787C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70F1-C487-4EFD-8ED9-01A6111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3846-2F1E-4FBC-9F7E-EB2F10F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2C9-8455-40CB-AE97-FE9D0269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F94F-1261-4BAE-A8D7-28DF0475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464F2-8C37-4301-B596-A78D4A77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2A7F-7915-4851-85CE-5699CB84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A0BE-75A6-42E3-AB46-463A6B9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C9D4-95CD-4BFC-B831-3E67829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13B9D-E253-482D-AA91-19F631C6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95D5-80E2-4BA2-975B-190D56AC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3B76B-A224-466F-B729-93A6472D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474F-DE37-43BF-A466-40DE116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A265-68F3-44F7-A3BE-8B4B5AB2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6D29-993E-4564-BF66-72BF6BE30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A857A-21ED-4143-A4D2-B0293BD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73AD-0F63-4C3B-85F7-1AB3807A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FB84E-91FD-4F2F-8E41-2A32448C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8637-1D6A-46D9-93F1-CCD9DFD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2016-EE74-4FAD-A51D-A8CEC8C6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5518-7889-459F-9115-633C8B0F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1D23-544B-4851-AC64-FD72EDA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578A-A942-4A7C-8C67-D98FEADA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63CF9-0A2C-4FE7-BE7C-59E03825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CA5BE-F7FA-4043-8471-9A57F61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32D-B5C4-41B6-97BA-97587E97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875C-828E-4623-96F2-6105E5EB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A42C1-4082-4A59-BDEA-2DAAA409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4996-24F7-4710-A484-EB6B90EB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E5047-EF5E-4D25-88EC-A6C5541E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BDD3-4E0E-458F-AD01-5FA2AE3E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FCC5-1BD1-42E9-AE76-448AD6F6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2CFA-953A-4B6A-B9D5-30AC282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8552-A096-4BE7-BA53-A8B1BA6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6DD5C-674B-4F6D-9458-C72E0337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5A31-F62A-4AF4-BDEA-821AE42F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1D4-C883-4C20-9806-8EF522B5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FAD3-A101-4B43-8D9D-4EA52451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FAC2-0CD7-4C98-94BD-6CCE917C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7CF60-1642-4931-9DE7-03C54123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8DF04-6F80-4A9D-A872-7FC38C9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33A2-D5CC-4412-BC5A-43F7683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2D25-53EB-4ACA-A429-802F754C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9951B-3368-4B34-B725-D447D147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D971-9041-4159-890A-59DD3204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1E03-46EF-42EC-85E9-14BF29E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79A7-A84D-44E6-AF9D-7B7A93D4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41C-4C88-4887-A753-CC2CDC1B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39CD-AB78-45FE-A64D-D3DB3361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DB36-AC69-4615-9BDD-686095BC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BE53-8361-404C-BA36-CD55F95B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7B0C5-F624-47B2-9463-98A64EE9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B4816-3597-4E58-A3F2-358DE23D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265A-A2FC-4B6D-A92A-6BD48FB7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D7668-A9EF-491B-BF60-08AA8744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743B1-0880-456A-BF0A-80F7137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CED2B-7938-4DAA-9B52-48960D9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E2C74-2A99-4109-B19D-9515111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156-F375-4066-A3F7-445C7B5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89138-5FF2-44D1-9DDD-DB26B17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26C8C-F8FF-427A-943C-5D427C90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504A4-D8DD-4627-9027-7AEBEB1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A995-A348-42FC-9925-A910C32D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C5636-DD5C-4B9C-B95A-C1EFEBB8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1C2E3-ACA5-491F-A1B7-7361ADDC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0976F-2D8E-4D10-A51F-7936E5CC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BFA4-A5DB-4647-BC45-1FE6A151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D469F-44F0-4E4C-9B58-77A525C5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2B9F-1134-4DFE-ABBB-446AB6FE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ACB6-0B2E-4061-8E56-02AADAF2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35A1D-D19E-4BF5-ABF1-63EFC931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1AAFC-F609-4183-ABF6-1419109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0E630-F6FE-4127-B64D-084370C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D5B5-358B-4FE7-8866-03503D3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2DBB-3DBF-4B71-9B51-E1338D52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143CE-FA69-4F55-9B1B-A4E07358A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AFF4B-4934-493B-A916-1CE3F144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645-409B-4E97-B2F9-902DFCED019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130-A017-4394-8A9E-2BE0A85F4358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7F67-459F-45E4-A6AB-E342DFBF5BC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3288-F9D2-4459-9669-7C797A77ED0C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042C-3CF0-4CB6-827D-B9EC0D9C3D8A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68D4-4A10-40C8-ACB8-5B0EE6E68828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2F60-A466-4C51-AD1B-33978C61A33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3F86-B5CF-41BF-AFB5-5D75669C9361}" type="slidenum">
              <a:rPr b="0" lang="nl-NL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-219240" y="-109440"/>
            <a:ext cx="8448840" cy="10303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suline en glucagon hebben een antagonistische werking. Wat wil dat zeggen?</a:t>
            </a:r>
            <a:br>
              <a:rPr sz="2700"/>
            </a:b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Tegengestelde werking op bloedsuikerspie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hormoon wordt afgegeven enige tijd na een maaltijd? Waarom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Insuline, om te voorkomen dat er teveel glucose in bloed kom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lk effect heeft het hormoon uit vraag 2 op de bloedsuikerspiegel? </a:t>
            </a:r>
            <a:r>
              <a:rPr b="0" lang="nl-NL" sz="2700" spc="-1" strike="noStrike">
                <a:solidFill>
                  <a:srgbClr val="0000ff"/>
                </a:solidFill>
                <a:latin typeface="Lucida Sans Unicode"/>
              </a:rPr>
              <a:t>Verlagend eff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el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Een lege maag heeft enorm veel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plooien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Plooien zorgen ervoor dat de maag heel ver kan uitrekk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Gemiddeld is de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maximale maagvolume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zo’n </a:t>
            </a: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3 liter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In lege toestand is het maagvolume zo’n 1 liter maagsap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500" spc="-1" strike="noStrike">
                <a:solidFill>
                  <a:srgbClr val="000000"/>
                </a:solidFill>
                <a:latin typeface="Lucida Sans Unicode"/>
              </a:rPr>
              <a:t>Rondom de maag liggen spieren 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die de maaginhoud kunnen ‘mixen’ en voedselbrokken veranderen daardoor in een dunne voedselbrij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Noem de 5 structuren/ruimten waar de keelholte mee in verbind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lz. 233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Vraag 4, 6, en 7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225360" y="304920"/>
            <a:ext cx="8845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257800" cy="58262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el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Afbeelding 1" descr=""/>
          <p:cNvPicPr/>
          <p:nvPr/>
        </p:nvPicPr>
        <p:blipFill>
          <a:blip r:embed="rId1"/>
          <a:stretch/>
        </p:blipFill>
        <p:spPr>
          <a:xfrm>
            <a:off x="5562720" y="-20520"/>
            <a:ext cx="5324400" cy="41716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0" y="990720"/>
            <a:ext cx="8229600" cy="56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nctie: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doorgang vo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voedsel naar slokdarm 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in- en uitademing van lucht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eelholte staat in verbinding m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Neus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Mond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trottenhoo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Slokda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Buis van Eustachius </a:t>
            </a:r>
            <a:r>
              <a:rPr b="0" lang="nl-NL" sz="20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(verbinding met middenoor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2"/>
          <a:stretch/>
        </p:blipFill>
        <p:spPr>
          <a:xfrm>
            <a:off x="-255600" y="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1766880" y="36360"/>
            <a:ext cx="560880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binding van keelholte naar de ma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unctie: transport van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3 vernauwingen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chter het strottenhoof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Splitsing luchtpij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oorgang diafragm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port via peristaltische bewegin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533520">
              <a:spcBef>
                <a:spcPts val="326"/>
              </a:spcBef>
              <a:buClr>
                <a:srgbClr val="2da2bf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estaat uit meerdere lagen speciaal slijmv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oduceert slijm dat beschermt tegen scherp of zuur voed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rder bestaat de wand uit spierweefse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Afbeelding 5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24852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maag onderdelen"/>
          <p:cNvPicPr/>
          <p:nvPr/>
        </p:nvPicPr>
        <p:blipFill>
          <a:blip r:embed="rId1"/>
          <a:stretch/>
        </p:blipFill>
        <p:spPr>
          <a:xfrm>
            <a:off x="4952880" y="1523880"/>
            <a:ext cx="3962520" cy="39290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06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5 onderdel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ardi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Fund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Corpu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Lucida Sans Unico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Antru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1. Pylorus = maagporti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700" spc="-1" strike="noStrike">
                <a:solidFill>
                  <a:srgbClr val="000000"/>
                </a:solidFill>
                <a:latin typeface="Lucida Sans Unicode"/>
              </a:rPr>
              <a:t>Maagstraat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= kle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urvatuu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gging </a:t>
            </a: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Links boven in buikhol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maag wand"/>
          <p:cNvPicPr/>
          <p:nvPr/>
        </p:nvPicPr>
        <p:blipFill>
          <a:blip r:embed="rId1"/>
          <a:stretch/>
        </p:blipFill>
        <p:spPr>
          <a:xfrm>
            <a:off x="380880" y="212760"/>
            <a:ext cx="8305920" cy="66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ns,N.H.M.</dc:creator>
  <dc:description/>
  <dc:language>en-US</dc:language>
  <cp:lastModifiedBy>Hans,N.H.M.</cp:lastModifiedBy>
  <dcterms:modified xsi:type="dcterms:W3CDTF">2016-05-23T09:53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