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BD0-324F-425B-A55F-DB1C270C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340-F06F-407C-AAC3-84F3F83B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8E7-D9B3-46C3-9EF7-566D73C9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0A2-43B5-4F43-AADC-3B87631B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6869-9A6A-461D-AA76-A4B73D90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3B5C-9E7E-497D-99E9-1C03B282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3D4-5C8E-4245-B2D7-979D9A5C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FCA-23C2-48C8-9EC3-55B7D86A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E9AE-114E-4CE7-A1A9-B1536EBB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ED1C-BEF4-4541-8263-1F3A6C76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C1E8-5295-43AC-A617-D448EB27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DEB-1BD2-4354-8CE4-4235877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C86E-DC29-44D5-85DC-0CFE354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2BD1-96DF-41F9-B8BA-4728612D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905A-777C-49F9-909E-E6B2F402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446E-53DE-4C00-B0BD-3536FAF3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9B17-7835-41E7-A954-84E8EEB0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D513-BE32-46F5-BE6B-079DDFCE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03BD6-A9D9-4216-94A8-DCFF27C9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AEBE4-5328-4333-A724-C60B67F7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29BD-F7C2-4DCC-8603-7D788421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41CB-2778-4C2C-ADA3-402ADB1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DCA1-A34D-46DD-9177-79BA66BE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15C0-41B7-4153-9E57-7430972F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21D7-8282-4DFC-9895-88BBF1E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EE70-5B37-457D-94BB-6DFFCB3F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AF60-DC92-4DD6-B82F-BD9B5E41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8648B-FF91-4200-B483-85B1B676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8A77-2650-45F2-99C0-D1CA1D12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7A76-96EA-41CF-BE18-ADFAD42F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93C1-D89A-4B22-BF7E-F8B3BC60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F70C-BFA7-4EB6-9782-768B5CBF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546F-0425-446F-8FA4-76AF9F6F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13D-CF7A-4E77-8907-FE4D4B01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F0056-0573-4253-B4B6-C3F0F9EB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CC3A8-B115-4ED7-8B83-F65E3C0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CA2D-6655-4231-BB2F-398B85E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05A65-DFE4-4578-A422-A0555088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6D51-C820-468F-A854-A271830A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C15F-CD20-4959-AF1B-50FCCAFD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A655-EC17-4D34-BE82-157E106C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6A08-4ABC-4ED4-8FF2-BC85FC15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EB635-56D3-42B6-B16C-184C0242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748DA-010C-4BB7-8F6F-9BE954A6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8FE9-BE84-4B24-9130-D10EA44B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4F86-2AC6-4EB3-BEE5-E0212345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67B7-E77E-489E-9203-A112F1F3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4FA6C-797D-481E-8291-35659CF4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FB8D6-E44F-447D-8452-94E3E976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F2B35-0E4F-49B0-A5F3-3C8551A3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F345-7875-4B67-B3F7-A943A77D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83BC9-6C14-4EB0-B172-1F31DC0B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80E99-C375-4774-BDD6-91E2D647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27CE1-2EC6-431C-98A1-B471874D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9C46E-A693-4697-AB77-948B59BD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887-AAF0-4B32-B8CA-CA723CB3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9D7D4-2A5A-4868-B216-2CB18C2E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6332-EAF2-48E7-93FF-D2BAFF29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BC221-864C-4213-8D11-8E512902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1CF68-188F-412C-9219-1034E5F1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17414-0045-4466-B056-340A12AE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BA5C-827E-4F95-B82F-7381259A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1583E-074E-4EFE-A498-8496BE93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AF5A3-1DD4-4D85-9777-D00368FB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FB7A1-CF8B-48F1-B826-AA45AA4D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4EFEB-7F1C-4B39-8BB3-970F28A0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3A1-C1CC-4FFE-8BBA-77C5843F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3EA15-6913-41DE-864B-4EE7177E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9FDF7-8100-4F05-898F-F255101A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90A65-8ABF-4A84-B955-AC651935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5F2D-360D-4A8E-97B0-88CB494F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346DF-1D73-443F-8865-DBE83363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7426F-AB31-49EB-89B1-C610F6BC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0DC87-F967-40FE-B281-CF696F3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F181F-43A8-4421-8164-B629C15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60880-91EE-439E-A003-498F1EEF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ADA6-4927-4FF6-9F41-E344852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77E-82A8-45EB-A42D-6FAA0EBA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6724A-5093-4D7E-8DBA-48CB6476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8D791-DCFA-471F-9913-DABFDD58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FA6D-1B8B-4E85-8C98-2F28FBC0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066AA-8BB2-4372-B73B-99461426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58CE5-30B5-4E56-A44E-40DBABBA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A8334-16FB-4A65-B036-2F745C57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4A83D-10DC-4CAB-A512-CF2A6386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0FC09-8C78-4C13-9F06-48A6189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710E6-9342-43A3-9928-928717CE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6B5E4-D17A-4192-A5D6-E539BBFB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0B0-59ED-423F-9032-2858CF13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30D83-6A12-4142-B432-2338A54C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D99F7-8121-4558-97FD-40092560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7750A-73B3-42E0-BB41-ED52DEAF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28DCE-E9F6-4E56-8531-0440C05C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B8360-69FE-42C1-A590-66C5AB5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1BC3B-DF0E-4353-8A1D-978D4BB7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E38FB-959E-4C46-B0B6-4B1146C0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2F04-E568-4539-91BB-4AA234D0D3DE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9D7-DBA3-4177-9E4F-BDADB1BD829A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7777-B63D-44A8-85FE-7DA9E8FA380F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F7A-65D8-41E4-B8E1-6E002F964BA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DF84-DEDC-4D32-A531-BA31279C8BE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5C9F-2F6D-4289-893B-C408B5BDE2E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ECCE-18EB-4B4E-A2C7-299A478284A9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FCE9-CF48-40B1-BE62-83322DF8BAD0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eusholte, mond, luchtpijp, slokdarm, buis van Eustachiu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 De luchtpijp en de neusholte.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a natriumbicarbonaat maakt de chymus (voedselbrij) enorm veel minder zuu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6b Anders zou je 12-vingerige darm wegbrand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a koolhydraten(suikers), vetten en eiwitt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7b emulgeren(verspreiden) van ve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37960" y="-10944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8088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Bestaan alleen uit glucosemoleculen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Meervoudige suiker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Zetmeel en cellulose zij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plantaardige suikers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(rijst, granen en aardappelen)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Glycogeen is een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dierlijk suiker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.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ycogeen 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1900" spc="-1" strike="noStrike">
                <a:solidFill>
                  <a:srgbClr val="000000"/>
                </a:solidFill>
                <a:latin typeface="Lucida Sans Unicode"/>
              </a:rPr>
              <a:t>glucos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Cellulose kan niet worden afgebroken door het lichaam. </a:t>
            </a:r>
            <a:r>
              <a:rPr b="0" lang="nl-NL" sz="2200" spc="-1" strike="noStrike">
                <a:solidFill>
                  <a:srgbClr val="000000"/>
                </a:solidFill>
                <a:latin typeface="Lucida Sans Unicode"/>
              </a:rPr>
              <a:t>En heeft een stimulerende functie van de darmbewegingen. </a:t>
            </a:r>
            <a:r>
              <a:rPr b="1" i="1" lang="nl-NL" sz="2200" spc="-1" strike="noStrike">
                <a:solidFill>
                  <a:srgbClr val="000000"/>
                </a:solidFill>
                <a:latin typeface="Lucida Sans Unicode"/>
              </a:rPr>
              <a:t>(cellulose vormt de vezels in de voeding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201600" y="304920"/>
            <a:ext cx="8485200" cy="1242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5465880" y="1447920"/>
            <a:ext cx="2603520" cy="1384200"/>
          </a:xfrm>
          <a:prstGeom prst="rect">
            <a:avLst/>
          </a:prstGeom>
          <a:ln w="0">
            <a:noFill/>
          </a:ln>
        </p:spPr>
      </p:pic>
      <p:cxnSp>
        <p:nvCxnSpPr>
          <p:cNvPr id="423" name="Rechte verbindingslijn met pijl 4"/>
          <p:cNvCxnSpPr/>
          <p:nvPr/>
        </p:nvCxnSpPr>
        <p:spPr>
          <a:xfrm>
            <a:off x="2438280" y="3962160"/>
            <a:ext cx="60372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riglyceriden (verzadigde/onverzadigde vette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osfolipiden (bouwstof voor celmembraan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Steroïden (hormonen bijv. cholesterol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Vetten hebben uiteenlopende functie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voor alle cell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Belangrijke </a:t>
            </a:r>
            <a:r>
              <a:rPr b="1" i="1" lang="nl-NL" sz="2000" spc="-1" strike="noStrike">
                <a:solidFill>
                  <a:srgbClr val="000000"/>
                </a:solidFill>
                <a:latin typeface="Lucida Sans Unicode"/>
              </a:rPr>
              <a:t>brand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  (energieleveraar, vetverbranding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Overschot wordt opgeslagen (</a:t>
            </a:r>
            <a:r>
              <a:rPr b="1" lang="nl-NL" sz="2000" spc="-1" strike="noStrike">
                <a:solidFill>
                  <a:srgbClr val="000000"/>
                </a:solidFill>
                <a:latin typeface="Lucida Sans Unicode"/>
              </a:rPr>
              <a:t>reservestof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Isolatie (warmt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Vervoer van vitaminen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 enzym nodig voor afbraak van alle vetten!!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Enzym LIPASE</a:t>
            </a:r>
            <a:r>
              <a:rPr b="0" lang="nl-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Je kunt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en reserve-eiwitten in je lichaam opslaa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us is het belangrijk dat je dagelijks voldoende eiwitten binnenkrijg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iwitten dienen als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ouwstof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n in noodgevallen als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randstof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escherming: anti-stoffen en stollingsfactoren in het bloed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pierwerking: actine en myosine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Genezingsproces van wonden!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Afbeelding 2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2577960" cy="27842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96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 zijn opgebouwd ui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12 aminozuren maakt je lichaam zelf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8 aminozuren via voeds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nzymen genaamd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proteasen breken eiwitten af terug tot aminozur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minozuren kunnen via de darmwand in het bloed worden opgenom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2 en 3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osse vrag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Naar welk orgaan gaan de opgenomen voedingstoffen(behalve grote vetzuren)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eiwi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 begint de vetvertering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arom kan de mens geen cellulose vertere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el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Afbeelding 3" descr=""/>
          <p:cNvPicPr/>
          <p:nvPr/>
        </p:nvPicPr>
        <p:blipFill>
          <a:blip r:embed="rId1"/>
          <a:stretch/>
        </p:blipFill>
        <p:spPr>
          <a:xfrm>
            <a:off x="3657600" y="3605040"/>
            <a:ext cx="5513400" cy="3259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produceerd in de maagsapklier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sap bestaat ui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Intrinsieke factor (beschermt vitamine B12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epsine (enzym dat eiwitten verteert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outzuur (HCI)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lij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pnemen vitamine B1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oden micro-organism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Pepsin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zorgt voor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eiwi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deeltelijke vertering van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koolhydra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Ontstaan van een dunne voedselbrij: ook wel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chymus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genoemd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t de </a:t>
            </a: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vetten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in de voedselbrij gebeurt nog niets in de maa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52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Enorme variatie in voedingsmiddelen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Ze bevatten maar 6 verschillende voedingsstoffen, namelijk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Suikers (koolhydra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Vetten (lipid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Lucida Sans Unicode"/>
              </a:rPr>
              <a:t>Eiwitten (proteïn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Mineralen (zouten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Vitamine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Het lichaam gebruikt voedingsstoffen als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Lucida Sans Unicode"/>
              </a:rPr>
              <a:t>Brandstof, bouwstof of reservestof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1" name="Afbeelding 3" descr=""/>
          <p:cNvPicPr/>
          <p:nvPr/>
        </p:nvPicPr>
        <p:blipFill>
          <a:blip r:embed="rId2"/>
          <a:stretch/>
        </p:blipFill>
        <p:spPr>
          <a:xfrm>
            <a:off x="5638680" y="335916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elangrijkste brandstof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voor het lichaam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Daarnaast ook 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bouwstof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 voor de aanmaak van molecul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3 groepen suikers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Enkel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Twee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Meervoudige suiker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5335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Enkel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Twee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Meervoudig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sui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Zetmeel, glycoge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ellulos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4"/>
          <p:cNvSpPr/>
          <p:nvPr/>
        </p:nvSpPr>
        <p:spPr>
          <a:xfrm>
            <a:off x="2438280" y="1981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997440" y="190512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048120" y="2819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3435480" y="2743200"/>
            <a:ext cx="304560" cy="3808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5964120" y="190512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9"/>
          <p:cNvSpPr/>
          <p:nvPr/>
        </p:nvSpPr>
        <p:spPr>
          <a:xfrm>
            <a:off x="2514600" y="3124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0"/>
          <p:cNvSpPr/>
          <p:nvPr/>
        </p:nvSpPr>
        <p:spPr>
          <a:xfrm>
            <a:off x="2895480" y="3086280"/>
            <a:ext cx="304920" cy="304560"/>
          </a:xfrm>
          <a:prstGeom prst="hexagon">
            <a:avLst>
              <a:gd name="adj" fmla="val 25030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289548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2514600" y="3581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3"/>
          <p:cNvSpPr/>
          <p:nvPr/>
        </p:nvSpPr>
        <p:spPr>
          <a:xfrm>
            <a:off x="4876920" y="51055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5029200" y="52578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5"/>
          <p:cNvSpPr/>
          <p:nvPr/>
        </p:nvSpPr>
        <p:spPr>
          <a:xfrm>
            <a:off x="51814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6"/>
          <p:cNvSpPr/>
          <p:nvPr/>
        </p:nvSpPr>
        <p:spPr>
          <a:xfrm>
            <a:off x="4114800" y="60199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7"/>
          <p:cNvSpPr/>
          <p:nvPr/>
        </p:nvSpPr>
        <p:spPr>
          <a:xfrm>
            <a:off x="5486400" y="571500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5638680" y="58672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9"/>
          <p:cNvSpPr/>
          <p:nvPr/>
        </p:nvSpPr>
        <p:spPr>
          <a:xfrm>
            <a:off x="6095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20"/>
          <p:cNvSpPr/>
          <p:nvPr/>
        </p:nvSpPr>
        <p:spPr>
          <a:xfrm>
            <a:off x="5791320" y="60199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21"/>
          <p:cNvSpPr/>
          <p:nvPr/>
        </p:nvSpPr>
        <p:spPr>
          <a:xfrm>
            <a:off x="5943600" y="60958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5334120" y="556272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3"/>
          <p:cNvSpPr/>
          <p:nvPr/>
        </p:nvSpPr>
        <p:spPr>
          <a:xfrm>
            <a:off x="4648320" y="52578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4343400" y="56386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5"/>
          <p:cNvSpPr/>
          <p:nvPr/>
        </p:nvSpPr>
        <p:spPr>
          <a:xfrm>
            <a:off x="4191120" y="586728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6"/>
          <p:cNvSpPr/>
          <p:nvPr/>
        </p:nvSpPr>
        <p:spPr>
          <a:xfrm>
            <a:off x="3962520" y="6172200"/>
            <a:ext cx="30456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7"/>
          <p:cNvSpPr/>
          <p:nvPr/>
        </p:nvSpPr>
        <p:spPr>
          <a:xfrm>
            <a:off x="3809880" y="624852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8"/>
          <p:cNvSpPr/>
          <p:nvPr/>
        </p:nvSpPr>
        <p:spPr>
          <a:xfrm>
            <a:off x="4495680" y="5410080"/>
            <a:ext cx="304920" cy="22860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 suikers in het voedsel word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afgebroken tot enkelvoudige suikers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Alle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enkelvoudige suikers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kunnen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via de darmwand 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naar 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het bloed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Lichaamscellen gebruiken 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LLEEN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 als brandstof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kan de enkelvoudige suikers fructose en galactose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omzetten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 </a:t>
            </a: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lucose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Glucose   , fructose    , galac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el 1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1738440" y="5486400"/>
            <a:ext cx="317520" cy="244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3510000" y="5413320"/>
            <a:ext cx="317520" cy="3906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4"/>
          <a:stretch/>
        </p:blipFill>
        <p:spPr>
          <a:xfrm>
            <a:off x="5411880" y="5450040"/>
            <a:ext cx="32868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e groot om via de darmwand in het bloed opgenomen te worden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Lucida Sans Unicode"/>
              </a:rPr>
              <a:t>Worden gesplitst tot enkelvoudige suikers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weevoudige suiker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Saccharose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tafelsui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Lactos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 Unicode"/>
              </a:rPr>
              <a:t>Maltos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2133720" y="3886200"/>
            <a:ext cx="1154160" cy="1219320"/>
          </a:xfrm>
          <a:prstGeom prst="rect">
            <a:avLst/>
          </a:prstGeom>
          <a:ln w="0">
            <a:noFill/>
          </a:ln>
        </p:spPr>
      </p:pic>
      <p:cxnSp>
        <p:nvCxnSpPr>
          <p:cNvPr id="419" name="Rechte verbindingslijn met pijl 4"/>
          <p:cNvCxnSpPr/>
          <p:nvPr/>
        </p:nvCxnSpPr>
        <p:spPr>
          <a:xfrm>
            <a:off x="3638520" y="4114440"/>
            <a:ext cx="419760" cy="1080"/>
          </a:xfrm>
          <a:prstGeom prst="straightConnector1">
            <a:avLst/>
          </a:prstGeom>
          <a:ln w="55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6-06T09:58:3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