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93A3-F32E-41A1-A45B-57F29AD2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D05E-E93A-4893-B5B7-C86F3948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CCC-EA35-4A12-B77E-0097E51E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3379-BCFA-4ECE-BD5D-7AB61490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9EAC-3B58-41D6-9CA2-B373ECE6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774C-9765-46AF-9819-79C43632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A307-962E-495C-BD86-54067637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B07B-0852-44B2-B9F0-F8CF6558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8DAA-9FBF-41F8-AAB8-64F2868B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65E1-62FC-4C43-8318-EB6FA5C4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8F6D-C0CB-4853-8B83-920E0214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FA08-01B3-4BCB-878A-12CCB5FE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4B93-9DAE-44B8-BEEA-22991B0D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F007-F871-4C7B-BC77-70536738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25A1-61B7-4287-8348-4FB0591A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5D29-E110-4F32-A1DE-9710049F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B9AA-6F42-4C4F-967B-8B92C1B7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8D140-D7F6-47E8-AADE-A2759046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0C580-B6B6-4650-993E-63F46400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906B2-1A3B-452A-BE93-B7DB425F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67599-CAEA-4653-B894-3530B863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AD810-F786-4096-96CC-011F3031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47E9-B0B5-4798-8425-67114894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D9E03-6077-44C2-88C8-D83F6021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E78AC-3163-47F0-BD3A-8A3ED89F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6B360-0280-4466-AE2F-0E738C87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FDCEC-FA6D-493D-A230-7D39DA36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ADE7E-A892-4113-9196-8CE0B164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8B457-A117-40EF-BE3F-9D1E500A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36618-195C-4E6E-9250-473CCF03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68FB4-646E-49B2-8FFA-C71DB10A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D73B8-567C-4953-89A6-109BCA9F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492DC-DDEA-453E-8747-BF99316A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676-8C9C-4889-B986-1B2AC0AC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4A8A0-E895-4B16-98B8-A408A37A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74C14-521F-4F27-B79D-F2D5AE9B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E570D-3B92-4F8E-9E1A-6CD9346A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D85BF-7E18-48F4-BB81-D8CF32DE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F71B9-0E0E-43F2-86B2-C104124D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6E9F2-7C98-44CC-BC7F-5C32DF62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97A84-6223-44FA-A92D-5C8893E6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0D402-69FA-40C5-BD08-9200ACD5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7F046-D2AF-4BE6-9453-FC579C9E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555C3-DF61-41B3-8E8D-BAC16CDF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DE3-CED3-4FF7-9A4B-7BF0EDF7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AB404-2B64-47C5-9B64-E9097631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5BC78-C203-4EE1-B9E2-310B2063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B90B0-25C3-41C8-AE10-1A679A55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AB932-445B-4DE6-8F51-A0F8421E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537B1-7FC6-4F12-BF53-75EC46C3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BBCEC-FE74-435A-B58E-1CC70C9E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BE170-42F9-4DDD-9B06-AB002A55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D327A-70AF-49BF-9C28-930EC4C7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08015-2FC9-4106-A576-B68C1228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866E1-6FB0-48DF-A55F-5EDB2750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5908-4BD0-401F-A769-5B6B8D19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D65A2-102A-4842-A0F0-C1497E1B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91837-C8A4-4AB9-9C6D-AC770ECA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57E9C-70D2-4A4B-8B44-E475C916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077C3-C625-4A93-8975-2AC6946B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BC51B-1E60-4433-985A-C08FF784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55A71-241B-4409-93CA-F0E53CFB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830FE-86AC-437C-AA53-72AD9565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6488F-C7A7-4D91-97B9-37272EA2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E0354-CCF2-43F2-9F70-F2D3FF20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CE25A-DD15-4202-9D2B-B5A3B9E6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1483-38BC-4CD8-AC72-68D353A0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07958-7A7A-447E-9F94-D2324956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2C684-6039-4E51-A8A0-CF370EC0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831B6-B600-4F2E-A115-90974FC9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32E40-73D7-4BC2-98C8-3DF17B0D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FDD22-4DC9-45AE-A414-1D4A227A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97836-3BDA-42DD-A4CC-B753B84B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5FD19-3EE5-4F02-8564-E1C380BF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90B53-2587-440A-ACDF-875F6661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742C2-19A3-4079-87CE-142D9230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29311-0826-4136-B6B6-F0AA8F73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6652-8D15-49E7-A5B2-14DE31A0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C7297-C02B-4EB3-A280-DBCE10AE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2774A-7A1D-4C0D-8DD0-364FD490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D3427-D9DB-4809-B0C5-5E27CFD7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2BA9E-D6F2-44A5-9246-1C195BC10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4D2E8-B0E2-4A92-9B58-2475819E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A4721-D577-4D6A-AEFD-5CC0C3F5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7EB16-57A1-47DA-B0CA-17464405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61496-C33C-45E3-9757-C70FE0B0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D842D-2915-44B1-97F4-8B2578BB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5404A-6DDA-4BA7-A1FD-28F80495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839E-A5A1-44FD-A288-BA218F15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53156-3558-4B59-AA63-C21F4C18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E0293-67F8-4DA9-AAD2-8A5B692A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4C61E-42EE-4BFC-ABA6-F203E940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C5004-2287-42D6-BEC9-CB02720F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4B281-AE0B-419B-860E-9F8C3039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9331C-6123-4420-AB3C-2D35AC63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1E082-22F7-4B24-9992-3C5C84FA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1115-955B-4F4D-B6D8-F8F405BF809F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267E-FC76-4AE1-9D5E-5A4827A6B49E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2856-0894-4632-881F-A3F699807733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D925-2EEB-4D9D-8E3A-2D92FE87772B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3815-0016-436C-8762-DAC1E4C69CC6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4AB8-6A08-4A38-B3B1-F8BC49A2F589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060E-61E5-4C62-8702-0481926FE58D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437C-9370-40F8-8FC9-15A5805C8F5E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oem de 5 structuren/ruimten waar de keelholte mee in verbinding st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Neusholte, mond, luchtpijp, slokdarm, buis van Eustachiu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z. 233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4 De luchtpijp en de neusholte.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6a natriumbicarbonaat maakt de chymus (voedselbrij) enorm veel minder zuu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6b Anders zou je 12-vingerige darm wegbrand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7a koolhydraten(suikers), vetten en eiwitt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7b emulgeren(verspreiden) van ve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237960" y="-109440"/>
            <a:ext cx="84488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80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Bestaan alleen uit glucosemoleculen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Meervoudige suiker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Zetmeel, glycogee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Cellulos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Zetmeel en cellulose zijn </a:t>
            </a: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plantaardige suikers 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(rijst, granen en aardappelen)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Glycogeen is een </a:t>
            </a: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dierlijk suiker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.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Lucida Sans Unicode"/>
              </a:rPr>
              <a:t>Glycogeen </a:t>
            </a:r>
            <a:r>
              <a:rPr b="0" lang="nl-NL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1900" spc="-1" strike="noStrike">
                <a:solidFill>
                  <a:srgbClr val="000000"/>
                </a:solidFill>
                <a:latin typeface="Lucida Sans Unicode"/>
              </a:rPr>
              <a:t>glucos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Cellulose kan niet worden afgebroken door het lichaam. 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En heeft een stimulerende functie van de darmbewegingen. </a:t>
            </a: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(cellulose vormt de vezels in de voeding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el 1" descr=""/>
          <p:cNvPicPr/>
          <p:nvPr/>
        </p:nvPicPr>
        <p:blipFill>
          <a:blip r:embed="rId1"/>
          <a:stretch/>
        </p:blipFill>
        <p:spPr>
          <a:xfrm>
            <a:off x="201600" y="304920"/>
            <a:ext cx="8485200" cy="1242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"/>
          <p:cNvPicPr/>
          <p:nvPr/>
        </p:nvPicPr>
        <p:blipFill>
          <a:blip r:embed="rId2"/>
          <a:stretch/>
        </p:blipFill>
        <p:spPr>
          <a:xfrm>
            <a:off x="5465880" y="1447920"/>
            <a:ext cx="2603520" cy="1384200"/>
          </a:xfrm>
          <a:prstGeom prst="rect">
            <a:avLst/>
          </a:prstGeom>
          <a:ln w="0">
            <a:noFill/>
          </a:ln>
        </p:spPr>
      </p:pic>
      <p:cxnSp>
        <p:nvCxnSpPr>
          <p:cNvPr id="423" name="Rechte verbindingslijn met pijl 4"/>
          <p:cNvCxnSpPr/>
          <p:nvPr/>
        </p:nvCxnSpPr>
        <p:spPr>
          <a:xfrm>
            <a:off x="2438280" y="3962160"/>
            <a:ext cx="603720" cy="1080"/>
          </a:xfrm>
          <a:prstGeom prst="straightConnector1">
            <a:avLst/>
          </a:prstGeom>
          <a:ln w="5508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151920" y="13712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Triglyceriden (verzadigde/onverzadigde vetten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Fosfolipiden (bouwstof voor celmembraan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Steroïden (hormonen bijv. cholestero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Vetten hebben uiteenlopende functies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Lucida Sans Unicode"/>
              </a:rPr>
              <a:t>Bouwstof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 voor alle celle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Belangrijke </a:t>
            </a:r>
            <a:r>
              <a:rPr b="1" i="1" lang="nl-NL" sz="2000" spc="-1" strike="noStrike">
                <a:solidFill>
                  <a:srgbClr val="000000"/>
                </a:solidFill>
                <a:latin typeface="Lucida Sans Unicode"/>
              </a:rPr>
              <a:t>brandstof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  (energieleveraar, vetverbranding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Overschot wordt opgeslagen (</a:t>
            </a: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reservestof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Isolatie (warmt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Vervoer van vitamine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 enzym nodig voor afbraak van alle vetten!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Enzym LIPASE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Je kunt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geen reserve-eiwitten in je lichaam opslaa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Dus is het belangrijk dat je dagelijks voldoende eiwitten binnenkrijgt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Eiwitten dienen als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ouwstof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en in noodgevallen als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randstof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escherming: anti-stoffen en stollingsfactoren in het bloed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Spierwerking: actine en myosine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Genezingsproces van wonden!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Afbeelding 2" descr=""/>
          <p:cNvPicPr/>
          <p:nvPr/>
        </p:nvPicPr>
        <p:blipFill>
          <a:blip r:embed="rId1"/>
          <a:stretch/>
        </p:blipFill>
        <p:spPr>
          <a:xfrm>
            <a:off x="6248520" y="3733920"/>
            <a:ext cx="2577960" cy="27842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596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Eiwitten zijn opgebouwd uit aminozur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2 aminozuren maakt je lichaam zelf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8 aminozuren via voedse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nzymen genaamd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proteasen breken eiwitten af terug tot aminozur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minozuren kunnen via de darmwand in het bloed worden opgenom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Titel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z. 2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2 en 3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sse vr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Naar welk orgaan gaan de opgenomen voedingstoffen(behalve grote vetzuren)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ar begint de eiwitvertering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ar begint de vetvertering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arom kan de mens geen cellulose vertere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el 3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Afbeelding 3" descr=""/>
          <p:cNvPicPr/>
          <p:nvPr/>
        </p:nvPicPr>
        <p:blipFill>
          <a:blip r:embed="rId1"/>
          <a:stretch/>
        </p:blipFill>
        <p:spPr>
          <a:xfrm>
            <a:off x="3657600" y="3605040"/>
            <a:ext cx="5513400" cy="32594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produceerd in de maagsapkli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agsap bestaat ui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Intrinsieke factor (beschermt vitamine B12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epsine (enzym dat eiwitten verteert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utzuur (HCI)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ter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lij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el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nemen vitamine B1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den micro-organis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Pepsin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orgt voor vertering van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eiwitt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deeltelijke vertering van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koolhydrat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ntstaan van een dunne voedselbrij: ook wel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chymus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noem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t de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vett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n de voedselbrij gebeurt nog niets in de m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522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Enorme variatie in voedingsmiddelen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Ze bevatten maar 6 verschillende voedingsstoffen, namelijk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 Unicode"/>
              </a:rPr>
              <a:t>Suikers (koolhydrat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 Unicode"/>
              </a:rPr>
              <a:t>Vetten (lipid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 Unicode"/>
              </a:rPr>
              <a:t>Eiwitten (proteïn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Mineralen (zout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Vitamin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Het lichaam gebruikt voedingsstoffen al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Brandstof, bouwstof of reservestof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1" name="Afbeelding 3" descr=""/>
          <p:cNvPicPr/>
          <p:nvPr/>
        </p:nvPicPr>
        <p:blipFill>
          <a:blip r:embed="rId2"/>
          <a:stretch/>
        </p:blipFill>
        <p:spPr>
          <a:xfrm>
            <a:off x="5638680" y="335916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Belangrijkste brandstof 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voor het lichaam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Daarnaast ook e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bouwstof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 voor de aanmaak van moleculen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3 groepen suikers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Enkelvoudige sui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Tweevoudige sui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Meervoudige sui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5335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kelvoudig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ui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lucose   , fructose    , galactos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Tweevoudig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ui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accharose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tafelsuik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acto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altos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eervoudig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ui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etmeel, glycoge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ellulos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4"/>
          <p:cNvSpPr/>
          <p:nvPr/>
        </p:nvSpPr>
        <p:spPr>
          <a:xfrm>
            <a:off x="2438280" y="1981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3997440" y="1905120"/>
            <a:ext cx="304560" cy="3808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3048120" y="28195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3435480" y="2743200"/>
            <a:ext cx="304560" cy="3808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5964120" y="190512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9"/>
          <p:cNvSpPr/>
          <p:nvPr/>
        </p:nvSpPr>
        <p:spPr>
          <a:xfrm>
            <a:off x="2514600" y="3124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0"/>
          <p:cNvSpPr/>
          <p:nvPr/>
        </p:nvSpPr>
        <p:spPr>
          <a:xfrm>
            <a:off x="2895480" y="308628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2895480" y="35812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"/>
          <p:cNvSpPr/>
          <p:nvPr/>
        </p:nvSpPr>
        <p:spPr>
          <a:xfrm>
            <a:off x="2514600" y="35812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3"/>
          <p:cNvSpPr/>
          <p:nvPr/>
        </p:nvSpPr>
        <p:spPr>
          <a:xfrm>
            <a:off x="4876920" y="51055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4"/>
          <p:cNvSpPr/>
          <p:nvPr/>
        </p:nvSpPr>
        <p:spPr>
          <a:xfrm>
            <a:off x="5029200" y="525780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5"/>
          <p:cNvSpPr/>
          <p:nvPr/>
        </p:nvSpPr>
        <p:spPr>
          <a:xfrm>
            <a:off x="5181480" y="5410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6"/>
          <p:cNvSpPr/>
          <p:nvPr/>
        </p:nvSpPr>
        <p:spPr>
          <a:xfrm>
            <a:off x="4114800" y="60199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7"/>
          <p:cNvSpPr/>
          <p:nvPr/>
        </p:nvSpPr>
        <p:spPr>
          <a:xfrm>
            <a:off x="5486400" y="571500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8"/>
          <p:cNvSpPr/>
          <p:nvPr/>
        </p:nvSpPr>
        <p:spPr>
          <a:xfrm>
            <a:off x="5638680" y="58672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9"/>
          <p:cNvSpPr/>
          <p:nvPr/>
        </p:nvSpPr>
        <p:spPr>
          <a:xfrm>
            <a:off x="6095880" y="62485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0"/>
          <p:cNvSpPr/>
          <p:nvPr/>
        </p:nvSpPr>
        <p:spPr>
          <a:xfrm>
            <a:off x="5791320" y="60199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21"/>
          <p:cNvSpPr/>
          <p:nvPr/>
        </p:nvSpPr>
        <p:spPr>
          <a:xfrm>
            <a:off x="5943600" y="60958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2"/>
          <p:cNvSpPr/>
          <p:nvPr/>
        </p:nvSpPr>
        <p:spPr>
          <a:xfrm>
            <a:off x="5334120" y="55627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3"/>
          <p:cNvSpPr/>
          <p:nvPr/>
        </p:nvSpPr>
        <p:spPr>
          <a:xfrm>
            <a:off x="4648320" y="525780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24"/>
          <p:cNvSpPr/>
          <p:nvPr/>
        </p:nvSpPr>
        <p:spPr>
          <a:xfrm>
            <a:off x="4343400" y="56386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5"/>
          <p:cNvSpPr/>
          <p:nvPr/>
        </p:nvSpPr>
        <p:spPr>
          <a:xfrm>
            <a:off x="4191120" y="586728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26"/>
          <p:cNvSpPr/>
          <p:nvPr/>
        </p:nvSpPr>
        <p:spPr>
          <a:xfrm>
            <a:off x="3962520" y="617220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27"/>
          <p:cNvSpPr/>
          <p:nvPr/>
        </p:nvSpPr>
        <p:spPr>
          <a:xfrm>
            <a:off x="3809880" y="62485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8"/>
          <p:cNvSpPr/>
          <p:nvPr/>
        </p:nvSpPr>
        <p:spPr>
          <a:xfrm>
            <a:off x="4495680" y="5410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Alle suikers in het voedsel word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afgebroken tot enkelvoudige suikers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Alle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enkelvoudige suikers 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kunn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via de darmwand 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naar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het bloed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Lichaamscellen gebruiken 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LLEEN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lucose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 als brandstof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Lever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kan de enkelvoudige suikers fructose en galactose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omzetten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n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lucose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Glucose   , fructose    , galactos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el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1738440" y="5486400"/>
            <a:ext cx="317520" cy="244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3"/>
          <a:stretch/>
        </p:blipFill>
        <p:spPr>
          <a:xfrm>
            <a:off x="3510000" y="5413320"/>
            <a:ext cx="317520" cy="3906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"/>
          <p:cNvPicPr/>
          <p:nvPr/>
        </p:nvPicPr>
        <p:blipFill>
          <a:blip r:embed="rId4"/>
          <a:stretch/>
        </p:blipFill>
        <p:spPr>
          <a:xfrm>
            <a:off x="5411880" y="5450040"/>
            <a:ext cx="32868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Te groot om via de darmwand in het bloed opgenomen te worden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Worden gesplitst tot enkelvoudige suikers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Tweevoudige suiker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Saccharose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tafelsuik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Lactos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Maltos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2133720" y="3886200"/>
            <a:ext cx="1154160" cy="1219320"/>
          </a:xfrm>
          <a:prstGeom prst="rect">
            <a:avLst/>
          </a:prstGeom>
          <a:ln w="0">
            <a:noFill/>
          </a:ln>
        </p:spPr>
      </p:pic>
      <p:cxnSp>
        <p:nvCxnSpPr>
          <p:cNvPr id="419" name="Rechte verbindingslijn met pijl 4"/>
          <p:cNvCxnSpPr/>
          <p:nvPr/>
        </p:nvCxnSpPr>
        <p:spPr>
          <a:xfrm>
            <a:off x="3638520" y="4114440"/>
            <a:ext cx="419760" cy="108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ns,N.H.M.</dc:creator>
  <dc:description/>
  <dc:language>en-US</dc:language>
  <cp:lastModifiedBy>Hans,N.H.M.</cp:lastModifiedBy>
  <dcterms:modified xsi:type="dcterms:W3CDTF">2016-06-06T09:58:3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