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B3F-670C-4A72-9C5A-102805F2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A94-7499-482B-8DC6-C0B5909D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0C7-96AD-4D12-B40D-27449EC7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6C0-8CAA-42B8-9938-1CABF2BE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BD40-DDC5-4A8D-B42A-91D2D173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0F8C-181B-4C09-A744-72B1936A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08DD-B144-4D17-B563-BBABBE81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FABC-9FF1-4B35-A1EB-2700B279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D049-28F4-4A32-8F79-CD01921D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49BB-5F49-42EB-BD42-C7DC7A4A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801E-356D-4E10-AC8D-813E6D6B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24D-8B42-4A37-9ECD-CBDFFF6B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2E79-877E-4F78-B5E4-C18E256A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23FD-6923-4D08-A068-91B5BFCA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B445-5300-4FDC-AF80-C5A3AF93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3F11-340A-4F45-A52F-A44544FF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9520-1335-4023-9CF5-EE9E2FCC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06A2F-D952-47C6-ABB3-8CA58D99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6D0D-72E0-4E5B-9285-DDA70CB9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A7D06-496C-4CA2-A355-FC37FBE9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AB6DF-AB90-448D-86A3-C1EB5592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31D7-9C32-4DE1-BEF2-D369F39C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8E0-B821-40CB-B1F4-4CBE464C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60E3F-1238-466D-898D-7F20F77C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128C-67C7-4E55-ADAA-A1680F0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E80CA-DD84-437B-934D-643EA9FC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B5B09-7036-4373-90A4-0D33D895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F57B-9C65-48BB-8723-8F83D3ED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821E-D550-41AB-A849-4CFE33A3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B77C-BB8F-4A52-85AA-64AA5B3D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A83B6-B7CF-4273-954B-9FBF33F4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76DC8-F9F1-43DC-BE32-A9C5AACF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246F0-1BF5-4330-BA71-62AF1A58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7E5-16E6-4A03-B3B9-DB13615F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FD379-1D83-4052-BF15-4C961E80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337CF-4B31-4D12-AC9E-EDA45A4A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CDB5C-3E3F-4E49-9170-E3A83302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E0598-946D-49EA-9964-864C10FA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EEFA-9753-4CA3-90EE-EBA9BCE5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21231-414D-4E2D-BD0F-7AE34BC3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4B0A7-01EB-4BB7-942D-52743F39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55503-4CA4-47A6-AA7B-E4DC3FF5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E8755-C6B2-484E-BB0E-ED79F664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24542-7837-4526-9B50-60EAE935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934-8B30-490C-A671-44EA5CE2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F4C9A-55EE-4D76-9DE4-ACF7D256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0B21-ABD2-4C20-BF70-A9EB604B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8CBFA-A8A0-430C-B99E-3E97BEDC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E7088-0570-4DFA-ADB1-6851AD48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B68C2-2312-4417-A3AF-397EE8B5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44171-36D2-45F4-BD3D-DB332260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10DB5-B398-40D0-B402-954A731E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D98C4-F48A-49C5-8CBF-363F327D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D4A98-2E97-44C3-8AFF-ED0098F1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5545E-D442-49D5-BC6E-6CDB69E4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C14-C455-41A7-9569-9DFFFAEB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9B386-C9C0-49A9-8EF3-CE8A243C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0EE6F-2F4E-4221-A31C-3BDF93E6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0A1F8-3337-4641-966E-C2AE94F9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5791D-1E11-4AD5-9C75-DE70654E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B5111-E656-4CFD-A508-07643AC1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E96F2-E198-412F-8688-A7E89B24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39EF5-9F18-41C8-9BE1-39D747E6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4487C-4F11-40BE-A431-7D47C920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6568C-C8D0-4470-87D8-AD9D96B4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5016A-8237-4DAA-8EDD-E6B50BD4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C12-866D-4D98-8B2B-820F9220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7EE02-040D-4A3B-B5C7-4D952464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A44A5-CD9D-438E-8DE7-E8A3473C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3405E-66F6-44E6-96B2-A66A961F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CDD09-C3A4-4293-B105-BAEE56BC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8B660-7033-4EDD-A7B7-7CD2BE4B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DD6FC-E5FB-433B-AFC7-2DE59298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7066E-F0F9-4E27-B95A-06559329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33706-8A8E-4F3D-ACB8-276A0AF4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956A8-9A18-440D-9D2E-E4D8FFC2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8E1DC-6A87-4BEF-8601-1233633A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243-E2C9-4497-959D-0247DDEF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43620-CDF7-4D4B-B68F-1F91B958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4A627-AB60-4143-833B-17CC302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60DC1-CB44-437F-980C-B27F2A7B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01B08-02E9-49D7-B2C2-280C6147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67E49-E42F-48F3-BC47-D1FDF098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3C395-9C91-453B-8275-45D3ED06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4E45F-C5D5-4808-B43F-BD819C58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A4A3E-458B-4C0B-AFED-CB9BC0CA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94815-9F38-4DFD-8BAE-DF53E5B0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C644F-0E7A-4CF6-A150-B10808FB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EAD-B983-4767-96F5-A1EE74D8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A7BD7-3191-418B-934D-9132DC1A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0BD93-AFF4-4DB2-917B-8A985BC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CD9FA-7637-4718-9B30-8F749D1A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72CBB-7C4F-4290-A89B-1A17C091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45789-601E-4F05-9B55-037CA2EF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D7587-E09E-43FC-A5C4-6B6D2FC6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7698D-B9EA-4E83-AA54-8ABA7A0C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A978-08AD-465B-87BD-AE0067F848D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6F88-618F-4988-A812-45CD304E11EC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345A-05CD-42F7-B780-DE8EC946C904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B1D0-6943-4662-8946-1B5880907707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0D4E-FDF9-4892-BE68-2A86B2A76B5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075E-C965-4E1A-87BD-AA27FFE5F7E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D171-2EF6-47BF-955D-752877BCB4FE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9D52-6C4C-4DF2-8244-2A7B74230722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-219240" y="-10944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suline en glucagon hebben een antagonistische werking. Wat wil dat zeggen?</a:t>
            </a:r>
            <a:br>
              <a:rPr sz="2700"/>
            </a:b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Tegengestelde werking op bloedsuikerspieg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hormoon wordt afgegeven enige tijd na een maaltijd? Waarom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Insuline, om te voorkomen dat er teveel glucose in bloed kom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effect heeft het hormoon uit vraag 2 op de bloedsuikerspiegel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Verlagend eff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en lege maag heeft enorm veel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plooien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Plooien zorgen ervoor dat de maag heel ver kan uitrekk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Gemiddeld is de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maximale maagvolume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zo’n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3 lit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lege toestand is het maagvolume zo’n 1 liter maagsap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Rondom de maag liggen spieren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ie de maaginhoud kunnen ‘mixen’ en voedselbrokken veranderen daardoor in een dunne voedselbrij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, 6, en 7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845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257800" cy="5826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el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fbeelding 1" descr=""/>
          <p:cNvPicPr/>
          <p:nvPr/>
        </p:nvPicPr>
        <p:blipFill>
          <a:blip r:embed="rId1"/>
          <a:stretch/>
        </p:blipFill>
        <p:spPr>
          <a:xfrm>
            <a:off x="5562720" y="-20520"/>
            <a:ext cx="5324400" cy="4171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0" y="990720"/>
            <a:ext cx="8229600" cy="56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nctie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oorgang vo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voedsel naar slokdarm 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in- en uitademing van luch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Keelholte staat in verbinding m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Neus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Mond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trottenhoof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uis van Eustachius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(verbinding met middenoo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2"/>
          <a:stretch/>
        </p:blipFill>
        <p:spPr>
          <a:xfrm>
            <a:off x="-255600" y="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766880" y="36360"/>
            <a:ext cx="5608800" cy="67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binding van keelholte naar de 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unctie: transport van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 vernauw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chter het strottenhoof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litsing luchtpij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oorgang diafragm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nsport via peristaltische bewegin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uit meerdere lagen speciaal slijmv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oduceert slijm dat beschermt tegen scherp of zuur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der bestaat de wand uit spierweef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Afbeelding 5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2485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maag onderdelen"/>
          <p:cNvPicPr/>
          <p:nvPr/>
        </p:nvPicPr>
        <p:blipFill>
          <a:blip r:embed="rId1"/>
          <a:stretch/>
        </p:blipFill>
        <p:spPr>
          <a:xfrm>
            <a:off x="4952880" y="1523880"/>
            <a:ext cx="3962520" cy="3929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806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 onderd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ard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Fund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rp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ntru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. Pylorus = maagporti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Maagstraa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= klei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urvatuu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inks boven in buik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maag wand"/>
          <p:cNvPicPr/>
          <p:nvPr/>
        </p:nvPicPr>
        <p:blipFill>
          <a:blip r:embed="rId1"/>
          <a:stretch/>
        </p:blipFill>
        <p:spPr>
          <a:xfrm>
            <a:off x="380880" y="212760"/>
            <a:ext cx="830592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5-23T09:53:3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