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3.png" ContentType="image/png"/>
  <Override PartName="/ppt/media/image37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9.jpeg" ContentType="image/jpeg"/>
  <Override PartName="/ppt/media/image8.png" ContentType="image/png"/>
  <Override PartName="/ppt/media/image38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5.jpeg" ContentType="image/jpeg"/>
  <Override PartName="/ppt/media/image1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4866-9B4F-4CAF-B32F-1618C24B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9B41-2E99-4E91-8474-11E1C99C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4721EC-6FBB-43C9-A042-AFE81339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6B0A20-0401-4B38-BF3D-C1247590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13CD77-83B9-4A8F-BF11-3DC1B831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0A661B-F4CA-4C6E-BBA3-2DC6A0CF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9767DB-A54D-41B4-A645-5E0A71F8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764EE0-61C6-4475-AD9D-A4180500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398222-E51B-4747-B4C1-9DED340F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079ECD-361E-4F60-BD69-EEDEBE8EE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C48C08-52BC-41C9-80FE-14035391C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3B9F-E429-4D83-8790-7DBD4F173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F8F9-2643-48F1-9896-D33FA739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DA19B-039B-4208-9E30-716B06EC7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BFE3D-D08E-4CA6-86A7-FB89E3E9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C8867-C1C6-4F84-A242-1F7366AF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DA333-1CAD-495A-8475-CE46F5DF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6D021-7B38-4347-9AD3-78EF6A2B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38798-C0C6-41E2-8EE9-98F27E09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18A75-E58A-4781-96BF-F158F77B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52E2-4259-4BF5-8D63-264B470B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2EE94-D191-4383-B1AB-EAACD57D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BABD4-7376-423C-98D9-612568D3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89A5E-0BB8-4D13-8BE8-37D2FAA7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DA9C8-D8B3-4268-9154-6E40B832F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32BDC-E961-4D9F-BE8D-3ABCBBBA5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00E84-3C52-4272-AC0F-D395EA82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5DB26-6190-42C0-AC4D-99DA985B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B1A59-F93A-4ED8-8B4F-525B1F9A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547D1-2133-495E-A78C-9372CA7E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78DB6-5F9A-4EA5-B316-C119292F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22D4-8478-441D-91F6-487092BA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4411D-BF18-4EAB-A4E5-F13A3ED2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DF87B-715D-4FE7-875C-C7141896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5C244-65DA-473A-BA12-7DB06766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8BB25-9394-43D1-8CB1-8ABF8A6F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A03DC-A18A-4808-8D65-0A304ADA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10270-73FF-4B3F-AA14-B830909A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26820-E69A-42A0-960D-238C03BAF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FE11DC-336E-42FB-9548-F8E33B86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73A0F4-A376-4A70-93EA-4E0369B2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7DE613-C292-40A0-A875-30FADD52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6A94-3982-41EF-8DA2-EA994806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580C7C-21F5-4C2B-970E-472077EB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ECD818-55D1-4194-91DF-D6D80FCF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41AA48-8C8E-4B09-AE14-4C52F967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E0040B-0CFA-41E9-A072-AA70EADF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9FDBA8-39BF-4EB5-9C80-A421418B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B111B3-37E8-4933-BE9B-EFFDC543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F29FC9-644C-41CB-8F14-4B5C7DD1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0B85B5-56FD-4FF8-A640-D5CF80B22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EEEFC7-51A9-46CC-8F95-492166118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897D4-3418-4053-A047-EBFD7CF9D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30FA-1D87-4309-85F8-0210EA26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84F22-719C-428D-B00E-448486AF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89253-2944-4E90-9443-3C730198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F1DCA-7E79-4B9A-AD14-69E93B52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8549F-9A98-446C-895C-6576633A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B17DB-A9C1-40E0-A67D-EC4541EA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93D97-F4B2-402E-B0CC-F84DE20A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C56BA-AE29-4F8E-992F-9AD4EA2C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8C2BC-6771-4241-94C2-7BC6A920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8E6B3-8206-4EDE-BF57-A1CDC069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715AA-03A7-4BF1-AE4B-D855BBF7B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71B0-0B90-421C-9EB9-029E7944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B32AF-9BD1-487A-AD0D-938CC8250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116D0-D08D-4C0C-9EC9-EB3BE4A4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DC725-4D68-41DE-933C-D3BEA56D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90A83-6678-4B0F-9F83-2702C86F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F924C-708B-4355-B82E-12449AB7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BB862-568A-46E5-AF43-E15C4CA7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A5904-F1BD-41AC-B1B0-E4E71E1D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72592-097F-42DD-9B2A-8F430DB2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B0592-113C-42A0-8135-583D4079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08A70-0126-42CC-8A32-A4D1C493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9375-7ABB-4931-AADE-DDB551B4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3A9C1-EAE5-481D-ABCA-0B85DF22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64940-2E1D-42F5-B468-B1C9664F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959B2-F2BB-4419-AAF0-360873D01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706FE-898C-417F-9544-CF13B8CA7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B61DB-D8FA-43FF-AA95-845C406D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29E41-4C85-4795-A1C5-6C2C7EBF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4FE36-1DFE-469D-A0C8-436125FE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9B3D7-711D-4E33-82DD-1B19761E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A2DEB-98EA-41C3-BEB6-38E01682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6C032-8907-4206-8E9C-46C52C38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3013-F9CD-4315-9D20-00DFBAC1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FB445-8FE0-4829-8242-BA6D3AA5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D81BC-5D08-4B13-93DC-084F0AB1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F5DE2-46B2-4FD4-879E-7D2D6011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058E7-7577-4378-9332-4D92C55D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FEE3F-0224-475D-8A26-8273787BA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F1CFD1-D71C-41CE-A136-F5A9D95CC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73EE52-B455-4B8A-98A7-E64B86C3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E4E5C0-FB9C-4671-B506-3DC072AB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453949-A045-49DB-8761-9D9A7D07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9A5E53-F7DB-4FF9-AD23-5CE39510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520C-5CDB-4F19-8B05-2F1D9890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CACAD4-67CB-4A6A-A5C8-DA9C18A0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32EB46-3F0F-4BC2-A6F4-9796C4C3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5BFCA8-00FE-4C13-A2B2-B220839E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270211-3126-49A7-8B5E-8EBB95BF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7D58A7-3FA6-4874-B3F0-C0993C10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C26118-9F5D-4B5C-9150-05EEC788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3BEA66-E22C-4DBC-9F70-2C0973F1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5A249E-85FC-4117-94DA-448474316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9E0D90-C093-49CF-8349-EAD94232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C180E2-C4E9-40B9-8062-D2E8FEBD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EBB1-F3B5-4F65-967D-11AFFBE7C5DD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nd diagonale hoek rechthoek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Rond diagonale hoek rechthoek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5EE7-7732-4EBC-9F93-B7919504EAB2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89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509C-185B-405D-AD92-A071C5A8C756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1642-16DC-4AD4-8B86-B55838BB4D6A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76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2703-DEF5-4990-BB72-2E7E2411B815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2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hthoek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hthoek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AB29-4CBC-4308-9840-C676CF95F9DD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67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74C8-B2E6-4441-B4FE-047403EA919D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hthoek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B4DF-552F-45AE-9BBF-1822181DB8CE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1698-56BC-4A04-8F6A-43E44EDDC002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el 1" descr=""/>
          <p:cNvPicPr/>
          <p:nvPr/>
        </p:nvPicPr>
        <p:blipFill>
          <a:blip r:embed="rId1"/>
          <a:stretch/>
        </p:blipFill>
        <p:spPr>
          <a:xfrm>
            <a:off x="360360" y="573120"/>
            <a:ext cx="8229600" cy="1000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http://www.schoolbieb.nl/uploadedImages/images/Kenmerk/1911.jpg"/>
          <p:cNvPicPr/>
          <p:nvPr/>
        </p:nvPicPr>
        <p:blipFill>
          <a:blip r:embed="rId2"/>
          <a:stretch/>
        </p:blipFill>
        <p:spPr>
          <a:xfrm rot="20206800">
            <a:off x="5862600" y="2378160"/>
            <a:ext cx="2252880" cy="33894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http://www.eediete.nl/keuken/pics/groenten.jpg"/>
          <p:cNvPicPr/>
          <p:nvPr/>
        </p:nvPicPr>
        <p:blipFill>
          <a:blip r:embed="rId3"/>
          <a:stretch/>
        </p:blipFill>
        <p:spPr>
          <a:xfrm rot="677400">
            <a:off x="426600" y="3129120"/>
            <a:ext cx="2352600" cy="3136680"/>
          </a:xfrm>
          <a:prstGeom prst="rect">
            <a:avLst/>
          </a:prstGeom>
          <a:ln w="0">
            <a:noFill/>
          </a:ln>
        </p:spPr>
      </p:pic>
      <p:pic>
        <p:nvPicPr>
          <p:cNvPr id="397" name="Afbeelding 2" descr=""/>
          <p:cNvPicPr/>
          <p:nvPr/>
        </p:nvPicPr>
        <p:blipFill>
          <a:blip r:embed="rId4"/>
          <a:stretch/>
        </p:blipFill>
        <p:spPr>
          <a:xfrm>
            <a:off x="2989440" y="4508640"/>
            <a:ext cx="2838240" cy="180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el 1" descr=""/>
          <p:cNvPicPr/>
          <p:nvPr/>
        </p:nvPicPr>
        <p:blipFill>
          <a:blip r:embed="rId1"/>
          <a:stretch/>
        </p:blipFill>
        <p:spPr>
          <a:xfrm>
            <a:off x="285840" y="360360"/>
            <a:ext cx="8229600" cy="7621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42884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kunstmest, alleen natuurlijke mest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0" name="Picture 2" descr="http://www.agripress.be/_STUDIOEMMA_UPLOADS/foto/artikel/1-gele_mosterd_agripress.jpg"/>
          <p:cNvPicPr/>
          <p:nvPr/>
        </p:nvPicPr>
        <p:blipFill>
          <a:blip r:embed="rId2"/>
          <a:stretch/>
        </p:blipFill>
        <p:spPr>
          <a:xfrm>
            <a:off x="6357960" y="4286160"/>
            <a:ext cx="1517760" cy="1876680"/>
          </a:xfrm>
          <a:prstGeom prst="rect">
            <a:avLst/>
          </a:prstGeom>
          <a:ln w="0">
            <a:noFill/>
          </a:ln>
        </p:spPr>
      </p:pic>
      <p:sp>
        <p:nvSpPr>
          <p:cNvPr id="401" name="Tekstvak 4"/>
          <p:cNvSpPr/>
          <p:nvPr/>
        </p:nvSpPr>
        <p:spPr>
          <a:xfrm>
            <a:off x="5786280" y="6143760"/>
            <a:ext cx="27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f een groenbeme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4" descr="http://www.nlnatuur.nl/Album/2-Flora/Bloemen%20en%20Planten/slides/Rode%20klaver.jpg"/>
          <p:cNvPicPr/>
          <p:nvPr/>
        </p:nvPicPr>
        <p:blipFill>
          <a:blip r:embed="rId3"/>
          <a:stretch/>
        </p:blipFill>
        <p:spPr>
          <a:xfrm>
            <a:off x="357120" y="4429080"/>
            <a:ext cx="2633760" cy="1714680"/>
          </a:xfrm>
          <a:prstGeom prst="rect">
            <a:avLst/>
          </a:prstGeom>
          <a:ln w="0">
            <a:noFill/>
          </a:ln>
        </p:spPr>
      </p:pic>
      <p:sp>
        <p:nvSpPr>
          <p:cNvPr id="403" name="Tekstvak 6"/>
          <p:cNvSpPr/>
          <p:nvPr/>
        </p:nvSpPr>
        <p:spPr>
          <a:xfrm>
            <a:off x="285840" y="614376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linderbloemigen gebruiken voor stikst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6" descr="http://www.waterlandendijken.nl/images/content/foto%207%20ruige%20mest%20%5B1024x768%5D.JPG"/>
          <p:cNvPicPr/>
          <p:nvPr/>
        </p:nvPicPr>
        <p:blipFill>
          <a:blip r:embed="rId4"/>
          <a:stretch/>
        </p:blipFill>
        <p:spPr>
          <a:xfrm>
            <a:off x="357120" y="2071800"/>
            <a:ext cx="2428920" cy="1820880"/>
          </a:xfrm>
          <a:prstGeom prst="rect">
            <a:avLst/>
          </a:prstGeom>
          <a:ln w="0">
            <a:noFill/>
          </a:ln>
        </p:spPr>
      </p:pic>
      <p:sp>
        <p:nvSpPr>
          <p:cNvPr id="405" name="Tekstvak 8"/>
          <p:cNvSpPr/>
          <p:nvPr/>
        </p:nvSpPr>
        <p:spPr>
          <a:xfrm>
            <a:off x="357120" y="392904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uige strorijke m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8" descr="http://www.kraanbedrijfvanassem.nl/images/p002_1_00.png"/>
          <p:cNvPicPr/>
          <p:nvPr/>
        </p:nvPicPr>
        <p:blipFill>
          <a:blip r:embed="rId5"/>
          <a:stretch/>
        </p:blipFill>
        <p:spPr>
          <a:xfrm>
            <a:off x="3786120" y="2071800"/>
            <a:ext cx="2660760" cy="2000160"/>
          </a:xfrm>
          <a:prstGeom prst="rect">
            <a:avLst/>
          </a:prstGeom>
          <a:ln w="0">
            <a:noFill/>
          </a:ln>
        </p:spPr>
      </p:pic>
      <p:sp>
        <p:nvSpPr>
          <p:cNvPr id="407" name="Tekstvak 10"/>
          <p:cNvSpPr/>
          <p:nvPr/>
        </p:nvSpPr>
        <p:spPr>
          <a:xfrm>
            <a:off x="6643800" y="26431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comp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el 1" descr=""/>
          <p:cNvPicPr/>
          <p:nvPr/>
        </p:nvPicPr>
        <p:blipFill>
          <a:blip r:embed="rId1"/>
          <a:stretch/>
        </p:blipFill>
        <p:spPr>
          <a:xfrm>
            <a:off x="0" y="554040"/>
            <a:ext cx="8717040" cy="11224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0" name="Picture 2" descr="het schoffelen"/>
          <p:cNvPicPr/>
          <p:nvPr/>
        </p:nvPicPr>
        <p:blipFill>
          <a:blip r:embed="rId2"/>
          <a:stretch/>
        </p:blipFill>
        <p:spPr>
          <a:xfrm>
            <a:off x="714240" y="1714680"/>
            <a:ext cx="2190960" cy="1645920"/>
          </a:xfrm>
          <a:prstGeom prst="rect">
            <a:avLst/>
          </a:prstGeom>
          <a:ln w="0">
            <a:noFill/>
          </a:ln>
        </p:spPr>
      </p:pic>
      <p:sp>
        <p:nvSpPr>
          <p:cNvPr id="411" name="Tekstvak 4"/>
          <p:cNvSpPr/>
          <p:nvPr/>
        </p:nvSpPr>
        <p:spPr>
          <a:xfrm>
            <a:off x="642960" y="3500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schoff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4" descr="onkruidbrander"/>
          <p:cNvPicPr/>
          <p:nvPr/>
        </p:nvPicPr>
        <p:blipFill>
          <a:blip r:embed="rId3"/>
          <a:stretch/>
        </p:blipFill>
        <p:spPr>
          <a:xfrm>
            <a:off x="3571920" y="1714680"/>
            <a:ext cx="2262240" cy="1698480"/>
          </a:xfrm>
          <a:prstGeom prst="rect">
            <a:avLst/>
          </a:prstGeom>
          <a:ln w="0">
            <a:noFill/>
          </a:ln>
        </p:spPr>
      </p:pic>
      <p:sp>
        <p:nvSpPr>
          <p:cNvPr id="413" name="Tekstvak 6"/>
          <p:cNvSpPr/>
          <p:nvPr/>
        </p:nvSpPr>
        <p:spPr>
          <a:xfrm>
            <a:off x="3643200" y="3571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bran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6" descr="aanaarden"/>
          <p:cNvPicPr/>
          <p:nvPr/>
        </p:nvPicPr>
        <p:blipFill>
          <a:blip r:embed="rId4"/>
          <a:stretch/>
        </p:blipFill>
        <p:spPr>
          <a:xfrm>
            <a:off x="6357960" y="1714680"/>
            <a:ext cx="2282760" cy="1714320"/>
          </a:xfrm>
          <a:prstGeom prst="rect">
            <a:avLst/>
          </a:prstGeom>
          <a:ln w="0">
            <a:noFill/>
          </a:ln>
        </p:spPr>
      </p:pic>
      <p:sp>
        <p:nvSpPr>
          <p:cNvPr id="415" name="Tekstvak 8"/>
          <p:cNvSpPr/>
          <p:nvPr/>
        </p:nvSpPr>
        <p:spPr>
          <a:xfrm>
            <a:off x="6500880" y="357192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Aanaar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8" descr="http://www.koppert.nl/uploads/RTEmagicC_c22b2a56a4.jpg.jpg"/>
          <p:cNvPicPr/>
          <p:nvPr/>
        </p:nvPicPr>
        <p:blipFill>
          <a:blip r:embed="rId5"/>
          <a:stretch/>
        </p:blipFill>
        <p:spPr>
          <a:xfrm>
            <a:off x="1000080" y="4357800"/>
            <a:ext cx="1214640" cy="1228680"/>
          </a:xfrm>
          <a:prstGeom prst="rect">
            <a:avLst/>
          </a:prstGeom>
          <a:ln w="0">
            <a:noFill/>
          </a:ln>
        </p:spPr>
      </p:pic>
      <p:sp>
        <p:nvSpPr>
          <p:cNvPr id="417" name="Tekstvak 10"/>
          <p:cNvSpPr/>
          <p:nvPr/>
        </p:nvSpPr>
        <p:spPr>
          <a:xfrm>
            <a:off x="714240" y="592920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Lieveheersbeestje tegen bladlu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10" descr="http://www.koppert.nl/uploads/RTEmagicC_c360a1d610.jpg.jpg"/>
          <p:cNvPicPr/>
          <p:nvPr/>
        </p:nvPicPr>
        <p:blipFill>
          <a:blip r:embed="rId6"/>
          <a:stretch/>
        </p:blipFill>
        <p:spPr>
          <a:xfrm>
            <a:off x="5143680" y="4357800"/>
            <a:ext cx="1442880" cy="1143000"/>
          </a:xfrm>
          <a:prstGeom prst="rect">
            <a:avLst/>
          </a:prstGeom>
          <a:ln w="0">
            <a:noFill/>
          </a:ln>
        </p:spPr>
      </p:pic>
      <p:sp>
        <p:nvSpPr>
          <p:cNvPr id="419" name="Tekstvak 12"/>
          <p:cNvSpPr/>
          <p:nvPr/>
        </p:nvSpPr>
        <p:spPr>
          <a:xfrm>
            <a:off x="5286240" y="585792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oofmij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12" descr="http://www.koppert.nl/uploads/RTEmagicC_6609ea817a.jpg.jpg"/>
          <p:cNvPicPr/>
          <p:nvPr/>
        </p:nvPicPr>
        <p:blipFill>
          <a:blip r:embed="rId7"/>
          <a:stretch/>
        </p:blipFill>
        <p:spPr>
          <a:xfrm>
            <a:off x="6858000" y="4357800"/>
            <a:ext cx="1882800" cy="1162080"/>
          </a:xfrm>
          <a:prstGeom prst="rect">
            <a:avLst/>
          </a:prstGeom>
          <a:ln w="0">
            <a:noFill/>
          </a:ln>
        </p:spPr>
      </p:pic>
      <p:sp>
        <p:nvSpPr>
          <p:cNvPr id="421" name="Tekstvak 14"/>
          <p:cNvSpPr/>
          <p:nvPr/>
        </p:nvSpPr>
        <p:spPr>
          <a:xfrm>
            <a:off x="7000920" y="58579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luip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el 1" descr=""/>
          <p:cNvPicPr/>
          <p:nvPr/>
        </p:nvPicPr>
        <p:blipFill>
          <a:blip r:embed="rId1"/>
          <a:stretch/>
        </p:blipFill>
        <p:spPr>
          <a:xfrm>
            <a:off x="1646280" y="500040"/>
            <a:ext cx="5754600" cy="7556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ingrepen aan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4" name="Picture 2" descr="http://www.demeter-bd.nl/Images/KoeMetHorens.jpg"/>
          <p:cNvPicPr/>
          <p:nvPr/>
        </p:nvPicPr>
        <p:blipFill>
          <a:blip r:embed="rId2"/>
          <a:stretch/>
        </p:blipFill>
        <p:spPr>
          <a:xfrm>
            <a:off x="1000080" y="3000240"/>
            <a:ext cx="1500120" cy="1500480"/>
          </a:xfrm>
          <a:prstGeom prst="rect">
            <a:avLst/>
          </a:prstGeom>
          <a:ln w="0">
            <a:noFill/>
          </a:ln>
        </p:spPr>
      </p:pic>
      <p:sp>
        <p:nvSpPr>
          <p:cNvPr id="425" name="Tekstvak 4"/>
          <p:cNvSpPr/>
          <p:nvPr/>
        </p:nvSpPr>
        <p:spPr>
          <a:xfrm>
            <a:off x="500040" y="485784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niet onthoor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Picture 4" descr="http://www.willemwever.nl/gxnc/ZyxhvtpHoB.jpeg"/>
          <p:cNvPicPr/>
          <p:nvPr/>
        </p:nvPicPr>
        <p:blipFill>
          <a:blip r:embed="rId3"/>
          <a:stretch/>
        </p:blipFill>
        <p:spPr>
          <a:xfrm>
            <a:off x="3357720" y="314316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427" name="Tekstvak 6"/>
          <p:cNvSpPr/>
          <p:nvPr/>
        </p:nvSpPr>
        <p:spPr>
          <a:xfrm>
            <a:off x="3214800" y="48578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taarten coup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8" descr="CSC_1825.jpg image by bretonniaholland"/>
          <p:cNvPicPr/>
          <p:nvPr/>
        </p:nvPicPr>
        <p:blipFill>
          <a:blip r:embed="rId4"/>
          <a:stretch/>
        </p:blipFill>
        <p:spPr>
          <a:xfrm>
            <a:off x="6357960" y="321480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429" name="Tekstvak 9"/>
          <p:cNvSpPr/>
          <p:nvPr/>
        </p:nvSpPr>
        <p:spPr>
          <a:xfrm>
            <a:off x="6286680" y="4857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navels kap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el 1" descr=""/>
          <p:cNvPicPr/>
          <p:nvPr/>
        </p:nvPicPr>
        <p:blipFill>
          <a:blip r:embed="rId1"/>
          <a:stretch/>
        </p:blipFill>
        <p:spPr>
          <a:xfrm>
            <a:off x="1427040" y="360360"/>
            <a:ext cx="6070680" cy="8287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Zo hoog mogelijk welzijn voor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2" name="Picture 2" descr="http://web.methodus.nl/~vangin/uploads/varken.jpg_50.jpg"/>
          <p:cNvPicPr/>
          <p:nvPr/>
        </p:nvPicPr>
        <p:blipFill>
          <a:blip r:embed="rId2"/>
          <a:stretch/>
        </p:blipFill>
        <p:spPr>
          <a:xfrm>
            <a:off x="642960" y="2857680"/>
            <a:ext cx="2214720" cy="1444320"/>
          </a:xfrm>
          <a:prstGeom prst="rect">
            <a:avLst/>
          </a:prstGeom>
          <a:ln w="0">
            <a:noFill/>
          </a:ln>
        </p:spPr>
      </p:pic>
      <p:sp>
        <p:nvSpPr>
          <p:cNvPr id="433" name="Tekstvak 4"/>
          <p:cNvSpPr/>
          <p:nvPr/>
        </p:nvSpPr>
        <p:spPr>
          <a:xfrm>
            <a:off x="571680" y="44290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Buiten scharr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http://www.ziezo.biz/media/default.aspx/emma/org/10339433/kippen.jpg"/>
          <p:cNvPicPr/>
          <p:nvPr/>
        </p:nvPicPr>
        <p:blipFill>
          <a:blip r:embed="rId3"/>
          <a:stretch/>
        </p:blipFill>
        <p:spPr>
          <a:xfrm>
            <a:off x="3571920" y="2786040"/>
            <a:ext cx="2100240" cy="1500120"/>
          </a:xfrm>
          <a:prstGeom prst="rect">
            <a:avLst/>
          </a:prstGeom>
          <a:ln w="0">
            <a:noFill/>
          </a:ln>
        </p:spPr>
      </p:pic>
      <p:sp>
        <p:nvSpPr>
          <p:cNvPr id="435" name="Tekstvak 6"/>
          <p:cNvSpPr/>
          <p:nvPr/>
        </p:nvSpPr>
        <p:spPr>
          <a:xfrm>
            <a:off x="5715000" y="300024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ok in de stal meer ruimte, daglicht, verse lucht en stroois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6" descr="http://www.obio.nl/obiofotos/albums/2009-09-19Septemberneisimmer/CRW_3916.jpg"/>
          <p:cNvPicPr/>
          <p:nvPr/>
        </p:nvPicPr>
        <p:blipFill>
          <a:blip r:embed="rId4"/>
          <a:stretch/>
        </p:blipFill>
        <p:spPr>
          <a:xfrm>
            <a:off x="5929200" y="4857840"/>
            <a:ext cx="2475000" cy="1643040"/>
          </a:xfrm>
          <a:prstGeom prst="rect">
            <a:avLst/>
          </a:prstGeom>
          <a:ln w="0">
            <a:noFill/>
          </a:ln>
        </p:spPr>
      </p:pic>
      <p:sp>
        <p:nvSpPr>
          <p:cNvPr id="437" name="Tekstvak 8"/>
          <p:cNvSpPr/>
          <p:nvPr/>
        </p:nvSpPr>
        <p:spPr>
          <a:xfrm>
            <a:off x="3786120" y="507204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verplich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‘</a:t>
            </a: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 zomers in de we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el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mijn hooilandje - my hay meadow by AnneTanne."/>
          <p:cNvPicPr/>
          <p:nvPr/>
        </p:nvPicPr>
        <p:blipFill>
          <a:blip r:embed="rId2"/>
          <a:stretch/>
        </p:blipFill>
        <p:spPr>
          <a:xfrm>
            <a:off x="785880" y="1714680"/>
            <a:ext cx="2044800" cy="1357200"/>
          </a:xfrm>
          <a:prstGeom prst="rect">
            <a:avLst/>
          </a:prstGeom>
          <a:ln w="0">
            <a:noFill/>
          </a:ln>
        </p:spPr>
      </p:pic>
      <p:sp>
        <p:nvSpPr>
          <p:cNvPr id="440" name="Tekstvak 4"/>
          <p:cNvSpPr/>
          <p:nvPr/>
        </p:nvSpPr>
        <p:spPr>
          <a:xfrm>
            <a:off x="642960" y="32860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eel kruiden in gras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4" descr="http://www.borsele.nl/upload/bd2dc07a-d787-4c0b-ac17-95c039e6d452_vlinders.jpg"/>
          <p:cNvPicPr/>
          <p:nvPr/>
        </p:nvPicPr>
        <p:blipFill>
          <a:blip r:embed="rId3"/>
          <a:stretch/>
        </p:blipFill>
        <p:spPr>
          <a:xfrm>
            <a:off x="4357800" y="1643040"/>
            <a:ext cx="1838160" cy="13748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Jufferresize.jpg image by demona000"/>
          <p:cNvPicPr/>
          <p:nvPr/>
        </p:nvPicPr>
        <p:blipFill>
          <a:blip r:embed="rId4"/>
          <a:stretch/>
        </p:blipFill>
        <p:spPr>
          <a:xfrm>
            <a:off x="6643800" y="1571760"/>
            <a:ext cx="1199880" cy="1546200"/>
          </a:xfrm>
          <a:prstGeom prst="rect">
            <a:avLst/>
          </a:prstGeom>
          <a:ln w="0">
            <a:noFill/>
          </a:ln>
        </p:spPr>
      </p:pic>
      <p:sp>
        <p:nvSpPr>
          <p:cNvPr id="443" name="Tekstvak 8"/>
          <p:cNvSpPr/>
          <p:nvPr/>
        </p:nvSpPr>
        <p:spPr>
          <a:xfrm>
            <a:off x="4286160" y="32860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Daardoor meer vlinders en insec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10" descr="http://www.tgsoftware.nl/software/tijger32/catalog/bio_bod.jpg"/>
          <p:cNvPicPr/>
          <p:nvPr/>
        </p:nvPicPr>
        <p:blipFill>
          <a:blip r:embed="rId5"/>
          <a:stretch/>
        </p:blipFill>
        <p:spPr>
          <a:xfrm>
            <a:off x="714240" y="3929040"/>
            <a:ext cx="2810160" cy="1930320"/>
          </a:xfrm>
          <a:prstGeom prst="rect">
            <a:avLst/>
          </a:prstGeom>
          <a:ln w="0">
            <a:noFill/>
          </a:ln>
        </p:spPr>
      </p:pic>
      <p:sp>
        <p:nvSpPr>
          <p:cNvPr id="445" name="Tekstvak 10"/>
          <p:cNvSpPr/>
          <p:nvPr/>
        </p:nvSpPr>
        <p:spPr>
          <a:xfrm>
            <a:off x="642960" y="614376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zonde bodem met veel diertj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12" descr="http://provincie.overijssel.nl/contents/pages/2376/hotspot_weidevogels.jpg"/>
          <p:cNvPicPr/>
          <p:nvPr/>
        </p:nvPicPr>
        <p:blipFill>
          <a:blip r:embed="rId6"/>
          <a:stretch/>
        </p:blipFill>
        <p:spPr>
          <a:xfrm>
            <a:off x="5715000" y="3929040"/>
            <a:ext cx="2313000" cy="2028960"/>
          </a:xfrm>
          <a:prstGeom prst="rect">
            <a:avLst/>
          </a:prstGeom>
          <a:ln w="0">
            <a:noFill/>
          </a:ln>
        </p:spPr>
      </p:pic>
      <p:sp>
        <p:nvSpPr>
          <p:cNvPr id="447" name="Tekstvak 12"/>
          <p:cNvSpPr/>
          <p:nvPr/>
        </p:nvSpPr>
        <p:spPr>
          <a:xfrm>
            <a:off x="5572080" y="60721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oed voor weidevog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el 1" descr=""/>
          <p:cNvPicPr/>
          <p:nvPr/>
        </p:nvPicPr>
        <p:blipFill>
          <a:blip r:embed="rId1"/>
          <a:stretch/>
        </p:blipFill>
        <p:spPr>
          <a:xfrm>
            <a:off x="2646360" y="360360"/>
            <a:ext cx="3894120" cy="7794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Beperkte anti-biotica bij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erke rassen gebruik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genenetische manipulati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Ruime vruchtwisseling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renge controle door Ska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Titel 1" descr=""/>
          <p:cNvPicPr/>
          <p:nvPr/>
        </p:nvPicPr>
        <p:blipFill>
          <a:blip r:embed="rId1"/>
          <a:stretch/>
        </p:blipFill>
        <p:spPr>
          <a:xfrm>
            <a:off x="1073160" y="328680"/>
            <a:ext cx="7473960" cy="11714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http://www.admb.be/evap/evap.lees_blob?p_file=F31372/BIOCIDE.JPG"/>
          <p:cNvPicPr/>
          <p:nvPr/>
        </p:nvPicPr>
        <p:blipFill>
          <a:blip r:embed="rId2"/>
          <a:stretch/>
        </p:blipFill>
        <p:spPr>
          <a:xfrm>
            <a:off x="571680" y="1643040"/>
            <a:ext cx="1703160" cy="1428840"/>
          </a:xfrm>
          <a:prstGeom prst="rect">
            <a:avLst/>
          </a:prstGeom>
          <a:ln w="0">
            <a:noFill/>
          </a:ln>
        </p:spPr>
      </p:pic>
      <p:sp>
        <p:nvSpPr>
          <p:cNvPr id="452" name="Tekstvak 4"/>
          <p:cNvSpPr/>
          <p:nvPr/>
        </p:nvSpPr>
        <p:spPr>
          <a:xfrm>
            <a:off x="2786040" y="21430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resten van gif in je voe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Picture 4" descr="http://images.volkskrant.com/hartziel/uploads/users/legacy/wortelen1211378848.jpg"/>
          <p:cNvPicPr/>
          <p:nvPr/>
        </p:nvPicPr>
        <p:blipFill>
          <a:blip r:embed="rId3"/>
          <a:stretch/>
        </p:blipFill>
        <p:spPr>
          <a:xfrm>
            <a:off x="571680" y="3286080"/>
            <a:ext cx="1231560" cy="1643040"/>
          </a:xfrm>
          <a:prstGeom prst="rect">
            <a:avLst/>
          </a:prstGeom>
          <a:ln w="0">
            <a:noFill/>
          </a:ln>
        </p:spPr>
      </p:pic>
      <p:sp>
        <p:nvSpPr>
          <p:cNvPr id="454" name="Tekstvak 6"/>
          <p:cNvSpPr/>
          <p:nvPr/>
        </p:nvSpPr>
        <p:spPr>
          <a:xfrm>
            <a:off x="2214720" y="357192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Producten zijn vaak smaakvoller omdat ze langzaam gegroeid en gerijpt zij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kstvak 8"/>
          <p:cNvSpPr/>
          <p:nvPr/>
        </p:nvSpPr>
        <p:spPr>
          <a:xfrm>
            <a:off x="2357280" y="5286240"/>
            <a:ext cx="61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Meer bijzondere voedingsstoffen zoals Omega-3 vetzuren, anti-oxidanten en vitamine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Afbeelding 2" descr=""/>
          <p:cNvPicPr/>
          <p:nvPr/>
        </p:nvPicPr>
        <p:blipFill>
          <a:blip r:embed="rId4"/>
          <a:stretch/>
        </p:blipFill>
        <p:spPr>
          <a:xfrm>
            <a:off x="571680" y="5084640"/>
            <a:ext cx="14032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21:26:55Z</dcterms:created>
  <dc:creator>wouter keppel</dc:creator>
  <dc:description/>
  <dc:language>en-US</dc:language>
  <cp:lastModifiedBy>Mecheline Lips-Maas</cp:lastModifiedBy>
  <dcterms:modified xsi:type="dcterms:W3CDTF">2017-01-26T12:59:40Z</dcterms:modified>
  <cp:revision>32</cp:revision>
  <dc:subject/>
  <dc:title>BIOLOGISCHE VOED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aredWithUsers">
    <vt:lpwstr>19;#Mecheline Lips-Maas</vt:lpwstr>
  </property>
  <property fmtid="{D5CDD505-2E9C-101B-9397-08002B2CF9AE}" pid="3" name="display_urn:schemas-microsoft-com:office:office#SharedWithUsers">
    <vt:lpwstr>Mecheline Lips-Maas</vt:lpwstr>
  </property>
</Properties>
</file>