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12.jpeg" ContentType="image/jpeg"/>
  <Override PartName="/ppt/media/image19.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wmf" ContentType="image/x-wmf"/>
  <Override PartName="/ppt/media/image2.jpeg" ContentType="image/jpeg"/>
  <Override PartName="/ppt/media/image15.png" ContentType="image/png"/>
  <Override PartName="/ppt/media/image3.jpeg" ContentType="image/jpeg"/>
  <Override PartName="/ppt/media/image6.jpeg" ContentType="image/jpeg"/>
  <Override PartName="/ppt/media/image11.jpeg" ContentType="image/jpe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6"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7EEAE-EE92-4128-AA9C-6DD041B58F35}"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853920" y="744480"/>
            <a:ext cx="4961160" cy="3722760"/>
          </a:xfrm>
          <a:prstGeom prst="rect">
            <a:avLst/>
          </a:prstGeom>
          <a:ln w="0">
            <a:noFill/>
          </a:ln>
        </p:spPr>
      </p:sp>
      <p:sp>
        <p:nvSpPr>
          <p:cNvPr id="57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B1C0F-2623-4012-BD7E-6A9775607401}"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853920" y="744480"/>
            <a:ext cx="4961160" cy="3722760"/>
          </a:xfrm>
          <a:prstGeom prst="rect">
            <a:avLst/>
          </a:prstGeom>
          <a:ln w="0">
            <a:noFill/>
          </a:ln>
        </p:spPr>
      </p:sp>
      <p:sp>
        <p:nvSpPr>
          <p:cNvPr id="59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nickers als voorbeeld van een populair tussendoortje bij jongeren.</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853920" y="744480"/>
            <a:ext cx="4961160" cy="3722760"/>
          </a:xfrm>
          <a:prstGeom prst="rect">
            <a:avLst/>
          </a:prstGeom>
          <a:ln w="0">
            <a:noFill/>
          </a:ln>
        </p:spPr>
      </p:sp>
      <p:sp>
        <p:nvSpPr>
          <p:cNvPr id="59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AEE2F-2592-4E8B-974B-CEB6A1EDE301}"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853920" y="744480"/>
            <a:ext cx="4961160" cy="3722760"/>
          </a:xfrm>
          <a:prstGeom prst="rect">
            <a:avLst/>
          </a:prstGeom>
          <a:ln w="0">
            <a:noFill/>
          </a:ln>
        </p:spPr>
      </p:sp>
      <p:sp>
        <p:nvSpPr>
          <p:cNvPr id="59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8221D-F8B9-4013-86F7-211774EB5709}"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853920" y="744480"/>
            <a:ext cx="4961160" cy="3722760"/>
          </a:xfrm>
          <a:prstGeom prst="rect">
            <a:avLst/>
          </a:prstGeom>
          <a:ln w="0">
            <a:noFill/>
          </a:ln>
        </p:spPr>
      </p:sp>
      <p:sp>
        <p:nvSpPr>
          <p:cNvPr id="59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deze drank bestaat in de eerste plaats uit sprankelend water; dan</a:t>
            </a:r>
            <a:r>
              <a:rPr b="1" lang="nl-BE" sz="1200" spc="-1" strike="noStrike">
                <a:solidFill>
                  <a:srgbClr val="000000"/>
                </a:solidFill>
                <a:latin typeface="Calibri"/>
              </a:rPr>
              <a:t> </a:t>
            </a:r>
            <a:r>
              <a:rPr b="0" lang="nl-BE" sz="1200" spc="-1" strike="noStrike">
                <a:solidFill>
                  <a:srgbClr val="000000"/>
                </a:solidFill>
                <a:latin typeface="Calibri"/>
              </a:rPr>
              <a:t>suiker; en op de derde plaats komt het sinaasappelsap uit sapconcentraat (6%). Wat vertelt dit ons? Suiker is een belangrijk ingrediënt van deze drank en het product bevat méér suiker dan vruchten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ijk ook eens naar het volgende voorbeeld of laat de leerlingen de ingrediëntenlijst zi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bevat eveneens sprankelend water als eerste ingrediënt, maar hier staat geen suiker in het lijstje. Sinaasappelsap staat op de tweede plaats. Deze drank bevat geen suiker maar wel zoetstoffen om toch een zoete smaak te geven. De zoetstoffen in deze drank zijn aspartaam en natrium-sacharine. Je hebt er in verhouding veel minder van nodig dan van suiker, vandaar dat beide een stuk verder in de ingrediëntenlijst sta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853920" y="744480"/>
            <a:ext cx="4961160" cy="3722760"/>
          </a:xfrm>
          <a:prstGeom prst="rect">
            <a:avLst/>
          </a:prstGeom>
          <a:ln w="0">
            <a:noFill/>
          </a:ln>
        </p:spPr>
      </p:sp>
      <p:sp>
        <p:nvSpPr>
          <p:cNvPr id="60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Energie: Kilocalorieën wordt in ons land het vaakst gebruikt. We spreken meestal verkort van ‘calorieën’ terwijl eigenlijk kilocalorieën (afgekort kcal) bedoeld wor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oolhydraten: Suikers vind je in voeding die zoet smaakt: bv. in frisdrank, suikerklontjes en fruit. Zetmeel zit onder andere in aardappelen, brood, pasta, bloem. In een koekje zit zowel suiker als zetme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Vetten: Verzadigde vetten zijn nadelig voor ons hart en bloedvaten, onverzadigde vetten zijn goed voor ons hart en bloedvaten. Onthoud het zo: </a:t>
            </a:r>
            <a:r>
              <a:rPr b="0" lang="nl-BE" sz="1200" spc="-1" strike="noStrike" u="sng">
                <a:solidFill>
                  <a:srgbClr val="000000"/>
                </a:solidFill>
                <a:uFillTx/>
                <a:latin typeface="Calibri"/>
              </a:rPr>
              <a:t>VERzadigd = VERkeerd, Onverzadigd = Oké. </a:t>
            </a:r>
            <a:r>
              <a:rPr b="0" lang="nl-BE" sz="1200" spc="-1" strike="noStrike">
                <a:solidFill>
                  <a:srgbClr val="000000"/>
                </a:solidFill>
                <a:latin typeface="Calibri"/>
              </a:rPr>
              <a:t>de verhouding verzadigd/onverzadigd is bij voorkeur &lt; 1/3 (belangrijk bij smeer- en bereidingsvetten, gebak). De totale hoeveelheid vet wordt best beperk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het product Fanta Orange bevat 48 kcal per 100 ml. Deze kcal zijn enkel afkomstig van de suiker. Het product bevat namelijk geen (0 g) vet en geen (0 g) eiw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dit product bevat 506 kcal per 100 g. Deze zijn afkomstig van zowel eiwitten, koolhydraten als vetten. Het product is vooral rijk aan suikers (47,8 g) en vet (27,4 g). Hiervan is 10 g verzadigd vet (meer dan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853920" y="744480"/>
            <a:ext cx="4961160" cy="3722760"/>
          </a:xfrm>
          <a:prstGeom prst="rect">
            <a:avLst/>
          </a:prstGeom>
          <a:ln w="0">
            <a:noFill/>
          </a:ln>
        </p:spPr>
      </p:sp>
      <p:sp>
        <p:nvSpPr>
          <p:cNvPr id="60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853920" y="744480"/>
            <a:ext cx="4961160" cy="3722760"/>
          </a:xfrm>
          <a:prstGeom prst="rect">
            <a:avLst/>
          </a:prstGeom>
          <a:ln w="0">
            <a:noFill/>
          </a:ln>
        </p:spPr>
      </p:sp>
      <p:sp>
        <p:nvSpPr>
          <p:cNvPr id="60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oeveel energie en voedingsstoffen je op een dag nodig hebt is namelijk afhankelijk van je leeftijd, je geslacht en hoe actief je bent. Zo heeft een volwassen man gemiddeld 2500 kcal nodig per dag, een vrouw ongeveer 2000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een flesje van 250 ml bevat 120 kcal en 29 g suikers. De hoeveelheid suikers is 32% van de dagelijkse voedingsrichtlijn voor suikers. M.a.w. je mag dagelijks 3 flesjes drinken om aan de maximale hoeveelheid suiker te komen. Maar, suiker zit natuurlijk ook nog in een heleboel andere producten zoals gebak, ontbijtgranen, gesuikerde melkproducten, snoe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zero. Hier is de portie een blikje van 330 ml. Let hierop wanneer je verschillende producten met elkaar vergelijkt. Een blikje bevat slechts 9 kcal. Ook het suikergehalte is laag doordat er kunstmatige zoetstoffen gebruikt zijn. De aanwezige suikers zijn afkomstig van het sinaasappel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hier is geen ADH symbool weergegeven, maar in de tabel met de voedingswaarde is wel de hoeveelheid per portie van 50 g terug te vinden. Eén reep levert je 253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853920" y="744480"/>
            <a:ext cx="4961160" cy="3722760"/>
          </a:xfrm>
          <a:prstGeom prst="rect">
            <a:avLst/>
          </a:prstGeom>
          <a:ln w="0">
            <a:noFill/>
          </a:ln>
        </p:spPr>
      </p:sp>
      <p:sp>
        <p:nvSpPr>
          <p:cNvPr id="60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et ℮ teken dat regelmatig wordt gebruikt, geeft weer dat als men het product zou nawegen het niet steeds het exact vermelde gewicht weegt. Het product mag binnen een zekere marge afwij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het gewicht of de inhoud wordt bij dranken steeds weergegeven in ml. Dit flesje heeft als inhoud 250 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Snickers: </a:t>
            </a:r>
            <a:r>
              <a:rPr b="0" lang="nl-BE" sz="1200" spc="-1" strike="noStrike">
                <a:solidFill>
                  <a:srgbClr val="000000"/>
                </a:solidFill>
                <a:latin typeface="Tahoma"/>
              </a:rPr>
              <a:t>12 stuks van elk 50 g (600g in tota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853920" y="744480"/>
            <a:ext cx="4961160" cy="3722760"/>
          </a:xfrm>
          <a:prstGeom prst="rect">
            <a:avLst/>
          </a:prstGeom>
          <a:ln w="0">
            <a:noFill/>
          </a:ln>
        </p:spPr>
      </p:sp>
      <p:sp>
        <p:nvSpPr>
          <p:cNvPr id="60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oms  wordt er ook weergegeven hoe lang het product nog kan gebruikt worden na opening van de verpakking: bv. ‘na opening nog 3 dagen houdbaar in de koelkas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853920" y="744480"/>
            <a:ext cx="4961160" cy="3722760"/>
          </a:xfrm>
          <a:prstGeom prst="rect">
            <a:avLst/>
          </a:prstGeom>
          <a:ln w="0">
            <a:noFill/>
          </a:ln>
        </p:spPr>
      </p:sp>
      <p:sp>
        <p:nvSpPr>
          <p:cNvPr id="57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6A296-1E24-446C-A52C-7D7207656640}"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853920" y="744480"/>
            <a:ext cx="4961160" cy="3722760"/>
          </a:xfrm>
          <a:prstGeom prst="rect">
            <a:avLst/>
          </a:prstGeom>
          <a:ln w="0">
            <a:noFill/>
          </a:ln>
        </p:spPr>
      </p:sp>
      <p:sp>
        <p:nvSpPr>
          <p:cNvPr id="61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1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F4847-A0DE-4EF3-BEEC-8EFC8FCCE352}"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853920" y="744480"/>
            <a:ext cx="4961160" cy="3722760"/>
          </a:xfrm>
          <a:prstGeom prst="rect">
            <a:avLst/>
          </a:prstGeom>
          <a:ln w="0">
            <a:noFill/>
          </a:ln>
        </p:spPr>
      </p:sp>
      <p:sp>
        <p:nvSpPr>
          <p:cNvPr id="61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3C28A-36A3-41E5-A3A3-25C9D6DE72BA}"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853920" y="744480"/>
            <a:ext cx="4961160" cy="3722760"/>
          </a:xfrm>
          <a:prstGeom prst="rect">
            <a:avLst/>
          </a:prstGeom>
          <a:ln w="0">
            <a:noFill/>
          </a:ln>
        </p:spPr>
      </p:sp>
      <p:sp>
        <p:nvSpPr>
          <p:cNvPr id="61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A2A59-B5FE-421F-B4EF-582D85D20D13}"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853920" y="744480"/>
            <a:ext cx="4961160" cy="3722760"/>
          </a:xfrm>
          <a:prstGeom prst="rect">
            <a:avLst/>
          </a:prstGeom>
          <a:ln w="0">
            <a:noFill/>
          </a:ln>
        </p:spPr>
      </p:sp>
      <p:sp>
        <p:nvSpPr>
          <p:cNvPr id="62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2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89CF5-D600-4964-ACDC-91BC88C743A1}"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853920" y="744480"/>
            <a:ext cx="4961160" cy="3722760"/>
          </a:xfrm>
          <a:prstGeom prst="rect">
            <a:avLst/>
          </a:prstGeom>
          <a:ln w="0">
            <a:noFill/>
          </a:ln>
        </p:spPr>
      </p:sp>
      <p:sp>
        <p:nvSpPr>
          <p:cNvPr id="62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Maak duidelijk dat je even grote hoeveelheden gaat vergelijken: stel je voor dat je van elk van de beschikbare dranken 100 ml uitschenkt in een gl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Laat 2 leerlingen naar voor komen om de opdracht uit te voeren. De rest van de klas mag advies geven over de volgorde.</a:t>
            </a:r>
            <a:endParaRPr b="0" lang="en-US" sz="1200" spc="-1" strike="noStrike">
              <a:solidFill>
                <a:srgbClr val="000000"/>
              </a:solidFill>
              <a:latin typeface="Calibri"/>
            </a:endParaRPr>
          </a:p>
        </p:txBody>
      </p:sp>
      <p:sp>
        <p:nvSpPr>
          <p:cNvPr id="62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C23AE-2EF3-4493-9E6D-96ADE51A68FE}"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853920" y="744480"/>
            <a:ext cx="4961160" cy="3722760"/>
          </a:xfrm>
          <a:prstGeom prst="rect">
            <a:avLst/>
          </a:prstGeom>
          <a:ln w="0">
            <a:noFill/>
          </a:ln>
        </p:spPr>
      </p:sp>
      <p:sp>
        <p:nvSpPr>
          <p:cNvPr id="62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Bespreek de voedingswaarde: welke dranken brengen vitaminen, mineralen en vezels aan? Welke dranken bevatten suiker? Welke bevatten zoetstoffen? Welke dranken bevatten cafeï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F7EA7-BD33-4140-BBF9-C72CD0E47671}"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853920" y="744480"/>
            <a:ext cx="4961160" cy="3722760"/>
          </a:xfrm>
          <a:prstGeom prst="rect">
            <a:avLst/>
          </a:prstGeom>
          <a:ln w="0">
            <a:noFill/>
          </a:ln>
        </p:spPr>
      </p:sp>
      <p:sp>
        <p:nvSpPr>
          <p:cNvPr id="62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12A65-1433-4133-AA8A-465830E0738D}"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853920" y="744480"/>
            <a:ext cx="4961160" cy="3722760"/>
          </a:xfrm>
          <a:prstGeom prst="rect">
            <a:avLst/>
          </a:prstGeom>
          <a:ln w="0">
            <a:noFill/>
          </a:ln>
        </p:spPr>
      </p:sp>
      <p:sp>
        <p:nvSpPr>
          <p:cNvPr id="63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348EF-DE13-4B0E-B995-15E95CEC5376}"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853920" y="744480"/>
            <a:ext cx="4961160" cy="3722760"/>
          </a:xfrm>
          <a:prstGeom prst="rect">
            <a:avLst/>
          </a:prstGeom>
          <a:ln w="0">
            <a:noFill/>
          </a:ln>
        </p:spPr>
      </p:sp>
      <p:sp>
        <p:nvSpPr>
          <p:cNvPr id="63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BE" sz="1200" spc="-1" strike="noStrike">
              <a:solidFill>
                <a:srgbClr val="000000"/>
              </a:solidFill>
              <a:latin typeface="Calibri"/>
            </a:endParaRPr>
          </a:p>
        </p:txBody>
      </p:sp>
      <p:sp>
        <p:nvSpPr>
          <p:cNvPr id="63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CB0BB-A24E-46E9-B3A1-67BB4D4285D9}"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853920" y="744480"/>
            <a:ext cx="4961160" cy="3722760"/>
          </a:xfrm>
          <a:prstGeom prst="rect">
            <a:avLst/>
          </a:prstGeom>
          <a:ln w="0">
            <a:noFill/>
          </a:ln>
        </p:spPr>
      </p:sp>
      <p:sp>
        <p:nvSpPr>
          <p:cNvPr id="58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8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370B9-D00E-4C5D-9F25-300D483A217F}"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853920" y="744480"/>
            <a:ext cx="4961160" cy="3722760"/>
          </a:xfrm>
          <a:prstGeom prst="rect">
            <a:avLst/>
          </a:prstGeom>
          <a:ln w="0">
            <a:noFill/>
          </a:ln>
        </p:spPr>
      </p:sp>
      <p:sp>
        <p:nvSpPr>
          <p:cNvPr id="58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inleiding stelt de leerkracht de bovenstaande vrag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De antwoorden op de vraag ‘welke informatie vind je op een voedingsetiket’ worden door de leerkracht op het bord genoteerd. Daarna kan verder gegaan worden met de bespreking van de verschillende onderdelen van een etiket aan de hand van een voorbeeld (zie volgende slides).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853920" y="744480"/>
            <a:ext cx="4961160" cy="3722760"/>
          </a:xfrm>
          <a:prstGeom prst="rect">
            <a:avLst/>
          </a:prstGeom>
          <a:ln w="0">
            <a:noFill/>
          </a:ln>
        </p:spPr>
      </p:sp>
      <p:sp>
        <p:nvSpPr>
          <p:cNvPr id="58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We bespreken hieronder de belangrijkste onderdelen van een etiket: welke informatie geeft het en hoe kan je die gebruiken om na te gaan of het product past in een gezonde voeding? We gebruiken 3 voorbeelden om dit telkens op toe te passen. Je kan ook elke leerling een verpakking van een drank of een tussendoortje geven om zelf de verschillende delen op te zoeken en de gegevens af te lez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853920" y="744480"/>
            <a:ext cx="4961160" cy="3722760"/>
          </a:xfrm>
          <a:prstGeom prst="rect">
            <a:avLst/>
          </a:prstGeom>
          <a:ln w="0">
            <a:noFill/>
          </a:ln>
        </p:spPr>
      </p:sp>
      <p:sp>
        <p:nvSpPr>
          <p:cNvPr id="58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eerste voorbeeld nemen we Fanta Orange. Fanta is de </a:t>
            </a:r>
            <a:r>
              <a:rPr b="1" lang="nl-BE" sz="1200" spc="-1" strike="noStrike">
                <a:solidFill>
                  <a:srgbClr val="000000"/>
                </a:solidFill>
                <a:latin typeface="Calibri"/>
              </a:rPr>
              <a:t>merknaam. </a:t>
            </a:r>
            <a:r>
              <a:rPr b="0" lang="nl-BE" sz="1200" spc="-1" strike="noStrike">
                <a:solidFill>
                  <a:srgbClr val="000000"/>
                </a:solidFill>
                <a:latin typeface="Calibri"/>
              </a:rPr>
              <a:t>Daarnaast is er ook een </a:t>
            </a:r>
            <a:r>
              <a:rPr b="1" lang="nl-BE" sz="1200" spc="-1" strike="noStrike">
                <a:solidFill>
                  <a:srgbClr val="000000"/>
                </a:solidFill>
                <a:latin typeface="Calibri"/>
              </a:rPr>
              <a:t>productnaam</a:t>
            </a:r>
            <a:r>
              <a:rPr b="0" lang="nl-BE" sz="1200" spc="-1" strike="noStrike">
                <a:solidFill>
                  <a:srgbClr val="000000"/>
                </a:solidFill>
                <a:latin typeface="Calibri"/>
              </a:rPr>
              <a:t> te vinden, namelijk ‘frisdrank met sinaasappelsap’. Dit beschrijft wat voor een product het i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853920" y="744480"/>
            <a:ext cx="4961160" cy="3722760"/>
          </a:xfrm>
          <a:prstGeom prst="rect">
            <a:avLst/>
          </a:prstGeom>
          <a:ln w="0">
            <a:noFill/>
          </a:ln>
        </p:spPr>
      </p:sp>
      <p:sp>
        <p:nvSpPr>
          <p:cNvPr id="58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is de light versie van Fanta orange. Gezoet met kunstmatige zoetstoffen in plaats van suiker.</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DCF2CB-DCAE-4FD8-893B-9E7B52DD44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0347E-931F-44AB-8A4B-D48CB2E6D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A5BE4E-DDB4-4862-8408-0BC0B1D998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1C8C89-325D-41D4-A3C2-6957AD18BB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E84015-CA86-47C5-98AB-59FD09A1ED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267FB2-77CF-49B8-975F-FFDBA632AC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33CB2A-B6B1-447C-9F3E-28C971C54B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334034-07B8-4AE1-B81C-DCC15277A7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4C26CA-9BBB-4468-9656-CB41F1CF7D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6498802-8EE6-4409-8476-4B31D14DC31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5F03838-E9FA-4319-8C7D-4BC2A96ECEB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FA3E3E1-44DB-49EB-BA64-4AB12D3F983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6556DB-E0E8-4546-AF29-0E163479ED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80E8BD5-6E96-45F4-9524-ED995B3E143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C69E50E-3296-4915-A31B-587E3E4F9CF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1EF9D02-FF36-4C19-9A92-99D34A033AF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37B229A-D39F-4AE8-B350-F8CD475AA6E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3D8CC19-FD8F-4237-B472-16DF8EFAD3D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9D42613-53CD-4988-AAFA-9872433BBD2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4F94506-D2EF-40F2-9B41-1BEF4C5C38E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48EC6D3-08C1-4CF0-8732-1A48D66B05E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5B4C5B2-F28A-4520-BA3B-B26A43A4D49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0256E41-C815-4770-8A4D-92202F0BF3A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6783A2-5B76-4D67-AAE3-62435A1C83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54462FD-BC90-4DE9-87DE-02EC09CFF61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1AC6CEC-A161-4181-9507-03F2BF3F43E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4F5E2DD-9709-4BF2-8D98-C1E59174F33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214063F-7FF6-4527-9BF4-340CA573BFD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B7658A2-142F-415F-A108-5D973FF1911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80BC633-B31F-45D3-B250-04908CD43EF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7C5103D-6299-4833-91FE-9BAD07597A6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A8126C1-77E8-454B-AC96-3AED3BFF2D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D260F6-D869-4D61-9F24-21424D72A92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D740903-D792-4948-8E87-5524021164B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C806E6-68AF-4969-9390-565491F982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7D82BBC-11DA-4F3F-AEC8-A38B944126E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1DA5BFC-9745-42C7-9418-5DD445B1D8B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9D5DC96-7736-4BB2-818B-426DDC54567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84659CC-8AFD-4541-AF6C-701943D0EA7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DC8BB31-7CAA-4AD1-BD35-819C303ECA0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E95CF88-0ACF-4E68-9293-6B2D7AE3C13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2969007-5390-409E-82BC-FB8CF955D5D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6DED9D4-DF78-4B0E-8EE4-5A2A2126ECF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9DA9861-02D7-448A-801D-237B6AE1241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B22B1FC-0959-4C4F-98BE-61F18EA82B4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A370D6-E2E0-4020-9CE8-B0634865B8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8540760-F7B8-46F2-BD1F-0C9563621EA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F19A549-5F2B-497E-A491-6CB97ABA2BA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299F318-8E5A-46AA-B8AF-977C51C21D8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F2FB1AD-1177-4FEF-A99E-423F1309F14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4AD4F90-DC3B-4879-9EE5-9898DB97C67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D95BBA-2421-478D-A92B-785F26E05C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F11D46-1A63-43D4-AE0B-96F63AEE8B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E69D3C-73E8-4383-A1DF-6A294EBDE3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18D55-BBA4-43E9-88A6-78C6BC783C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0D900-84A1-4C10-BF73-5241561F6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27D05-A276-4582-BE09-EF130917E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75C36-97D9-432C-8B5E-299907E89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6784B5-AE59-4B01-9D45-43D0C7321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97A06D-E0F2-4B36-85D4-A4270664A3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05E18D-2C0F-45F2-A859-5EB62702DB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70D6D1-27C1-41BC-850C-52C0694FFE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4B7643-9E2B-4EB1-A8D5-63D537E674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05CCDA-5C19-433A-92A5-8A8F3AE482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C3B50F-0206-4BCB-B2AA-92E9134544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33C42D-E819-446C-956F-1DFB2E15E7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EAD0B5-B0DA-4089-B3AC-DE57327459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F7BFF-A851-4581-8755-9D141327E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B96253-2C2B-4FFE-B5D8-C5B2E85CD3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2C8E98-4DB0-42FA-BB75-9FA6A9DB9A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FFBBCF-0623-42F3-A6CD-D01B7F6075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28120C-2BCF-4236-BA73-733919413C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547495-4B0B-4B02-85E9-8CC00914C8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E27DE3-0CCC-4C8B-8183-23D956A49C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438204-E261-40A7-BEBF-771EA550F6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51435A-6518-4F41-90FD-BAE30FB148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7A40FD-5DB8-4F0F-A137-081B487D35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7E08D8-DC1B-434D-98BC-05F925BD6C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F90C3-2695-4C6D-BFE7-80B0BE4C8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9B9DF8-90A2-4AFA-8734-FFFE0FF845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ABF655-56FA-4EAF-BD93-0314EAD959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C8AD69-5C3D-41C5-834D-F5761355EF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796610-DC05-433E-A32F-2FE288C7A2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14FF6A-63D1-4D40-BC63-331A87668E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A6E42C-46C2-4FE4-9A38-14DE6469B0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01DAE5-040D-42EF-B4E2-A1FCB8834D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8752F5-88FF-4ACF-9DC9-778193CDAA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312EB6-1245-44B2-992F-9995CD6F57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1C9F03-F5EA-4D18-A8B7-96AE3CC4A2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0F3FB-0FCD-4082-A37F-7643E6240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568C5C-7BF2-4862-907A-134B649A19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D59CFE-8772-4BF7-B0D4-22DA7CACAE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FE3E63-B822-4EA7-A132-077F390C74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C6FAD0-433E-420D-B577-2A40EE72C3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365E96-D4AA-4FAC-B7F8-D2B8CA79E7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282A28-5C56-4118-A3E6-FAA9D8B0C4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304440-3F9F-498A-AD0D-D96E951A4B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8A3BDE-EF8A-4F56-88F2-D5E3E9D405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B2FE86-58C8-458C-AF23-F5644B484E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41AC26-B273-410E-8189-3B4E497C16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45623-9CC6-4C10-A050-13DB6B90E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E628BF-09EE-4F67-A155-2AC13B6FB2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41B5183-D716-4DC9-99F0-0BD184738F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068A05-76AE-4B5B-9532-B0CEBC7D53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D9EE76-640E-46DF-A21B-2EF70B1900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BCA374-D98F-49E8-8F0A-5D1AA8A7A1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32B900-FAC6-462B-9820-BC4FB4F648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68D3FD-B242-408C-96A5-7DB950F84D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60084C-E2DC-43EB-9910-9451B0980C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DB3380-7425-465D-9AB8-5E322B2F3A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34C1A5-86CA-4915-AA0E-AF5A8B922B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282D5-A8C0-4DD0-95AA-02A147DBC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08BBE6-A939-404C-8B98-E54B5D1650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FDBCE89-AE52-4E0B-A78B-190B0FA9E5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E704F6-B23E-4A97-A282-B97A7AC7EE4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175C7D8-5FDD-413E-A6DE-6C749C4174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0F12A5-953E-4366-9E20-E6501C3F3C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120418-9F18-439D-986A-E77F20DB91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ED453A-47C0-44A5-ADAD-F0F1884731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0225EA-9036-4A5C-B8FB-A90AD570D2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96EFB1-313D-48BE-BD7B-D5BD2FD86F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B4EA57-BD17-4B12-88EE-569284037A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15704-8428-4C98-81F2-DFAC1DF2F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156FC8-4400-4DFC-AC71-C9A6855925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1397C7-FE87-4CC8-9AA3-2E4DAB4DF4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444F2A-6010-460E-81FA-94E4C35371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A2BD3C0-9E2D-4CE0-A012-B8235721FB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7728B8-B670-4618-914C-DAE0FC6801A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3B75B0-ACE6-457F-BC9A-99226409895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2CC871-77C0-4A48-BE2D-8E4E3D9427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0FB7CC-B772-40AC-8F31-AAF1551DF9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71DEFD-AFB1-407F-A75C-864831BA0D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D0099A-045B-4C81-A365-A9C8667665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B5D43-F5E0-42EC-A2BF-1FE58C817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AD0CA5-855A-4B07-A5D3-659BE4C5DF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F59D95-1072-4F02-B1BA-47167075F3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3BD730-CC75-4C09-88C5-8C1F13C345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B752BA-E469-49ED-BDDC-DA6E2C2AAF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4A8120-9324-4278-8CC5-A9F2A6568F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A941562-3857-4EBD-831A-8EE57CB72C1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8A1D36B-4046-4777-9482-D39E38873D1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D18A7FC-C90B-4572-B7BC-1AC78F4C3BF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4A3D5B-6B2E-4773-BC27-9B09662394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FD30E4-668C-4EBC-BFE7-9F5395F3F74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EB9B7-8766-46B1-9FF0-C47F6E27296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3DF95-CF4C-4898-A902-6D8DA90328E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2E42E-FF82-472F-A35E-2BFF700925F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5FA60-0A82-44E1-8CCD-027BDFA8279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CE074-B468-4C56-B1B9-FA0E1881AE0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7B726-0111-4115-A801-9F9768C198A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92C92-CD70-42EA-8CD0-74D9A32724F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8B15E-E0B0-4B1E-B865-2C97864E49B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C06DB-D320-4D4A-A350-C399AD8180B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91E75-DFA2-43AE-BA45-9D676A84ED5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EC993-6D4C-4773-8FFA-B787D48622C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082AA-59CF-48D9-B365-E3A722ABF4E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b050"/>
                </a:solidFill>
                <a:latin typeface="Kristen ITC"/>
              </a:rPr>
              <a:t>Winkeloefening</a:t>
            </a:r>
            <a:endParaRPr b="0" lang="en-US" sz="6000" spc="-1" strike="noStrike">
              <a:solidFill>
                <a:srgbClr val="000000"/>
              </a:solidFill>
              <a:latin typeface="Arial"/>
            </a:endParaRPr>
          </a:p>
        </p:txBody>
      </p:sp>
      <p:sp>
        <p:nvSpPr>
          <p:cNvPr id="500"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Dranken en tussendoortjes</a:t>
            </a:r>
            <a:endParaRPr b="0" lang="en-US" sz="4400" spc="-1" strike="noStrike">
              <a:solidFill>
                <a:srgbClr val="000000"/>
              </a:solidFill>
              <a:latin typeface="Arial"/>
            </a:endParaRPr>
          </a:p>
        </p:txBody>
      </p:sp>
      <p:pic>
        <p:nvPicPr>
          <p:cNvPr id="501" name="Picture 7" descr="j0287116"/>
          <p:cNvPicPr/>
          <p:nvPr/>
        </p:nvPicPr>
        <p:blipFill>
          <a:blip r:embed="rId1"/>
          <a:stretch/>
        </p:blipFill>
        <p:spPr>
          <a:xfrm>
            <a:off x="34920" y="111240"/>
            <a:ext cx="2016000" cy="1877760"/>
          </a:xfrm>
          <a:prstGeom prst="rect">
            <a:avLst/>
          </a:prstGeom>
          <a:ln w="0">
            <a:noFill/>
          </a:ln>
        </p:spPr>
      </p:pic>
      <p:pic>
        <p:nvPicPr>
          <p:cNvPr id="502" name="Picture 5" descr="image001"/>
          <p:cNvPicPr/>
          <p:nvPr/>
        </p:nvPicPr>
        <p:blipFill>
          <a:blip r:embed="rId2"/>
          <a:stretch/>
        </p:blipFill>
        <p:spPr>
          <a:xfrm>
            <a:off x="611280" y="5842080"/>
            <a:ext cx="1076400" cy="523800"/>
          </a:xfrm>
          <a:prstGeom prst="rect">
            <a:avLst/>
          </a:prstGeom>
          <a:ln w="0">
            <a:noFill/>
          </a:ln>
        </p:spPr>
      </p:pic>
      <p:pic>
        <p:nvPicPr>
          <p:cNvPr id="503" name="Afbeelding 2" descr="Vlaamse Overheid"/>
          <p:cNvPicPr/>
          <p:nvPr/>
        </p:nvPicPr>
        <p:blipFill>
          <a:blip r:embed="rId3"/>
          <a:stretch/>
        </p:blipFill>
        <p:spPr>
          <a:xfrm>
            <a:off x="6732720" y="5805360"/>
            <a:ext cx="1704960" cy="596880"/>
          </a:xfrm>
          <a:prstGeom prst="rect">
            <a:avLst/>
          </a:prstGeom>
          <a:ln w="0">
            <a:noFill/>
          </a:ln>
        </p:spPr>
      </p:pic>
      <p:pic>
        <p:nvPicPr>
          <p:cNvPr id="504" name="Picture 6" descr="Voeding-met"/>
          <p:cNvPicPr/>
          <p:nvPr/>
        </p:nvPicPr>
        <p:blipFill>
          <a:blip r:embed="rId4"/>
          <a:stretch/>
        </p:blipFill>
        <p:spPr>
          <a:xfrm>
            <a:off x="3995640" y="5686560"/>
            <a:ext cx="1157400" cy="833400"/>
          </a:xfrm>
          <a:prstGeom prst="rect">
            <a:avLst/>
          </a:prstGeom>
          <a:ln w="0">
            <a:noFill/>
          </a:ln>
        </p:spPr>
      </p:pic>
      <p:pic>
        <p:nvPicPr>
          <p:cNvPr id="505" name="Picture 4" descr=""/>
          <p:cNvPicPr/>
          <p:nvPr/>
        </p:nvPicPr>
        <p:blipFill>
          <a:blip r:embed="rId5"/>
          <a:stretch/>
        </p:blipFill>
        <p:spPr>
          <a:xfrm>
            <a:off x="6440400" y="0"/>
            <a:ext cx="2703600" cy="177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Afbeelding 2" descr="snickers verpakking.jpg"/>
          <p:cNvPicPr/>
          <p:nvPr/>
        </p:nvPicPr>
        <p:blipFill>
          <a:blip r:embed="rId1"/>
          <a:stretch/>
        </p:blipFill>
        <p:spPr>
          <a:xfrm>
            <a:off x="1979640" y="2637000"/>
            <a:ext cx="5780160" cy="1658880"/>
          </a:xfrm>
          <a:prstGeom prst="rect">
            <a:avLst/>
          </a:prstGeom>
          <a:ln w="0">
            <a:noFill/>
          </a:ln>
        </p:spPr>
      </p:pic>
      <p:sp>
        <p:nvSpPr>
          <p:cNvPr id="52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Snic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95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Snickers</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Gevulde melkchocolade met luchtige vulling (14%), karamel (27%) en geroosterde pinda’s (24%).</a:t>
            </a:r>
            <a:endParaRPr b="0" lang="en-US" sz="1200" spc="-1" strike="noStrike">
              <a:solidFill>
                <a:srgbClr val="000000"/>
              </a:solidFill>
              <a:latin typeface="Arial"/>
            </a:endParaRPr>
          </a:p>
          <a:p>
            <a:pPr>
              <a:lnSpc>
                <a:spcPct val="100000"/>
              </a:lnSpc>
              <a:spcAft>
                <a:spcPts val="10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Ingrediënten: </a:t>
            </a:r>
            <a:r>
              <a:rPr b="0" lang="nl-BE" sz="1200" spc="-1" strike="noStrike">
                <a:solidFill>
                  <a:srgbClr val="000000"/>
                </a:solidFill>
                <a:latin typeface="Tahoma"/>
              </a:rPr>
              <a:t>Suiker, pinda’s, glucosesiroop, magere melkpoeder, plantaardig vet, cacaoboter, cacaomassa, lactose, botervet, weipoeder, zout, emulgator (soja lecithine), kippenei-eiwitpoeder, natuurlijke vanille-extract, gehydroliseerd melkeiwit.</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Inhoud: </a:t>
            </a:r>
            <a:r>
              <a:rPr b="0" lang="nl-BE" sz="1200" spc="-1" strike="noStrike">
                <a:solidFill>
                  <a:srgbClr val="000000"/>
                </a:solidFill>
                <a:latin typeface="Tahoma"/>
              </a:rPr>
              <a:t>12 x 50 g </a:t>
            </a:r>
            <a:r>
              <a:rPr b="0" lang="nl-BE" sz="1800" spc="-1" strike="noStrike">
                <a:solidFill>
                  <a:srgbClr val="000000"/>
                </a:solidFill>
                <a:latin typeface="Arial"/>
              </a:rPr>
              <a:t>℮</a:t>
            </a:r>
            <a:r>
              <a:rPr b="0" lang="nl-BE" sz="1200" spc="-1" strike="noStrike">
                <a:solidFill>
                  <a:srgbClr val="000000"/>
                </a:solidFill>
                <a:latin typeface="Tahoma"/>
              </a:rPr>
              <a:t> (600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Ten minste houdbaar tot: : </a:t>
            </a:r>
            <a:r>
              <a:rPr b="0" lang="nl-BE" sz="1200" spc="-1" strike="noStrike">
                <a:solidFill>
                  <a:srgbClr val="000000"/>
                </a:solidFill>
                <a:latin typeface="Tahoma"/>
              </a:rPr>
              <a:t>08/08/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31" name=""/>
          <p:cNvGraphicFramePr/>
          <p:nvPr/>
        </p:nvGraphicFramePr>
        <p:xfrm>
          <a:off x="1258920" y="2708280"/>
          <a:ext cx="6240600" cy="1655640"/>
        </p:xfrm>
        <a:graphic>
          <a:graphicData uri="http://schemas.openxmlformats.org/drawingml/2006/table">
            <a:tbl>
              <a:tblPr/>
              <a:tblGrid>
                <a:gridCol w="2081160"/>
                <a:gridCol w="2079720"/>
                <a:gridCol w="2079720"/>
              </a:tblGrid>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reep van 5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116 KJ / 506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59 KJ / 253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9.5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3.9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3.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kstvak 3"/>
          <p:cNvSpPr/>
          <p:nvPr/>
        </p:nvSpPr>
        <p:spPr>
          <a:xfrm>
            <a:off x="395280" y="404640"/>
            <a:ext cx="8353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Prince koek (granenbiscuit met vanillevulling)</a:t>
            </a:r>
            <a:endParaRPr b="0" lang="en-US" sz="3200" spc="-1" strike="noStrike">
              <a:solidFill>
                <a:srgbClr val="000000"/>
              </a:solidFill>
              <a:latin typeface="Arial"/>
            </a:endParaRPr>
          </a:p>
        </p:txBody>
      </p:sp>
      <p:pic>
        <p:nvPicPr>
          <p:cNvPr id="533" name="Afbeelding 1" descr=""/>
          <p:cNvPicPr/>
          <p:nvPr/>
        </p:nvPicPr>
        <p:blipFill>
          <a:blip r:embed="rId1"/>
          <a:stretch/>
        </p:blipFill>
        <p:spPr>
          <a:xfrm>
            <a:off x="1719360" y="1870200"/>
            <a:ext cx="5229000" cy="3430440"/>
          </a:xfrm>
          <a:prstGeom prst="rect">
            <a:avLst/>
          </a:prstGeom>
          <a:ln w="0">
            <a:noFill/>
          </a:ln>
        </p:spPr>
      </p:pic>
      <p:pic>
        <p:nvPicPr>
          <p:cNvPr id="534" name="Afbeelding 2" descr=""/>
          <p:cNvPicPr/>
          <p:nvPr/>
        </p:nvPicPr>
        <p:blipFill>
          <a:blip r:embed="rId2"/>
          <a:stretch/>
        </p:blipFill>
        <p:spPr>
          <a:xfrm>
            <a:off x="1857240" y="1600200"/>
            <a:ext cx="5429520" cy="365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2"/>
          <p:cNvSpPr/>
          <p:nvPr/>
        </p:nvSpPr>
        <p:spPr>
          <a:xfrm>
            <a:off x="1960560" y="310356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4"/>
          <p:cNvSpPr/>
          <p:nvPr/>
        </p:nvSpPr>
        <p:spPr>
          <a:xfrm>
            <a:off x="1960560" y="35164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7" name="Picture 2" descr=""/>
          <p:cNvPicPr/>
          <p:nvPr/>
        </p:nvPicPr>
        <p:blipFill>
          <a:blip r:embed="rId1"/>
          <a:stretch/>
        </p:blipFill>
        <p:spPr>
          <a:xfrm>
            <a:off x="1257480" y="979560"/>
            <a:ext cx="6627600" cy="503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1. Ingrediëntenlijst</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Opsomming van alle ingrediënten aanwezig in het product. </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Verplicht voor voorverpakte voedingsmiddelen</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eetje: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teeds in dalende volgorde: wat het meest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oorkomt in het product staat het eerst.</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a:t>
            </a:r>
            <a:r>
              <a:rPr b="0" lang="nl-BE" sz="2800" spc="-1" strike="noStrike">
                <a:solidFill>
                  <a:srgbClr val="000000"/>
                </a:solidFill>
                <a:latin typeface="Tahoma"/>
                <a:ea typeface="Tahoma"/>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t op voor andere benamingen voor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bijvoorbeeld suiker (sacharose, sucrose,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glucosestroop,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Hoeveelheid energie en voedingstoffen die het product bevat </a:t>
            </a:r>
            <a:r>
              <a:rPr b="0" lang="nl-BE" sz="2800" spc="-1" strike="noStrike" u="sng">
                <a:solidFill>
                  <a:srgbClr val="000000"/>
                </a:solidFill>
                <a:uFillTx/>
                <a:latin typeface="Tahoma"/>
                <a:ea typeface="Tahoma"/>
              </a:rPr>
              <a:t>per 100 g</a:t>
            </a:r>
            <a:r>
              <a:rPr b="0" lang="nl-BE" sz="2800" spc="-1" strike="noStrike">
                <a:solidFill>
                  <a:srgbClr val="000000"/>
                </a:solidFill>
                <a:latin typeface="Tahoma"/>
                <a:ea typeface="Tahoma"/>
              </a:rPr>
              <a:t> (voor vaste stoffen) of </a:t>
            </a:r>
            <a:r>
              <a:rPr b="0" lang="nl-BE" sz="2800" spc="-1" strike="noStrike" u="sng">
                <a:solidFill>
                  <a:srgbClr val="000000"/>
                </a:solidFill>
                <a:uFillTx/>
                <a:latin typeface="Tahoma"/>
                <a:ea typeface="Tahoma"/>
              </a:rPr>
              <a:t>per 100 ml</a:t>
            </a:r>
            <a:r>
              <a:rPr b="0" lang="nl-BE" sz="2800" spc="-1" strike="noStrike">
                <a:solidFill>
                  <a:srgbClr val="000000"/>
                </a:solidFill>
                <a:latin typeface="Tahoma"/>
                <a:ea typeface="Tahoma"/>
              </a:rPr>
              <a:t> (voor vloeistoffen).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nergie: </a:t>
            </a:r>
            <a:r>
              <a:rPr b="0" lang="nl-BE" sz="2400" spc="-1" strike="noStrike">
                <a:solidFill>
                  <a:srgbClr val="000000"/>
                </a:solidFill>
                <a:latin typeface="Tahoma"/>
                <a:ea typeface="Tahoma"/>
              </a:rPr>
              <a:t>uitgedrukt in </a:t>
            </a:r>
            <a:r>
              <a:rPr b="0" lang="nl-BE" sz="2400" spc="-1" strike="noStrike" u="sng">
                <a:solidFill>
                  <a:srgbClr val="000000"/>
                </a:solidFill>
                <a:uFillTx/>
                <a:latin typeface="Tahoma"/>
                <a:ea typeface="Tahoma"/>
              </a:rPr>
              <a:t>kilocalorieën </a:t>
            </a:r>
            <a:r>
              <a:rPr b="0" lang="nl-BE" sz="2400" spc="-1" strike="noStrike">
                <a:solidFill>
                  <a:srgbClr val="000000"/>
                </a:solidFill>
                <a:latin typeface="Tahoma"/>
                <a:ea typeface="Tahoma"/>
              </a:rPr>
              <a:t>(kcal) of </a:t>
            </a:r>
            <a:r>
              <a:rPr b="0" lang="nl-BE" sz="2400" spc="-1" strike="noStrike" u="sng">
                <a:solidFill>
                  <a:srgbClr val="000000"/>
                </a:solidFill>
                <a:uFillTx/>
                <a:latin typeface="Tahoma"/>
                <a:ea typeface="Tahoma"/>
              </a:rPr>
              <a:t>kilojoule</a:t>
            </a:r>
            <a:r>
              <a:rPr b="0" lang="nl-BE" sz="2400" spc="-1" strike="noStrike">
                <a:solidFill>
                  <a:srgbClr val="000000"/>
                </a:solidFill>
                <a:latin typeface="Tahoma"/>
                <a:ea typeface="Tahoma"/>
              </a:rPr>
              <a:t> (kJ).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Koolhydraten: </a:t>
            </a:r>
            <a:r>
              <a:rPr b="0" lang="nl-BE" sz="2400" spc="-1" strike="noStrike">
                <a:solidFill>
                  <a:srgbClr val="000000"/>
                </a:solidFill>
                <a:latin typeface="Tahoma"/>
                <a:ea typeface="Tahoma"/>
              </a:rPr>
              <a:t>je hebt enkelvoudige koolhydraten (</a:t>
            </a:r>
            <a:r>
              <a:rPr b="0" lang="nl-BE" sz="2400" spc="-1" strike="noStrike" u="sng">
                <a:solidFill>
                  <a:srgbClr val="000000"/>
                </a:solidFill>
                <a:uFillTx/>
                <a:latin typeface="Tahoma"/>
                <a:ea typeface="Tahoma"/>
              </a:rPr>
              <a:t>suikers</a:t>
            </a:r>
            <a:r>
              <a:rPr b="0" lang="nl-BE" sz="2400" spc="-1" strike="noStrike">
                <a:solidFill>
                  <a:srgbClr val="000000"/>
                </a:solidFill>
                <a:latin typeface="Tahoma"/>
                <a:ea typeface="Tahoma"/>
              </a:rPr>
              <a:t>) en meervoudige koolhydraten (</a:t>
            </a:r>
            <a:r>
              <a:rPr b="0" lang="nl-BE" sz="2400" spc="-1" strike="noStrike" u="sng">
                <a:solidFill>
                  <a:srgbClr val="000000"/>
                </a:solidFill>
                <a:uFillTx/>
                <a:latin typeface="Tahoma"/>
                <a:ea typeface="Tahoma"/>
              </a:rPr>
              <a:t>zetmeel</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tten</a:t>
            </a:r>
            <a:r>
              <a:rPr b="0" lang="nl-BE" sz="2400" spc="-1" strike="noStrike">
                <a:solidFill>
                  <a:srgbClr val="000000"/>
                </a:solidFill>
                <a:latin typeface="Tahoma"/>
                <a:ea typeface="Tahoma"/>
              </a:rPr>
              <a:t> kan je onderverdelen in </a:t>
            </a:r>
            <a:r>
              <a:rPr b="0" lang="nl-BE" sz="2400" spc="-1" strike="noStrike" u="sng">
                <a:solidFill>
                  <a:srgbClr val="000000"/>
                </a:solidFill>
                <a:uFillTx/>
                <a:latin typeface="Tahoma"/>
                <a:ea typeface="Tahoma"/>
              </a:rPr>
              <a:t>verzadigde</a:t>
            </a:r>
            <a:r>
              <a:rPr b="0" lang="nl-BE" sz="2400" spc="-1" strike="noStrike">
                <a:solidFill>
                  <a:srgbClr val="000000"/>
                </a:solidFill>
                <a:latin typeface="Tahoma"/>
                <a:ea typeface="Tahoma"/>
              </a:rPr>
              <a:t> (de slechte) en </a:t>
            </a:r>
            <a:r>
              <a:rPr b="0" lang="nl-BE" sz="2400" spc="-1" strike="noStrike" u="sng">
                <a:solidFill>
                  <a:srgbClr val="000000"/>
                </a:solidFill>
                <a:uFillTx/>
                <a:latin typeface="Tahoma"/>
                <a:ea typeface="Tahoma"/>
              </a:rPr>
              <a:t>onverzadigde </a:t>
            </a:r>
            <a:r>
              <a:rPr b="0" lang="nl-BE" sz="2400" spc="-1" strike="noStrike">
                <a:solidFill>
                  <a:srgbClr val="000000"/>
                </a:solidFill>
                <a:latin typeface="Tahoma"/>
                <a:ea typeface="Tahoma"/>
              </a:rPr>
              <a:t>(de goede) </a:t>
            </a:r>
            <a:r>
              <a:rPr b="0" lang="nl-BE" sz="2400" spc="-1" strike="noStrike" u="sng">
                <a:solidFill>
                  <a:srgbClr val="000000"/>
                </a:solidFill>
                <a:uFillTx/>
                <a:latin typeface="Tahoma"/>
                <a:ea typeface="Tahoma"/>
              </a:rPr>
              <a:t>vetten</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 </a:t>
            </a:r>
            <a:r>
              <a:rPr b="0" lang="nl-BE" sz="2800" spc="-1" strike="noStrike">
                <a:solidFill>
                  <a:srgbClr val="000000"/>
                </a:solidFill>
                <a:latin typeface="Tahoma"/>
                <a:ea typeface="Tahoma"/>
              </a:rPr>
              <a:t>Soms wordt in een extra kolom ook de voedingswaarde </a:t>
            </a:r>
            <a:r>
              <a:rPr b="0" lang="nl-BE" sz="2800" spc="-1" strike="noStrike" u="sng">
                <a:solidFill>
                  <a:srgbClr val="000000"/>
                </a:solidFill>
                <a:uFillTx/>
                <a:latin typeface="Tahoma"/>
                <a:ea typeface="Tahoma"/>
              </a:rPr>
              <a:t>per portie</a:t>
            </a:r>
            <a:r>
              <a:rPr b="0" lang="nl-BE" sz="2800" spc="-1" strike="noStrike">
                <a:solidFill>
                  <a:srgbClr val="000000"/>
                </a:solidFill>
                <a:latin typeface="Tahoma"/>
                <a:ea typeface="Tahoma"/>
              </a:rPr>
              <a:t> weergegev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anchor="t">
            <a:normAutofit fontScale="94000"/>
          </a:bodyPr>
          <a:p>
            <a:pPr lvl="2"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1 kcal = 4,186 kJ</a:t>
            </a:r>
            <a:endParaRPr b="0" lang="en-US" sz="2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Vetten, koolhydraten, eiwitten en alcohol zijn de enige voedingsstoffen die energie leveren</a:t>
            </a:r>
            <a:r>
              <a:rPr b="0" lang="nl-BE" sz="3600" spc="-1" strike="noStrike">
                <a:solidFill>
                  <a:srgbClr val="000000"/>
                </a:solidFill>
                <a:latin typeface="Tahoma"/>
                <a:ea typeface="Tahoma"/>
              </a:rPr>
              <a:t>.</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Hoeveelheid energie in de verschillende voedingsstoffen:</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vet = 9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koolhydraten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eiwit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alcohol = 7 k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3. ADH of aanbevolen dagelijkse hoeveelheid</a:t>
            </a:r>
            <a:endParaRPr b="0" lang="en-US" sz="4400" spc="-1" strike="noStrike">
              <a:solidFill>
                <a:srgbClr val="000000"/>
              </a:solidFill>
              <a:latin typeface="Arial"/>
            </a:endParaRPr>
          </a:p>
        </p:txBody>
      </p:sp>
      <p:sp>
        <p:nvSpPr>
          <p:cNvPr id="545" name="PlaceHolder 2"/>
          <p:cNvSpPr>
            <a:spLocks noGrp="1"/>
          </p:cNvSpPr>
          <p:nvPr>
            <p:ph/>
          </p:nvPr>
        </p:nvSpPr>
        <p:spPr>
          <a:xfrm>
            <a:off x="457200" y="1600200"/>
            <a:ext cx="850752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weergave van de voedingswaarde </a:t>
            </a:r>
            <a:r>
              <a:rPr b="0" lang="nl-BE" sz="3200" spc="-1" strike="noStrike" u="sng">
                <a:solidFill>
                  <a:srgbClr val="000000"/>
                </a:solidFill>
                <a:uFillTx/>
                <a:latin typeface="Tahoma"/>
                <a:ea typeface="Tahoma"/>
              </a:rPr>
              <a:t>per portie</a:t>
            </a:r>
            <a:r>
              <a:rPr b="0" lang="nl-BE" sz="3200" spc="-1" strike="noStrike">
                <a:solidFill>
                  <a:srgbClr val="000000"/>
                </a:solidFill>
                <a:latin typeface="Tahoma"/>
                <a:ea typeface="Tahoma"/>
              </a:rPr>
              <a:t> en in verhouding tot wat je dagelijks nodig heb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De ADH is maar een schatting, d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behoefte verschilt van persoon tot perso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4. Nettogewicht</a:t>
            </a: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gewicht van het voedingsmiddel zonder de verpakking. Soms wordt ook het gewicht per portie vermeld.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 komt van het engels ‘estimate’ wat ‘ongeveer’ betekent. Bv: een product waarop staat 33cl ℮, mag binnen een zekere marge meer of minder dan 33cl beva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5. Houdbaarheidsdatum</a:t>
            </a: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tot wanneer je het product kan bewaren en consumere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op erg bederfelijke waren wordt de </a:t>
            </a:r>
            <a:r>
              <a:rPr b="1" lang="nl-BE" sz="3200" spc="-1" strike="noStrike">
                <a:solidFill>
                  <a:srgbClr val="000000"/>
                </a:solidFill>
                <a:latin typeface="Tahoma"/>
                <a:ea typeface="Tahoma"/>
              </a:rPr>
              <a:t>uiterste consumptiedatum</a:t>
            </a:r>
            <a:r>
              <a:rPr b="0" lang="nl-BE" sz="3200" spc="-1" strike="noStrike">
                <a:solidFill>
                  <a:srgbClr val="000000"/>
                </a:solidFill>
                <a:latin typeface="Tahoma"/>
                <a:ea typeface="Tahoma"/>
              </a:rPr>
              <a:t> weergegeven: </a:t>
            </a:r>
            <a:r>
              <a:rPr b="0" lang="nl-BE" sz="3200" spc="-1" strike="noStrike" u="sng">
                <a:solidFill>
                  <a:srgbClr val="000000"/>
                </a:solidFill>
                <a:uFillTx/>
                <a:latin typeface="Tahoma"/>
                <a:ea typeface="Tahoma"/>
              </a:rPr>
              <a:t>‘Te gebruiken tot ….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r>
              <a:rPr b="0" lang="nl-BE" sz="3200" spc="-1" strike="noStrike">
                <a:solidFill>
                  <a:srgbClr val="000000"/>
                </a:solidFill>
                <a:latin typeface="Tahoma"/>
                <a:ea typeface="Tahoma"/>
              </a:rPr>
              <a:t>Na het openen van de verpakking is de houdbaarheidsdatum niet meer geldi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Doel van deze les?</a:t>
            </a:r>
            <a:endParaRPr b="0" lang="en-US" sz="4400" spc="-1" strike="noStrike">
              <a:solidFill>
                <a:srgbClr val="000000"/>
              </a:solidFill>
              <a:latin typeface="Arial"/>
            </a:endParaRPr>
          </a:p>
        </p:txBody>
      </p:sp>
      <p:sp>
        <p:nvSpPr>
          <p:cNvPr id="507" name=""/>
          <p:cNvSpPr txBox="1"/>
          <p:nvPr/>
        </p:nvSpPr>
        <p:spPr>
          <a:xfrm>
            <a:off x="457200" y="1600200"/>
            <a:ext cx="8229600" cy="4525920"/>
          </a:xfrm>
          <a:prstGeom prst="rect">
            <a:avLst/>
          </a:prstGeom>
          <a:noFill/>
          <a:ln w="0">
            <a:noFill/>
          </a:ln>
        </p:spPr>
        <p:txBody>
          <a:bodyPr anchor="t">
            <a:normAutofit fontScale="95000"/>
          </a:bodyPr>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p een voedingsetiket: terugvinden en interpreteren.</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nergiegehalte van voedingsmiddelen aflezen of berekenen per portie.</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Bewust worden van de voedingswaarde van dranken en tussendoortjes: energiegehalte, gehalte aan vetten, suiker, vezels, zout.</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en kritische keuze maken uit verschillende dranken en tussendoortjes op basis van de informatie op het etiket.</a:t>
            </a:r>
            <a:endParaRPr b="0" lang="en-US" sz="2400" spc="-1" strike="noStrike">
              <a:solidFill>
                <a:srgbClr val="000000"/>
              </a:solidFill>
              <a:latin typeface="Arial"/>
            </a:endParaRPr>
          </a:p>
          <a:p>
            <a:pPr marL="325800" indent="-3258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6. Voorschriften voor </a:t>
            </a:r>
            <a:br>
              <a:rPr sz="4000"/>
            </a:br>
            <a:r>
              <a:rPr b="0" lang="nl-BE" sz="4000" spc="-1" strike="noStrike">
                <a:solidFill>
                  <a:srgbClr val="00b050"/>
                </a:solidFill>
                <a:latin typeface="Tahoma"/>
                <a:ea typeface="Tahoma"/>
              </a:rPr>
              <a:t>bewaring &amp; gebruik</a:t>
            </a:r>
            <a:endParaRPr b="0" lang="en-US" sz="4000" spc="-1" strike="noStrike">
              <a:solidFill>
                <a:srgbClr val="000000"/>
              </a:solidFill>
              <a:latin typeface="Arial"/>
            </a:endParaRPr>
          </a:p>
        </p:txBody>
      </p:sp>
      <p:sp>
        <p:nvSpPr>
          <p:cNvPr id="5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hoe je het product moet bewaren en gebruiken vb. koel en droog bewaren, schudden voor gebruik, verwarmen in de oven gedurende 20 minuten op 180° C.</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erplicht?</a:t>
            </a:r>
            <a:r>
              <a:rPr b="0" lang="nl-BE" sz="3200" spc="-1" strike="noStrike">
                <a:solidFill>
                  <a:srgbClr val="000000"/>
                </a:solidFill>
                <a:latin typeface="Tahoma"/>
                <a:ea typeface="Tahoma"/>
              </a:rPr>
              <a:t> Ja, indien dit invloed heeft op de houdbaarheid vb. koel bewaren op yoghu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1) </a:t>
            </a:r>
            <a:endParaRPr b="0" lang="en-US" sz="4400" spc="-1" strike="noStrike">
              <a:solidFill>
                <a:srgbClr val="000000"/>
              </a:solidFill>
              <a:latin typeface="Arial"/>
            </a:endParaRPr>
          </a:p>
        </p:txBody>
      </p:sp>
      <p:sp>
        <p:nvSpPr>
          <p:cNvPr id="553"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Claims</a:t>
            </a:r>
            <a:r>
              <a:rPr b="0" lang="nl-BE" sz="2400" spc="-1" strike="noStrike">
                <a:solidFill>
                  <a:srgbClr val="000000"/>
                </a:solidFill>
                <a:latin typeface="Tahoma"/>
                <a:ea typeface="Tahoma"/>
              </a:rPr>
              <a:t>: boodschappen over de voedingswaarde of gezondheidseigenschappen van het produc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vb. light, rijk aan omega-3, verlaagt de cholesterol …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abels</a:t>
            </a:r>
            <a:r>
              <a:rPr b="0" lang="nl-BE" sz="2400" spc="-1" strike="noStrike">
                <a:solidFill>
                  <a:srgbClr val="000000"/>
                </a:solidFill>
                <a:latin typeface="Tahoma"/>
                <a:ea typeface="Tahoma"/>
              </a:rPr>
              <a:t> vb. bio, fairtra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ver </a:t>
            </a:r>
            <a:r>
              <a:rPr b="1" lang="nl-BE" sz="2400" spc="-1" strike="noStrike">
                <a:solidFill>
                  <a:srgbClr val="000000"/>
                </a:solidFill>
                <a:latin typeface="Tahoma"/>
                <a:ea typeface="Tahoma"/>
              </a:rPr>
              <a:t>allergenen</a:t>
            </a:r>
            <a:r>
              <a:rPr b="0" lang="nl-BE" sz="2400" spc="-1" strike="noStrike">
                <a:solidFill>
                  <a:srgbClr val="000000"/>
                </a:solidFill>
                <a:latin typeface="Tahoma"/>
                <a:ea typeface="Tahoma"/>
              </a:rPr>
              <a:t>: belangrijk voor mensen die allergisch zijn aan bepaalde voedingsstoffen of toevoegingen.</a:t>
            </a:r>
            <a:endParaRPr b="0" lang="en-US" sz="2400" spc="-1" strike="noStrike">
              <a:solidFill>
                <a:srgbClr val="000000"/>
              </a:solidFill>
              <a:latin typeface="Arial"/>
            </a:endParaRPr>
          </a:p>
        </p:txBody>
      </p:sp>
      <p:pic>
        <p:nvPicPr>
          <p:cNvPr id="554" name="Picture 2" descr=""/>
          <p:cNvPicPr/>
          <p:nvPr/>
        </p:nvPicPr>
        <p:blipFill>
          <a:blip r:embed="rId1"/>
          <a:stretch/>
        </p:blipFill>
        <p:spPr>
          <a:xfrm>
            <a:off x="4500720" y="2781360"/>
            <a:ext cx="1268280" cy="2027160"/>
          </a:xfrm>
          <a:prstGeom prst="rect">
            <a:avLst/>
          </a:prstGeom>
          <a:ln w="0">
            <a:noFill/>
          </a:ln>
        </p:spPr>
      </p:pic>
      <p:pic>
        <p:nvPicPr>
          <p:cNvPr id="555" name="Picture 4" descr=""/>
          <p:cNvPicPr/>
          <p:nvPr/>
        </p:nvPicPr>
        <p:blipFill>
          <a:blip r:embed="rId2"/>
          <a:stretch/>
        </p:blipFill>
        <p:spPr>
          <a:xfrm>
            <a:off x="6084720" y="3000240"/>
            <a:ext cx="2119320" cy="1589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2) </a:t>
            </a: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egevens van </a:t>
            </a:r>
            <a:r>
              <a:rPr b="1" lang="nl-BE" sz="2400" spc="-1" strike="noStrike">
                <a:solidFill>
                  <a:srgbClr val="000000"/>
                </a:solidFill>
                <a:latin typeface="Tahoma"/>
                <a:ea typeface="Tahoma"/>
              </a:rPr>
              <a:t>herkomst </a:t>
            </a:r>
            <a:r>
              <a:rPr b="0" lang="nl-BE" sz="2400" spc="-1" strike="noStrike">
                <a:solidFill>
                  <a:srgbClr val="000000"/>
                </a:solidFill>
                <a:latin typeface="Tahoma"/>
                <a:ea typeface="Tahoma"/>
              </a:rPr>
              <a:t>(producent of invoerder): vb. geproduceerd door…, made in Belgium</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Streepjescode of barcode: </a:t>
            </a:r>
            <a:r>
              <a:rPr b="0" lang="nl-BE" sz="2400" spc="-1" strike="noStrike">
                <a:solidFill>
                  <a:srgbClr val="000000"/>
                </a:solidFill>
                <a:latin typeface="Tahoma"/>
                <a:ea typeface="Tahoma"/>
              </a:rPr>
              <a:t>wordt aan de kassa gebruikt voor het automatisch inscannen van gegevens.</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otnummer: </a:t>
            </a:r>
            <a:r>
              <a:rPr b="0" lang="nl-BE" sz="2400" spc="-1" strike="noStrike">
                <a:solidFill>
                  <a:srgbClr val="000000"/>
                </a:solidFill>
                <a:latin typeface="Tahoma"/>
                <a:ea typeface="Tahoma"/>
              </a:rPr>
              <a:t>cijfers voorafgegaan door een ‘L’: kan gebruikt worden om te achterhalen waar of wanneer een product gemaakt werd. </a:t>
            </a:r>
            <a:endParaRPr b="0" lang="en-US" sz="2400" spc="-1" strike="noStrike">
              <a:solidFill>
                <a:srgbClr val="000000"/>
              </a:solidFill>
              <a:latin typeface="Arial"/>
            </a:endParaRPr>
          </a:p>
        </p:txBody>
      </p:sp>
      <p:pic>
        <p:nvPicPr>
          <p:cNvPr id="558" name="Picture 2" descr=""/>
          <p:cNvPicPr/>
          <p:nvPr/>
        </p:nvPicPr>
        <p:blipFill>
          <a:blip r:embed="rId1"/>
          <a:stretch/>
        </p:blipFill>
        <p:spPr>
          <a:xfrm>
            <a:off x="4159080" y="3141720"/>
            <a:ext cx="2679840" cy="1868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Opdrachten </a:t>
            </a:r>
            <a:endParaRPr b="0" lang="en-US" sz="6000" spc="-1" strike="noStrike">
              <a:solidFill>
                <a:srgbClr val="000000"/>
              </a:solidFill>
              <a:latin typeface="Arial"/>
            </a:endParaRPr>
          </a:p>
        </p:txBody>
      </p:sp>
      <p:sp>
        <p:nvSpPr>
          <p:cNvPr id="5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cc66"/>
              </a:solidFill>
              <a:latin typeface="Kristen ITC"/>
            </a:endParaRPr>
          </a:p>
        </p:txBody>
      </p:sp>
      <p:pic>
        <p:nvPicPr>
          <p:cNvPr id="561" name="Picture 6" descr="logo vig"/>
          <p:cNvPicPr/>
          <p:nvPr/>
        </p:nvPicPr>
        <p:blipFill>
          <a:blip r:embed="rId1"/>
          <a:stretch/>
        </p:blipFill>
        <p:spPr>
          <a:xfrm>
            <a:off x="8172360" y="5300640"/>
            <a:ext cx="863640" cy="1434960"/>
          </a:xfrm>
          <a:prstGeom prst="rect">
            <a:avLst/>
          </a:prstGeom>
          <a:ln w="0">
            <a:noFill/>
          </a:ln>
        </p:spPr>
      </p:pic>
      <p:pic>
        <p:nvPicPr>
          <p:cNvPr id="562" name="Picture 7" descr="j0287116"/>
          <p:cNvPicPr/>
          <p:nvPr/>
        </p:nvPicPr>
        <p:blipFill>
          <a:blip r:embed="rId2"/>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63504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Dranken</a:t>
            </a:r>
            <a:br>
              <a:rPr sz="4400"/>
            </a:br>
            <a:endParaRPr b="0" lang="en-US" sz="4400" spc="-1" strike="noStrike">
              <a:solidFill>
                <a:srgbClr val="000000"/>
              </a:solidFill>
              <a:latin typeface="Arial"/>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Zet de beschikbare drankverpakkingen van laag naar hoog energiegehalte (hoeveelheid kcal per 100 ml) zonder de voedingswaarde af te lezen op de verpakking.</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es het energiegehalte (= hoeveelheid kcal per 100ml) af en verplaats de producten indien nodig naar de juiste volgorde</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chrijf het energiegehalte per 100ml op een post-it en kleef dit op of bij de verpakk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Bespreking </a:t>
            </a:r>
            <a:endParaRPr b="0" lang="en-US" sz="4400" spc="-1" strike="noStrike">
              <a:solidFill>
                <a:srgbClr val="000000"/>
              </a:solidFill>
              <a:latin typeface="Arial"/>
            </a:endParaRPr>
          </a:p>
        </p:txBody>
      </p:sp>
      <p:sp>
        <p:nvSpPr>
          <p:cNvPr id="5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s de volgorde zoals verwach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Verrast door de </a:t>
            </a:r>
            <a:r>
              <a:rPr b="1" lang="nl-BE" sz="2400" spc="-1" strike="noStrike">
                <a:solidFill>
                  <a:srgbClr val="000000"/>
                </a:solidFill>
                <a:latin typeface="Tahoma"/>
                <a:ea typeface="Tahoma"/>
              </a:rPr>
              <a:t>hoeveelheid energie </a:t>
            </a:r>
            <a:r>
              <a:rPr b="0" lang="nl-BE" sz="2400" spc="-1" strike="noStrike">
                <a:solidFill>
                  <a:srgbClr val="000000"/>
                </a:solidFill>
                <a:latin typeface="Tahoma"/>
                <a:ea typeface="Tahoma"/>
              </a:rPr>
              <a:t>die bepaalde dranken lever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melk, fruitsap en frisdrank ligt dicht bij elkaar.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water, koffie en light frisdranken is zeer laag.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Welke dranken bevatten </a:t>
            </a:r>
            <a:r>
              <a:rPr b="1" lang="nl-BE" sz="2400" spc="-1" strike="noStrike">
                <a:solidFill>
                  <a:srgbClr val="000000"/>
                </a:solidFill>
                <a:latin typeface="Tahoma"/>
                <a:ea typeface="Tahoma"/>
              </a:rPr>
              <a:t>toegevoegde suiker</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kstvak 3"/>
          <p:cNvSpPr/>
          <p:nvPr/>
        </p:nvSpPr>
        <p:spPr>
          <a:xfrm>
            <a:off x="395280" y="217440"/>
            <a:ext cx="8280360" cy="721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Opdracht 1: Bijkomende oefeninge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Plaats de producten van laag naar hoog energiegehalte </a:t>
            </a:r>
            <a:r>
              <a:rPr b="1" lang="nl-BE" sz="2400" spc="-1" strike="noStrike">
                <a:solidFill>
                  <a:srgbClr val="000000"/>
                </a:solidFill>
                <a:latin typeface="Tahoma"/>
                <a:ea typeface="Tahoma"/>
              </a:rPr>
              <a:t>per portie </a:t>
            </a:r>
            <a:r>
              <a:rPr b="0" lang="nl-BE" sz="2400" spc="-1" strike="noStrike">
                <a:solidFill>
                  <a:srgbClr val="000000"/>
                </a:solidFill>
                <a:latin typeface="Tahoma"/>
                <a:ea typeface="Tahoma"/>
              </a:rPr>
              <a:t>(1 portie is de inhoud van een verpakking, bv: 1 blikje cola, 1 flesje water)</a:t>
            </a: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Gok </a:t>
            </a:r>
            <a:r>
              <a:rPr b="1" lang="nl-BE" sz="2400" spc="-1" strike="noStrike">
                <a:solidFill>
                  <a:srgbClr val="000000"/>
                </a:solidFill>
                <a:latin typeface="Tahoma"/>
                <a:ea typeface="Tahoma"/>
              </a:rPr>
              <a:t>hoeveel suikerklontjes </a:t>
            </a:r>
            <a:r>
              <a:rPr b="0" lang="nl-BE" sz="2400" spc="-1" strike="noStrike">
                <a:solidFill>
                  <a:srgbClr val="000000"/>
                </a:solidFill>
                <a:latin typeface="Tahoma"/>
                <a:ea typeface="Tahoma"/>
              </a:rPr>
              <a:t>de dranken bevatten zonder op de verpakking te kijken. Schrijf jouw gok op een post-it en kleef deze bij het produ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p de verpakking hoeveel suiker de producten werkelijk bevatten en reken deze hoeveelheid om naar suikerklontj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Ter inf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1 suikerklontje = 5 g suiker = 5 g koolhydraten = 20 k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Rechthoek 1"/>
          <p:cNvSpPr/>
          <p:nvPr/>
        </p:nvSpPr>
        <p:spPr>
          <a:xfrm>
            <a:off x="395280" y="5229360"/>
            <a:ext cx="7993080" cy="86364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Tussendoortjes</a:t>
            </a:r>
            <a:br>
              <a:rPr sz="4400"/>
            </a:br>
            <a:endParaRPr b="0" lang="en-US" sz="4400" spc="-1" strike="noStrike">
              <a:solidFill>
                <a:srgbClr val="000000"/>
              </a:solidFill>
              <a:latin typeface="Arial"/>
            </a:endParaRPr>
          </a:p>
        </p:txBody>
      </p:sp>
      <p:sp>
        <p:nvSpPr>
          <p:cNvPr id="570" name=""/>
          <p:cNvSpPr txBox="1"/>
          <p:nvPr/>
        </p:nvSpPr>
        <p:spPr>
          <a:xfrm>
            <a:off x="457200" y="1341360"/>
            <a:ext cx="8229600" cy="4028760"/>
          </a:xfrm>
          <a:prstGeom prst="rect">
            <a:avLst/>
          </a:prstGeom>
          <a:noFill/>
          <a:ln w="0">
            <a:noFill/>
          </a:ln>
        </p:spPr>
        <p:txBody>
          <a:bodyPr anchor="t">
            <a:normAutofit/>
          </a:bodyPr>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Zet de tussendoortjes van laag naar hoog energiegehalte </a:t>
            </a:r>
            <a:r>
              <a:rPr b="1" lang="nl-BE" sz="2400" spc="-1" strike="noStrike">
                <a:solidFill>
                  <a:srgbClr val="000000"/>
                </a:solidFill>
                <a:latin typeface="Tahoma"/>
                <a:ea typeface="Tahoma"/>
              </a:rPr>
              <a:t>per portie of verpakking </a:t>
            </a:r>
            <a:r>
              <a:rPr b="0" lang="nl-BE" sz="2400" spc="-1" strike="noStrike">
                <a:solidFill>
                  <a:srgbClr val="000000"/>
                </a:solidFill>
                <a:latin typeface="Tahoma"/>
                <a:ea typeface="Tahoma"/>
              </a:rPr>
              <a:t>van</a:t>
            </a:r>
            <a:r>
              <a:rPr b="1" lang="nl-BE" sz="2400" spc="-1" strike="noStrike">
                <a:solidFill>
                  <a:srgbClr val="000000"/>
                </a:solidFill>
                <a:latin typeface="Tahoma"/>
                <a:ea typeface="Tahoma"/>
              </a:rPr>
              <a:t> </a:t>
            </a:r>
            <a:r>
              <a:rPr b="0" lang="nl-BE" sz="2400" spc="-1" strike="noStrike">
                <a:solidFill>
                  <a:srgbClr val="000000"/>
                </a:solidFill>
                <a:latin typeface="Tahoma"/>
                <a:ea typeface="Tahoma"/>
              </a:rPr>
              <a:t>het voedingsmiddel zonder op de verpakking te kijken.</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Lees het energiegehalte per portie af op de verpakking of bereken het zelf. Schrijf dit op een post-it en kleef deze op het product. </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f de tussendoortjes in de goede volgorde staan. Maak een scheiding tussen de tussendoortjes van minder en die van meer dan </a:t>
            </a:r>
            <a:r>
              <a:rPr b="1" lang="nl-BE" sz="2400" spc="-1" strike="noStrike">
                <a:solidFill>
                  <a:srgbClr val="000000"/>
                </a:solidFill>
                <a:latin typeface="Tahoma"/>
                <a:ea typeface="Tahoma"/>
              </a:rPr>
              <a:t>150 kcal per portie</a:t>
            </a:r>
            <a:r>
              <a:rPr b="0" lang="nl-BE" sz="2400" spc="-1" strike="noStrike">
                <a:solidFill>
                  <a:srgbClr val="000000"/>
                </a:solidFill>
                <a:latin typeface="Tahoma"/>
                <a:ea typeface="Tahoma"/>
              </a:rPr>
              <a:t>.</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Bespreking</a:t>
            </a:r>
            <a:endParaRPr b="0" lang="en-US" sz="4400" spc="-1" strike="noStrike">
              <a:solidFill>
                <a:srgbClr val="000000"/>
              </a:solidFill>
              <a:latin typeface="Arial"/>
            </a:endParaRPr>
          </a:p>
        </p:txBody>
      </p:sp>
      <p:sp>
        <p:nvSpPr>
          <p:cNvPr id="572" name=""/>
          <p:cNvSpPr txBox="1"/>
          <p:nvPr/>
        </p:nvSpPr>
        <p:spPr>
          <a:xfrm>
            <a:off x="457200" y="1569600"/>
            <a:ext cx="8229600" cy="237024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Bespreek de </a:t>
            </a:r>
            <a:r>
              <a:rPr b="1" lang="nl-BE" sz="2800" spc="-1" strike="noStrike">
                <a:solidFill>
                  <a:srgbClr val="000000"/>
                </a:solidFill>
                <a:latin typeface="Tahoma"/>
                <a:ea typeface="Tahoma"/>
              </a:rPr>
              <a:t>voedingswaarde</a:t>
            </a:r>
            <a:r>
              <a:rPr b="0" lang="nl-BE" sz="2800" spc="-1" strike="noStrike">
                <a:solidFill>
                  <a:srgbClr val="000000"/>
                </a:solidFill>
                <a:latin typeface="Tahoma"/>
                <a:ea typeface="Tahoma"/>
              </a:rPr>
              <a:t> van de verschillende tussendoortjes, welke vullen de voeding aan en bevatten veel vitaminen, mineralen en vezels?</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Inleiding:</a:t>
            </a:r>
            <a:endParaRPr b="0" lang="en-US" sz="6000" spc="-1" strike="noStrike">
              <a:solidFill>
                <a:srgbClr val="000000"/>
              </a:solidFill>
              <a:latin typeface="Arial"/>
            </a:endParaRPr>
          </a:p>
        </p:txBody>
      </p:sp>
      <p:sp>
        <p:nvSpPr>
          <p:cNvPr id="5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Het etiket onder de loep</a:t>
            </a:r>
            <a:endParaRPr b="0" lang="en-US" sz="4400" spc="-1" strike="noStrike">
              <a:solidFill>
                <a:srgbClr val="000000"/>
              </a:solidFill>
              <a:latin typeface="Arial"/>
            </a:endParaRPr>
          </a:p>
        </p:txBody>
      </p:sp>
      <p:pic>
        <p:nvPicPr>
          <p:cNvPr id="510" name="Picture 7" descr="j0287116"/>
          <p:cNvPicPr/>
          <p:nvPr/>
        </p:nvPicPr>
        <p:blipFill>
          <a:blip r:embed="rId1"/>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kstvak 1"/>
          <p:cNvSpPr/>
          <p:nvPr/>
        </p:nvSpPr>
        <p:spPr>
          <a:xfrm>
            <a:off x="324000" y="1484280"/>
            <a:ext cx="828036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Waar let je op als je een voedingsmiddel koopt of gebruik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Lees je wat er op etiket sta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Welke informatie vind je op een voedingsetiket?</a:t>
            </a:r>
            <a:endParaRPr b="0" lang="en-US" sz="2800" spc="-1" strike="noStrike">
              <a:solidFill>
                <a:srgbClr val="000000"/>
              </a:solidFill>
              <a:latin typeface="Arial"/>
            </a:endParaRPr>
          </a:p>
        </p:txBody>
      </p:sp>
      <p:sp>
        <p:nvSpPr>
          <p:cNvPr id="512" name="Tekstvak 2"/>
          <p:cNvSpPr/>
          <p:nvPr/>
        </p:nvSpPr>
        <p:spPr>
          <a:xfrm>
            <a:off x="6480" y="2811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Het etiket onder de loep   </a:t>
            </a:r>
            <a:endParaRPr b="0" lang="en-US" sz="4400" spc="-1" strike="noStrike">
              <a:solidFill>
                <a:srgbClr val="000000"/>
              </a:solidFill>
              <a:latin typeface="Arial"/>
            </a:endParaRPr>
          </a:p>
        </p:txBody>
      </p:sp>
      <p:pic>
        <p:nvPicPr>
          <p:cNvPr id="513" name="Picture 2" descr="http://ilonavanmeegen.c3log.nl/wp-content/uploads/loep.jpg"/>
          <p:cNvPicPr/>
          <p:nvPr/>
        </p:nvPicPr>
        <p:blipFill>
          <a:blip r:embed="rId1"/>
          <a:stretch/>
        </p:blipFill>
        <p:spPr>
          <a:xfrm>
            <a:off x="7524720" y="115920"/>
            <a:ext cx="1528920" cy="1419120"/>
          </a:xfrm>
          <a:prstGeom prst="rect">
            <a:avLst/>
          </a:prstGeom>
          <a:ln w="0">
            <a:noFill/>
          </a:ln>
        </p:spPr>
      </p:pic>
      <p:pic>
        <p:nvPicPr>
          <p:cNvPr id="514" name="Picture 10" descr="http://www.nieuwsvoordietisten.nl/typo3temp/pics/7221e5060f.jpg"/>
          <p:cNvPicPr/>
          <p:nvPr/>
        </p:nvPicPr>
        <p:blipFill>
          <a:blip r:embed="rId2"/>
          <a:stretch/>
        </p:blipFill>
        <p:spPr>
          <a:xfrm>
            <a:off x="4886280" y="4089240"/>
            <a:ext cx="417528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kstvak 2"/>
          <p:cNvSpPr/>
          <p:nvPr/>
        </p:nvSpPr>
        <p:spPr>
          <a:xfrm>
            <a:off x="34920" y="3333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Gegevens op het etiket</a:t>
            </a:r>
            <a:endParaRPr b="0" lang="en-US" sz="4400" spc="-1" strike="noStrike">
              <a:solidFill>
                <a:srgbClr val="000000"/>
              </a:solidFill>
              <a:latin typeface="Arial"/>
            </a:endParaRPr>
          </a:p>
        </p:txBody>
      </p:sp>
      <p:sp>
        <p:nvSpPr>
          <p:cNvPr id="516" name="Tekstvak 3"/>
          <p:cNvSpPr/>
          <p:nvPr/>
        </p:nvSpPr>
        <p:spPr>
          <a:xfrm>
            <a:off x="468360" y="981000"/>
            <a:ext cx="777564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800" spc="-1" strike="noStrike">
                <a:solidFill>
                  <a:srgbClr val="00b050"/>
                </a:solidFill>
                <a:latin typeface="Tahoma"/>
                <a:ea typeface="Tahoma"/>
              </a:rPr>
              <a:t>Ingrediëntenlijs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edingswaard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nergi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Koolhydra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et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lcohol</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ADH of aanbevolen dagelijkse hoeveelheid</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Nettogewich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Houdbaarheidsdatum</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orschriften voor bewaring en gebruik</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ndere</a:t>
            </a:r>
            <a:endParaRPr b="0" lang="en-US" sz="2800" spc="-1" strike="noStrike">
              <a:solidFill>
                <a:srgbClr val="000000"/>
              </a:solidFill>
              <a:latin typeface="Arial"/>
            </a:endParaRPr>
          </a:p>
        </p:txBody>
      </p:sp>
      <p:pic>
        <p:nvPicPr>
          <p:cNvPr id="517" name="Picture 2" descr="http://ilonavanmeegen.c3log.nl/wp-content/uploads/loep.jpg"/>
          <p:cNvPicPr/>
          <p:nvPr/>
        </p:nvPicPr>
        <p:blipFill>
          <a:blip r:embed="rId1"/>
          <a:stretch/>
        </p:blipFill>
        <p:spPr>
          <a:xfrm>
            <a:off x="7507440" y="138240"/>
            <a:ext cx="1528560" cy="141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il_fi" descr="fantaball"/>
          <p:cNvPicPr/>
          <p:nvPr/>
        </p:nvPicPr>
        <p:blipFill>
          <a:blip r:embed="rId1"/>
          <a:stretch/>
        </p:blipFill>
        <p:spPr>
          <a:xfrm>
            <a:off x="2771640" y="1263600"/>
            <a:ext cx="3961080" cy="5045040"/>
          </a:xfrm>
          <a:prstGeom prst="rect">
            <a:avLst/>
          </a:prstGeom>
          <a:ln w="0">
            <a:noFill/>
          </a:ln>
        </p:spPr>
      </p:pic>
      <p:sp>
        <p:nvSpPr>
          <p:cNvPr id="51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AutoShape 2"/>
          <p:cNvSpPr/>
          <p:nvPr/>
        </p:nvSpPr>
        <p:spPr>
          <a:xfrm>
            <a:off x="826920" y="260280"/>
            <a:ext cx="7490160" cy="6193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Fanta orange</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a:t>
            </a:r>
            <a:r>
              <a:rPr b="1" lang="nl-BE" sz="1200" spc="-1" strike="noStrike">
                <a:solidFill>
                  <a:srgbClr val="000000"/>
                </a:solidFill>
                <a:latin typeface="Tahoma"/>
              </a:rPr>
              <a:t> </a:t>
            </a:r>
            <a:r>
              <a:rPr b="0" lang="nl-BE" sz="1200" spc="-1" strike="noStrike">
                <a:solidFill>
                  <a:srgbClr val="000000"/>
                </a:solidFill>
                <a:latin typeface="Tahoma"/>
              </a:rPr>
              <a:t>suiker; sinaasappelsap uit sapconcentraat (6%); voedingszuren: citroenzuur (E330) en natriumcitraat (E331); conserveermiddel: kaliumsorbaat (E202); natuurlijke sinaasappelaroma’s met andere natuurlijke aroma’s; antioxidant: ascorbinezuur (E300); wortelconcentraat; stabiliseermiddel: guargom (E412).</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een flesje van 250 ml bev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van de aanbevolen dagelijkse hoeveelheid op basis van 2000 kc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 </a:t>
            </a:r>
            <a:r>
              <a:rPr b="1" lang="nl-BE" sz="1200" spc="-1" strike="noStrike">
                <a:solidFill>
                  <a:srgbClr val="000000"/>
                </a:solidFill>
                <a:latin typeface="Tahoma"/>
              </a:rPr>
              <a:t>5. Ten minste houdbaar tot: </a:t>
            </a:r>
            <a:r>
              <a:rPr b="0" lang="nl-BE" sz="1200" spc="-1" strike="noStrike">
                <a:solidFill>
                  <a:srgbClr val="000000"/>
                </a:solidFill>
                <a:latin typeface="Tahoma"/>
              </a:rPr>
              <a:t>10/10/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21" name=""/>
          <p:cNvGraphicFramePr/>
          <p:nvPr/>
        </p:nvGraphicFramePr>
        <p:xfrm>
          <a:off x="1187280" y="2060640"/>
          <a:ext cx="5545440" cy="1800000"/>
        </p:xfrm>
        <a:graphic>
          <a:graphicData uri="http://schemas.openxmlformats.org/drawingml/2006/table">
            <a:tbl>
              <a:tblPr/>
              <a:tblGrid>
                <a:gridCol w="2063880"/>
                <a:gridCol w="1681200"/>
                <a:gridCol w="1800360"/>
              </a:tblGrid>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portie van 250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03 KJ / 48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07 KJ / 120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522" name="Afbeelding 4" descr="gda fanta orange.bmp"/>
          <p:cNvPicPr/>
          <p:nvPr/>
        </p:nvPicPr>
        <p:blipFill>
          <a:blip r:embed="rId1"/>
          <a:stretch/>
        </p:blipFill>
        <p:spPr>
          <a:xfrm>
            <a:off x="1187280" y="4292640"/>
            <a:ext cx="3456000" cy="871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2" descr="http://www.britishfoodwholesalers.com/acatalog/FantaOrangeZero330ml.jpg"/>
          <p:cNvPicPr/>
          <p:nvPr/>
        </p:nvPicPr>
        <p:blipFill>
          <a:blip r:embed="rId1"/>
          <a:stretch/>
        </p:blipFill>
        <p:spPr>
          <a:xfrm>
            <a:off x="2124000" y="1484280"/>
            <a:ext cx="4608720" cy="4608720"/>
          </a:xfrm>
          <a:prstGeom prst="rect">
            <a:avLst/>
          </a:prstGeom>
          <a:ln w="0">
            <a:noFill/>
          </a:ln>
        </p:spPr>
      </p:pic>
      <p:sp>
        <p:nvSpPr>
          <p:cNvPr id="524"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 Z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Fanta orange zero</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 sinaasappelsap uit sapconcentraat (6%); voedingszuren: citroenzuur (E330) en natriumcitraat (E331); </a:t>
            </a:r>
            <a:r>
              <a:rPr b="1" lang="nl-BE" sz="1200" spc="-1" strike="noStrike">
                <a:solidFill>
                  <a:srgbClr val="000000"/>
                </a:solidFill>
                <a:latin typeface="Tahoma"/>
              </a:rPr>
              <a:t>zoetstoffen: aspartaam (E951), natrium-sacharine (E954)</a:t>
            </a:r>
            <a:r>
              <a:rPr b="0" lang="nl-BE" sz="1200" spc="-1" strike="noStrike">
                <a:solidFill>
                  <a:srgbClr val="000000"/>
                </a:solidFill>
                <a:latin typeface="Tahoma"/>
              </a:rPr>
              <a:t>  conserveermiddel: kaliumsorbaat (E202); antioxidant: ascorbinezuur (E300); natuurlijke sinaasappelaroma’s met andere natuurlijke aroma’s; wortelconcentraat; stabiliseermiddel: guargom (E412). (Bevat een bron van fenylalanine)</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per blikje van 330 m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5. Ten minste houdbaar tot:  </a:t>
            </a:r>
            <a:r>
              <a:rPr b="0" lang="nl-BE" sz="1200" spc="-1" strike="noStrike">
                <a:solidFill>
                  <a:srgbClr val="000000"/>
                </a:solidFill>
                <a:latin typeface="Tahoma"/>
              </a:rPr>
              <a:t>10/10/20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pic>
        <p:nvPicPr>
          <p:cNvPr id="526" name="Afbeelding 3" descr="gda fanta zero.jpg"/>
          <p:cNvPicPr/>
          <p:nvPr/>
        </p:nvPicPr>
        <p:blipFill>
          <a:blip r:embed="rId1"/>
          <a:stretch/>
        </p:blipFill>
        <p:spPr>
          <a:xfrm>
            <a:off x="1187280" y="4724280"/>
            <a:ext cx="3313440" cy="852480"/>
          </a:xfrm>
          <a:prstGeom prst="rect">
            <a:avLst/>
          </a:prstGeom>
          <a:ln w="0">
            <a:noFill/>
          </a:ln>
        </p:spPr>
      </p:pic>
      <p:graphicFrame>
        <p:nvGraphicFramePr>
          <p:cNvPr id="527" name=""/>
          <p:cNvGraphicFramePr/>
          <p:nvPr/>
        </p:nvGraphicFramePr>
        <p:xfrm>
          <a:off x="1258920" y="2421000"/>
          <a:ext cx="6048360" cy="1776240"/>
        </p:xfrm>
        <a:graphic>
          <a:graphicData uri="http://schemas.openxmlformats.org/drawingml/2006/table">
            <a:tbl>
              <a:tblPr/>
              <a:tblGrid>
                <a:gridCol w="2016000"/>
                <a:gridCol w="2016360"/>
                <a:gridCol w="2016000"/>
              </a:tblGrid>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2. Voedingswaard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100 m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portie van 330c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nergi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16 KJ / 3.6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52.8 KJ / 11.88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iwi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272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Koolhydra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suikers</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Ve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 </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verzadigd</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1:00:38Z</dcterms:created>
  <dc:creator>Gast</dc:creator>
  <dc:description/>
  <dc:language>en-US</dc:language>
  <cp:lastModifiedBy>Mecheline Lips-Maas</cp:lastModifiedBy>
  <cp:lastPrinted>2012-02-03T12:52:21Z</cp:lastPrinted>
  <dcterms:modified xsi:type="dcterms:W3CDTF">2017-02-15T10:32:06Z</dcterms:modified>
  <cp:revision>58</cp:revision>
  <dc:subject/>
  <dc:title>Di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dlc_DocId">
    <vt:lpwstr>H7CVNQAUUZ3W-1444270466-1505</vt:lpwstr>
  </property>
  <property fmtid="{D5CDD505-2E9C-101B-9397-08002B2CF9AE}" pid="3" name="_dlc_DocIdItemGuid">
    <vt:lpwstr>444bac25-efa4-420b-a1a2-8a9f12ef7e67</vt:lpwstr>
  </property>
  <property fmtid="{D5CDD505-2E9C-101B-9397-08002B2CF9AE}" pid="4" name="_dlc_DocIdUrl">
    <vt:lpwstr>https://liveadminclusius.sharepoint.com/sites/castricum-vmbo-profielgroen/_layouts/15/DocIdRedir.aspx?ID=H7CVNQAUUZ3W-1444270466-1505, H7CVNQAUUZ3W-1444270466-1505</vt:lpwstr>
  </property>
</Properties>
</file>