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9D98-76D5-4799-A57D-A45AA9CB5A06}"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94F8-3ECA-4212-B306-B5632947CC7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5D72-1887-4FC6-8BA3-8685DBEC656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6ED28-145C-46D8-AA17-8395594444D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96B3B-060C-4CEA-90DA-B15BC6BA648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3D599-3B1B-45DB-A7C0-5C8B4819621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6268-78E3-4864-8E46-A5CB18C63AC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56C8-0C5D-4CC1-96CA-0EAE168098C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94B5-2ECF-4951-8132-26F58A054AB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9A98-AC90-4C0D-B268-BF67604A200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71C9-A7F7-4D18-B762-F0006DCFB58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2264D-3F4C-4EDD-9878-F7921A51996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CD9D-1106-4D49-8787-FE87838EBA9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D8C1C-0C23-47D6-AF3A-F7B0C4D3CA4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372BC-0CA6-46D6-83B3-20E5474EEEA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EEBC1-F767-41CF-80D5-B82784AE0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6952E-E0A3-44CE-B040-C80EF1678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5DB6B3-7558-4B8F-8B55-F76067EF4B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46D4A6-CF9B-4AAF-9764-38880C639B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43FCD5-EC26-45E3-AC85-3F0C63D5A6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DB81D1-2992-42B8-9763-F26CF09CFD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E4A3C8-DA71-4CCA-A6E1-8D68C6385F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FE50F7-8EEF-45D0-8BD9-464FD1612F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4AB19C-4BF1-4E14-B6A1-C5E0E47127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9A98BE-E861-4460-8FD2-8BB1D17508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3177E0-18C1-4E1E-B0BD-5BDE4671C5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330F46E-85E0-4BDD-B867-AE99D31E86D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8F960-9004-4AC8-9766-BCA169282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56F504-3B0B-49BA-9C5D-EA15055F54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D10C13D-066B-48A7-88B7-FBD038FFF8B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CA7137E-6ADC-4972-A9EE-432FE1A5E71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D20E68-2507-40E3-A1AD-FAC670698E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631ADE-B80C-4B2B-920F-92A44E534D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E4F59D-377B-4378-81EC-1F9DCE4EDC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8B267E-98B4-45D9-9408-C422586D7F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0AF172-AA45-481B-B0C4-2AAB59AB9D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5BAC30-8E21-4D47-A220-79327893DC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A40DA9D-CE2B-4641-A01F-A57DD09554A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C392E-0ABF-4F21-9439-BDB11C99C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1CD4477-45F0-48B1-8DDD-A647C3568F1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AF947D6-AECA-4563-B9E5-9791F716802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D3B8C7-830B-4E35-B6F1-BB32CFF1C5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262A47-BB6D-4E17-8BF2-A2280DD722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7F2629-96CE-4A80-84BC-1963984E2F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5A1FAD-E719-445C-8EAE-16AC021E9E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3DC08A-AD0D-4D4D-B45A-E0B9CBB5421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CFE0CF-8C2B-4687-AD65-7B40EE1B6A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3EA6C2-4E75-4B6C-BC20-6AC4D4B22F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077A3F-0645-449E-B4CA-7B8B2CD050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98F1C0-E33F-4682-9AA5-2900CD474D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2A71B9-E80C-4B26-9278-9DBDD3A863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8A7AAB4-2B49-4D46-91AE-49EE55F04BC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7601689-A1FF-4CDB-9916-D23B26EF771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415C576-9549-424E-B403-864DAB6C9E1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D162C2-35CF-4B2A-B1B6-D70AFE5D468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E12984-A45C-40C9-8AA0-ACC9CEA05B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BB1F17-D223-494A-AF69-AF856F1514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746DB7-B6B8-483F-9D9B-8E99A2BB6C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FBF877-C154-4E39-9785-36252176447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47C6A5-C8AC-4AA8-8C5D-90C74F74FA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24604-1E41-4492-A996-69EE6FC4C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BC5795-788A-477E-9F2A-C6E2B7846C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771F3E-F45B-49D0-9C1F-AFE150487D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4C5CBB-3D90-46F8-B94E-43E3D57FD6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230BAF6-658D-45A7-8CB2-E5B2DDD89A2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0028156-6003-4433-8E78-8B2B0F38DAE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5510F-C981-47AB-A3D2-3B07A7F9A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CB47D-D66F-4EC6-BFA8-5CEF013DF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3D231-0312-4534-8672-8B0C8E7FC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CBACD-48E1-459E-8F53-F643E73D8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BC049-A212-482A-9DAB-1ADF36F9B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2CE96-B32C-4C3E-93BA-2AF86FDD6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6F8A4-2B62-4FB9-9DE2-2D3D90FBA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FC171-568F-4F43-A202-FEBEABE78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5632C-CB84-4C72-9F55-18DE6654D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3C085A-5E3A-4360-9EFC-BB91DF9ABD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93FCC5-55E5-4F59-9B9B-710CB9A78B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04AE4A-C7DE-44C8-BAAE-63EDEE4BDE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D8EE0A-A28C-4BF9-9D22-7E4022C65C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B365D3-81A4-46D4-A0DD-3B96BDBFD1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95F3DA-1D11-48DE-BB1D-97AE65554E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46F9CB-3E3E-48BB-A903-2D63FA582A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EAE61-5EA7-4808-B234-EC78A21C4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EE196D-B635-4162-8F8D-C21CC21C9E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BD769-E3BE-4731-A9C9-D15FD7F0A4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7AD671-0404-471E-979A-912A89AF08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F69769-5CD8-4C1C-BD9C-DE42ABF276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3A8053-2AD3-4FCD-A0F1-26C5353F2B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36FEC5-E9FB-46C2-8EBC-8BE43829C6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0121E3-9EB4-4E0B-B581-1CA8EC7A49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D2A67F-7923-468F-805F-F2663B913B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00EF08-6B52-44BF-94DA-DB8B004B1E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76725B-F320-4608-978E-535EC4D5B9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059D6-25F6-426C-8693-97F3DB62D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236789-F60A-4F94-8900-171070BD46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A9C881-5ACF-426A-B068-F76B486D3B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14670B-0A5B-476F-B069-B2F239DF1C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4A4ACA-E905-4694-A3C0-8E4849554A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60641A-DE04-4D13-BE35-7AA73421C7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B9C00F-6FEC-4E56-B88B-B12A99E7E0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1B0566-07B1-4453-B969-434AB36786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0D3207-A4A1-4B4A-9931-EBBC609B9B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9D1B09-2303-402C-9635-75C9ADFDDC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E00B40-B282-4811-A9CC-900BBBE418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9629D-D696-43C1-8D52-36877EA12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A48174-C41E-486D-A6D7-F8161F71C8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5E87D6-F65F-44F4-8C26-42592E9E37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4AF4D2-6D0E-4977-AA29-8E2AB48AF4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919918-BC9A-4074-9E3A-286C0EECA4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544CB6-13D8-4FA4-813B-2AE64A4DAF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728924-EDB8-4FE4-8BA7-9DA4E03380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AC2B0F-C6ED-4E32-BBEE-45923356DA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02DAA5-9658-4074-800E-1B0A8E06B7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E97114-9FF9-4C01-984D-C2762B6A44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E255C8-3C4E-4CA5-868A-9D026B36D8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34332-D286-433E-8210-16579ACB3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F2D640-91DA-4E8F-B448-1BD4F3A3D1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A6FE32-1FA4-47F7-9F69-37665838A7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DBB3E9-2163-4469-A6DB-2A5CF2A019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636D19-9A0D-43C8-A84F-8AA42BB853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B46F14-4B94-47E6-8A42-1D4840202F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D7890A-9B26-45A0-A2C8-08A5D3660C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38D9C4-66E6-4442-B9F5-472C1565C7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B2FB34-A571-4702-AA85-973B46696C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032B7A-CEDF-4745-ADAA-DA74D65F40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FB852F-FF53-439F-9D92-655535957D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E6FF2-3E7F-4B59-887C-A48917C87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528982-C44B-4ACD-A753-DF830FEB45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737F41-7C36-4A40-82A2-C936CFE6FB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F97DBC-FA2C-48AD-8853-79BCAF2675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486E79-BE1A-4DB6-B8C6-30ABCEA8C7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1D016E-F284-4B92-BFBF-0201B5F9A8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DECF88-6910-48B9-854D-A61A05F603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2206F3-7CD0-4889-B28E-A0A9370E79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DB2F7A-160E-4470-B49E-A164042893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402F8A-7248-4D76-B133-716A65A69C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B13676-4870-4929-B492-E02778C629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CC34A-C0AF-4F7F-A26C-7C94F500D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AD0913-73E1-4FB0-8557-8B1DB87E09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5ED6AD-CF31-4788-BAEC-75392D163D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B8515B-A637-4232-BAA0-128D700BCA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8FD0AF-081E-4138-BA69-5B1CF551F4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0446FA-14FE-46DE-86A0-6378E761E4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F30BF1-2398-41C6-9AB3-BF1CBF5F14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058BBE-822F-477A-8B6F-1A7D431B7F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A402AD-D4D7-4C4A-8FCA-42D5BF6091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FD416A-4686-4699-9AEF-EF7AF03989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9CCFE2-E8EB-417A-8269-9AB410BC24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57C8B-6418-40EA-8932-902343A93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8AEB76-A69C-4BE1-97FA-3EF3CF677D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118745-59BE-4044-BE35-A98AB85230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D9785B-E67C-4AD5-A490-076525D285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BF973F-3D0E-48C0-B59F-CF35788402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8F5443-EEAA-46F3-B5CC-2BB9A8DC4B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12D5A5-A950-4E35-82C3-7C2B0E9A43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063753-B3C3-4DEC-84C9-CCF680FF7C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A6E32E-E39A-4531-9413-42DF1A6653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F879C1-5702-41FD-A44E-813B3C362C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506C18-2787-4001-A04E-DA4BD42E5D0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85C5-367C-4EBD-85FF-F7640E2C998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0CD4B-746A-42DF-89DE-980001420C4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ECB2-5458-4AA6-B280-A8C3EDB84A1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DD0B-35EB-403F-9958-C693A99F6E3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C008-38C2-4C98-AFAF-11D5AB12327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F13F4-FFF7-4027-91E3-761D9E32C51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FAB9A-9EC7-468F-ACAB-F9CCA3E146E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3EB9-AE04-4F13-806B-9CFC729D449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4BB86-B4BF-40B9-9D66-CBA41023587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A3C9-AB42-49E2-BF74-58A04F5B8EF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47BB-6E1A-4B52-93D0-B7F6DC2E57E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8EC93-AE21-4810-9ECA-B4047D6AA1B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echeline Lips-Maas</cp:lastModifiedBy>
  <cp:lastPrinted>2012-02-03T12:52:21Z</cp:lastPrinted>
  <dcterms:modified xsi:type="dcterms:W3CDTF">2017-02-15T10:32:06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