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png" ContentType="image/png"/>
  <Override PartName="/ppt/media/image37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C70C-C359-4916-88AB-1523A263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49B0-7D94-4783-BB31-43ABA535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5CEF81-CCFE-4E6A-8A04-F58FB5E6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8FEAA4-814D-4B5B-BA77-5C389AFE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D0FA36-1B23-4633-B2BC-2AA6BDA0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8C6460-0FE0-484B-B49F-BA236539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2C92CC-4477-4A75-B04A-BB705FB2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B273EE-79F0-4315-BB95-28907E85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18D908-FBB8-4513-8AA1-57BB8A5E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D417F2-016E-4964-B73E-D0EFC50B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31EFAB-C6FC-47C1-865A-7384783F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09C-67F1-4DFC-9807-1257F518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A120-94AF-4C0D-AF50-32868DB0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7D33D-7A7F-4301-BB02-7A6D50E1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24189-57A9-4341-BAD9-1A127325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1F5E3-98FE-44DD-90FB-3E209718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82A09-505F-4388-A735-836CC2CA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238B7-8505-4ED8-9FAE-DBD3B701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5B1F9-71B7-441E-9941-300E2AEF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3BC11-25D0-435C-83DD-D8FC7C57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AE7-6FB0-490C-ABDD-6B59285E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F8999-E98E-453D-AE46-06854EA8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51908-F7B5-4820-A9E4-DBCB5744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565D5-9EF3-47CC-A8F6-9CA83469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BF9ED-865B-47D2-BAF8-C6ED915D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7E665-9210-4BF3-886C-D1197986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F4DAC-D27C-4929-A7FA-64E2732E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B2FCB-1E0D-4D91-99D1-D6A42801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D0595-38A4-4234-9D75-521E8739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BFA99-7ACB-4A4D-AB9F-3AC0A775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6F36B-C34C-4E06-B65D-C3EDA363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9724-16DE-42B8-8C80-A942BD8C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A498D-8C59-4497-A983-8450C4E2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A7399-7ED8-4C91-AE79-03BC75E2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37CEA-AD64-4CD0-A17E-54517E91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7D1BB-5DE8-45A5-A205-F56CD0E4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0D93F-8AD8-403F-8600-5C917CCA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EB978-F400-4465-BA86-C9D6F5CB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F4383-C7DF-4C52-9F89-ED4D1B12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CAB444-E584-45BC-8D23-39F6AB1F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C4470C-6A41-4EDF-BC5F-F9B913E9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3C28C6-231E-47CC-9EE7-31C3BE95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3FA8-7CB8-430E-BA3B-482E55CE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985C8E-2175-4C7B-BBD2-FDC780AB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B4F330-10E5-4D7A-9A60-93F71C82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8F56AD-AAEA-40DB-9B7D-7E9D8E68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0F207B-8946-464F-8736-1B43A3B9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3C9EBA-0EB9-49FD-A727-F9721CF0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9726BA-64A5-4332-BB9C-F756C12B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9FBFE4-CDFD-4EF8-AD42-988F4BB5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30F28C-9451-4B22-B02F-67D56C3B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40DD69-9A10-424B-A556-D6D5F995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2482C-229D-4196-A32A-461BF309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C17-1757-4260-9E64-6F210E64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14E26-D3AD-43D5-BA84-F23F9A49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7ED5F-07EB-4D21-8BE1-63A83FA0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0B4AE-BBF6-4445-800A-68CBDA1F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BD2D2-203F-4974-A534-3B875AD1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F4983-C967-484E-A356-AA8516FF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372BB-4081-447B-9C1A-5262EFCD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D3A17-5333-41D9-B0D5-2E101C57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198BC-3A10-4423-8628-9851E54B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7EA1E-7E93-45B5-8F85-D2DCB2F8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DD28E-D5B0-4219-A0A9-5DF41E4B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6C4C-80DF-4C85-92E7-B9E5CB30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165E3-5EDC-4B1A-B1C1-7FED3808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F5442-6645-42EF-B69F-C0AD5A75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1F595-56E3-4A42-A75B-5E33A7A2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B975C-6A4D-497D-886B-6502CC94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29A99-1BF0-4541-AD95-6748D925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0C79B-A5FA-40C6-BEBE-2955D0D4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4E85A-7FAF-47AE-B814-5924621C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07F18-095C-42B5-86E1-A87AE745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0E5D6-086B-404C-AE6E-C2897EF4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A7C22-E4F4-4FE8-A772-CBC988F5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AC6B-276C-453E-9F0D-ACE84A24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162B7-8544-400E-A995-1679AFA0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2B83E-A223-4738-BD92-F26B7055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5F464-17EC-4E12-9EAA-84710798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763B1-1DEF-47A0-A9EC-5C274DAC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A1B15-1996-49B2-A16E-1D6661C1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95F68-3D4D-468D-943A-0DB22363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C34B5-6082-4D4F-8C1C-6E62D821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89B2A-AA75-495C-8ED8-E003ADE3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F465A-F49F-4986-9BDD-A375CEB0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B76B7-8D33-40E3-8059-32097C01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55CA-2BA7-4EA3-88A8-A162AEDC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3AEA4-8764-42B0-B9C9-500122C0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4CD49-F8B8-4B66-B71E-47067235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ADACA-0A95-4542-8D34-42E51847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95D2B-B814-4180-8208-DC0B9E17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CB2C0-2F96-4731-B32D-7C5E729B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D25856-6FC1-4ADC-9FA9-19DD3AD9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593793-B74E-4936-BB31-6BCC3421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C70575-0E3F-446E-92B5-604884D2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4EF5A2-4803-42E6-AD94-746FA8F8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C9972B-ECDE-41FC-B449-C0D31084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CE3-8EDB-4F7F-A3A4-55FF56F5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563464-BDC7-4496-A479-F7B7AD63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6DDA8A-6158-4371-9BD0-C59BE872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4E641F-E7A6-4A22-9EF1-74528B08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EAC3DE-D1C2-4AF0-A695-08665FC4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EC1C08-0921-49EA-BA32-F12B8AF1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C2D670-5D46-45A9-9674-32B5D810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5B9F91-FD4D-4431-9F4B-2C85E6D4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6C59D1-5C32-4068-943B-34EF4A4D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EA08C8-E715-4367-87A3-B57D3A54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564024-E99D-4607-A19C-AFA51A7F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AECD-4ACC-4AFA-AA09-52F4A4B806E2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nd diagonale hoek rechthoek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nd diagonale hoek rechthoek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5CC4-B505-4969-9A81-1AFB88DB9A16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89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8088-1445-4D8F-8EAA-0451198206B1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0621-4310-477B-AD89-755ADA1B5EA4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76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08F7-598F-4B9E-9E6E-CC59B3801209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2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hthoe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hthoe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4784-9055-43DC-829F-BBFB679173B3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67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6117-581F-46A3-888D-74A8DD99886D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hthoe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C225-EED7-48E6-9819-AE54B5FE1A6D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AC93-EA5A-49EF-AF1E-E302C72E6A79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el 1" descr=""/>
          <p:cNvPicPr/>
          <p:nvPr/>
        </p:nvPicPr>
        <p:blipFill>
          <a:blip r:embed="rId1"/>
          <a:stretch/>
        </p:blipFill>
        <p:spPr>
          <a:xfrm>
            <a:off x="360360" y="573120"/>
            <a:ext cx="8229600" cy="1000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ttp://www.schoolbieb.nl/uploadedImages/images/Kenmerk/1911.jpg"/>
          <p:cNvPicPr/>
          <p:nvPr/>
        </p:nvPicPr>
        <p:blipFill>
          <a:blip r:embed="rId2"/>
          <a:stretch/>
        </p:blipFill>
        <p:spPr>
          <a:xfrm rot="20206800">
            <a:off x="5862600" y="2378160"/>
            <a:ext cx="2252880" cy="3389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http://www.eediete.nl/keuken/pics/groenten.jpg"/>
          <p:cNvPicPr/>
          <p:nvPr/>
        </p:nvPicPr>
        <p:blipFill>
          <a:blip r:embed="rId3"/>
          <a:stretch/>
        </p:blipFill>
        <p:spPr>
          <a:xfrm rot="677400">
            <a:off x="426600" y="3129120"/>
            <a:ext cx="2352600" cy="3136680"/>
          </a:xfrm>
          <a:prstGeom prst="rect">
            <a:avLst/>
          </a:prstGeom>
          <a:ln w="0">
            <a:noFill/>
          </a:ln>
        </p:spPr>
      </p:pic>
      <p:pic>
        <p:nvPicPr>
          <p:cNvPr id="397" name="Afbeelding 2" descr=""/>
          <p:cNvPicPr/>
          <p:nvPr/>
        </p:nvPicPr>
        <p:blipFill>
          <a:blip r:embed="rId4"/>
          <a:stretch/>
        </p:blipFill>
        <p:spPr>
          <a:xfrm>
            <a:off x="2989440" y="4508640"/>
            <a:ext cx="2838240" cy="180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el 1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22960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kunstmest, alleen natuurlijke mes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0" name="Picture 2" descr="http://www.agripress.be/_STUDIOEMMA_UPLOADS/foto/artikel/1-gele_mosterd_agripress.jpg"/>
          <p:cNvPicPr/>
          <p:nvPr/>
        </p:nvPicPr>
        <p:blipFill>
          <a:blip r:embed="rId2"/>
          <a:stretch/>
        </p:blipFill>
        <p:spPr>
          <a:xfrm>
            <a:off x="6357960" y="4286160"/>
            <a:ext cx="1517760" cy="1876680"/>
          </a:xfrm>
          <a:prstGeom prst="rect">
            <a:avLst/>
          </a:prstGeom>
          <a:ln w="0">
            <a:noFill/>
          </a:ln>
        </p:spPr>
      </p:pic>
      <p:sp>
        <p:nvSpPr>
          <p:cNvPr id="401" name="Tekstvak 4"/>
          <p:cNvSpPr/>
          <p:nvPr/>
        </p:nvSpPr>
        <p:spPr>
          <a:xfrm>
            <a:off x="5786280" y="61437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f een groenbem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http://www.nlnatuur.nl/Album/2-Flora/Bloemen%20en%20Planten/slides/Rode%20klaver.jpg"/>
          <p:cNvPicPr/>
          <p:nvPr/>
        </p:nvPicPr>
        <p:blipFill>
          <a:blip r:embed="rId3"/>
          <a:stretch/>
        </p:blipFill>
        <p:spPr>
          <a:xfrm>
            <a:off x="357120" y="4429080"/>
            <a:ext cx="2633760" cy="1714680"/>
          </a:xfrm>
          <a:prstGeom prst="rect">
            <a:avLst/>
          </a:prstGeom>
          <a:ln w="0">
            <a:noFill/>
          </a:ln>
        </p:spPr>
      </p:pic>
      <p:sp>
        <p:nvSpPr>
          <p:cNvPr id="403" name="Tekstvak 6"/>
          <p:cNvSpPr/>
          <p:nvPr/>
        </p:nvSpPr>
        <p:spPr>
          <a:xfrm>
            <a:off x="285840" y="614376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linderbloemigen gebruiken voor stikst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6" descr="http://www.waterlandendijken.nl/images/content/foto%207%20ruige%20mest%20%5B1024x768%5D.JPG"/>
          <p:cNvPicPr/>
          <p:nvPr/>
        </p:nvPicPr>
        <p:blipFill>
          <a:blip r:embed="rId4"/>
          <a:stretch/>
        </p:blipFill>
        <p:spPr>
          <a:xfrm>
            <a:off x="357120" y="207180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405" name="Tekstvak 8"/>
          <p:cNvSpPr/>
          <p:nvPr/>
        </p:nvSpPr>
        <p:spPr>
          <a:xfrm>
            <a:off x="357120" y="3929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uige strorijke m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8" descr="http://www.kraanbedrijfvanassem.nl/images/p002_1_00.png"/>
          <p:cNvPicPr/>
          <p:nvPr/>
        </p:nvPicPr>
        <p:blipFill>
          <a:blip r:embed="rId5"/>
          <a:stretch/>
        </p:blipFill>
        <p:spPr>
          <a:xfrm>
            <a:off x="3786120" y="2071800"/>
            <a:ext cx="2660760" cy="2000160"/>
          </a:xfrm>
          <a:prstGeom prst="rect">
            <a:avLst/>
          </a:prstGeom>
          <a:ln w="0">
            <a:noFill/>
          </a:ln>
        </p:spPr>
      </p:pic>
      <p:sp>
        <p:nvSpPr>
          <p:cNvPr id="407" name="Tekstvak 10"/>
          <p:cNvSpPr/>
          <p:nvPr/>
        </p:nvSpPr>
        <p:spPr>
          <a:xfrm>
            <a:off x="6643800" y="2643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com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el 1" descr=""/>
          <p:cNvPicPr/>
          <p:nvPr/>
        </p:nvPicPr>
        <p:blipFill>
          <a:blip r:embed="rId1"/>
          <a:stretch/>
        </p:blipFill>
        <p:spPr>
          <a:xfrm>
            <a:off x="0" y="554040"/>
            <a:ext cx="8717040" cy="1122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2" descr="het schoffelen"/>
          <p:cNvPicPr/>
          <p:nvPr/>
        </p:nvPicPr>
        <p:blipFill>
          <a:blip r:embed="rId2"/>
          <a:stretch/>
        </p:blipFill>
        <p:spPr>
          <a:xfrm>
            <a:off x="714240" y="1714680"/>
            <a:ext cx="2190960" cy="1645920"/>
          </a:xfrm>
          <a:prstGeom prst="rect">
            <a:avLst/>
          </a:prstGeom>
          <a:ln w="0">
            <a:noFill/>
          </a:ln>
        </p:spPr>
      </p:pic>
      <p:sp>
        <p:nvSpPr>
          <p:cNvPr id="411" name="Tekstvak 4"/>
          <p:cNvSpPr/>
          <p:nvPr/>
        </p:nvSpPr>
        <p:spPr>
          <a:xfrm>
            <a:off x="642960" y="3500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schoff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onkruidbrander"/>
          <p:cNvPicPr/>
          <p:nvPr/>
        </p:nvPicPr>
        <p:blipFill>
          <a:blip r:embed="rId3"/>
          <a:stretch/>
        </p:blipFill>
        <p:spPr>
          <a:xfrm>
            <a:off x="3571920" y="1714680"/>
            <a:ext cx="2262240" cy="1698480"/>
          </a:xfrm>
          <a:prstGeom prst="rect">
            <a:avLst/>
          </a:prstGeom>
          <a:ln w="0">
            <a:noFill/>
          </a:ln>
        </p:spPr>
      </p:pic>
      <p:sp>
        <p:nvSpPr>
          <p:cNvPr id="413" name="Tekstvak 6"/>
          <p:cNvSpPr/>
          <p:nvPr/>
        </p:nvSpPr>
        <p:spPr>
          <a:xfrm>
            <a:off x="3643200" y="3571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br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6" descr="aanaarden"/>
          <p:cNvPicPr/>
          <p:nvPr/>
        </p:nvPicPr>
        <p:blipFill>
          <a:blip r:embed="rId4"/>
          <a:stretch/>
        </p:blipFill>
        <p:spPr>
          <a:xfrm>
            <a:off x="6357960" y="1714680"/>
            <a:ext cx="2282760" cy="1714320"/>
          </a:xfrm>
          <a:prstGeom prst="rect">
            <a:avLst/>
          </a:prstGeom>
          <a:ln w="0">
            <a:noFill/>
          </a:ln>
        </p:spPr>
      </p:pic>
      <p:sp>
        <p:nvSpPr>
          <p:cNvPr id="415" name="Tekstvak 8"/>
          <p:cNvSpPr/>
          <p:nvPr/>
        </p:nvSpPr>
        <p:spPr>
          <a:xfrm>
            <a:off x="6500880" y="35719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Aanaa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http://www.koppert.nl/uploads/RTEmagicC_c22b2a56a4.jpg.jpg"/>
          <p:cNvPicPr/>
          <p:nvPr/>
        </p:nvPicPr>
        <p:blipFill>
          <a:blip r:embed="rId5"/>
          <a:stretch/>
        </p:blipFill>
        <p:spPr>
          <a:xfrm>
            <a:off x="1000080" y="4357800"/>
            <a:ext cx="1214640" cy="1228680"/>
          </a:xfrm>
          <a:prstGeom prst="rect">
            <a:avLst/>
          </a:prstGeom>
          <a:ln w="0">
            <a:noFill/>
          </a:ln>
        </p:spPr>
      </p:pic>
      <p:sp>
        <p:nvSpPr>
          <p:cNvPr id="417" name="Tekstvak 10"/>
          <p:cNvSpPr/>
          <p:nvPr/>
        </p:nvSpPr>
        <p:spPr>
          <a:xfrm>
            <a:off x="714240" y="5929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Lieveheersbeestje tegen bladlu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0" descr="http://www.koppert.nl/uploads/RTEmagicC_c360a1d610.jpg.jpg"/>
          <p:cNvPicPr/>
          <p:nvPr/>
        </p:nvPicPr>
        <p:blipFill>
          <a:blip r:embed="rId6"/>
          <a:stretch/>
        </p:blipFill>
        <p:spPr>
          <a:xfrm>
            <a:off x="5143680" y="4357800"/>
            <a:ext cx="1442880" cy="1143000"/>
          </a:xfrm>
          <a:prstGeom prst="rect">
            <a:avLst/>
          </a:prstGeom>
          <a:ln w="0">
            <a:noFill/>
          </a:ln>
        </p:spPr>
      </p:pic>
      <p:sp>
        <p:nvSpPr>
          <p:cNvPr id="419" name="Tekstvak 12"/>
          <p:cNvSpPr/>
          <p:nvPr/>
        </p:nvSpPr>
        <p:spPr>
          <a:xfrm>
            <a:off x="5286240" y="5857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oof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12" descr="http://www.koppert.nl/uploads/RTEmagicC_6609ea817a.jpg.jpg"/>
          <p:cNvPicPr/>
          <p:nvPr/>
        </p:nvPicPr>
        <p:blipFill>
          <a:blip r:embed="rId7"/>
          <a:stretch/>
        </p:blipFill>
        <p:spPr>
          <a:xfrm>
            <a:off x="6858000" y="4357800"/>
            <a:ext cx="1882800" cy="1162080"/>
          </a:xfrm>
          <a:prstGeom prst="rect">
            <a:avLst/>
          </a:prstGeom>
          <a:ln w="0">
            <a:noFill/>
          </a:ln>
        </p:spPr>
      </p:pic>
      <p:sp>
        <p:nvSpPr>
          <p:cNvPr id="421" name="Tekstvak 14"/>
          <p:cNvSpPr/>
          <p:nvPr/>
        </p:nvSpPr>
        <p:spPr>
          <a:xfrm>
            <a:off x="7000920" y="5857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luip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el 1" descr=""/>
          <p:cNvPicPr/>
          <p:nvPr/>
        </p:nvPicPr>
        <p:blipFill>
          <a:blip r:embed="rId1"/>
          <a:stretch/>
        </p:blipFill>
        <p:spPr>
          <a:xfrm>
            <a:off x="1646280" y="500040"/>
            <a:ext cx="5754600" cy="755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ingrepen aan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Picture 2" descr="http://www.demeter-bd.nl/Images/KoeMetHorens.jpg"/>
          <p:cNvPicPr/>
          <p:nvPr/>
        </p:nvPicPr>
        <p:blipFill>
          <a:blip r:embed="rId2"/>
          <a:stretch/>
        </p:blipFill>
        <p:spPr>
          <a:xfrm>
            <a:off x="1000080" y="300024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425" name="Tekstvak 4"/>
          <p:cNvSpPr/>
          <p:nvPr/>
        </p:nvSpPr>
        <p:spPr>
          <a:xfrm>
            <a:off x="500040" y="4857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niet onthoor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http://www.willemwever.nl/gxnc/ZyxhvtpHoB.jpeg"/>
          <p:cNvPicPr/>
          <p:nvPr/>
        </p:nvPicPr>
        <p:blipFill>
          <a:blip r:embed="rId3"/>
          <a:stretch/>
        </p:blipFill>
        <p:spPr>
          <a:xfrm>
            <a:off x="3357720" y="31431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27" name="Tekstvak 6"/>
          <p:cNvSpPr/>
          <p:nvPr/>
        </p:nvSpPr>
        <p:spPr>
          <a:xfrm>
            <a:off x="3214800" y="4857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taarten coup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8" descr="CSC_1825.jpg image by bretonniaholland"/>
          <p:cNvPicPr/>
          <p:nvPr/>
        </p:nvPicPr>
        <p:blipFill>
          <a:blip r:embed="rId4"/>
          <a:stretch/>
        </p:blipFill>
        <p:spPr>
          <a:xfrm>
            <a:off x="6357960" y="321480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9"/>
          <p:cNvSpPr/>
          <p:nvPr/>
        </p:nvSpPr>
        <p:spPr>
          <a:xfrm>
            <a:off x="6286680" y="4857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navels ka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el 1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070680" cy="828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Zo hoog mogelijk welzijn voor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Picture 2" descr="http://web.methodus.nl/~vangin/uploads/varken.jpg_50.jpg"/>
          <p:cNvPicPr/>
          <p:nvPr/>
        </p:nvPicPr>
        <p:blipFill>
          <a:blip r:embed="rId2"/>
          <a:stretch/>
        </p:blipFill>
        <p:spPr>
          <a:xfrm>
            <a:off x="642960" y="2857680"/>
            <a:ext cx="2214720" cy="1444320"/>
          </a:xfrm>
          <a:prstGeom prst="rect">
            <a:avLst/>
          </a:prstGeom>
          <a:ln w="0">
            <a:noFill/>
          </a:ln>
        </p:spPr>
      </p:pic>
      <p:sp>
        <p:nvSpPr>
          <p:cNvPr id="433" name="Tekstvak 4"/>
          <p:cNvSpPr/>
          <p:nvPr/>
        </p:nvSpPr>
        <p:spPr>
          <a:xfrm>
            <a:off x="571680" y="4429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Buiten scharr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http://www.ziezo.biz/media/default.aspx/emma/org/10339433/kippen.jpg"/>
          <p:cNvPicPr/>
          <p:nvPr/>
        </p:nvPicPr>
        <p:blipFill>
          <a:blip r:embed="rId3"/>
          <a:stretch/>
        </p:blipFill>
        <p:spPr>
          <a:xfrm>
            <a:off x="3571920" y="2786040"/>
            <a:ext cx="2100240" cy="1500120"/>
          </a:xfrm>
          <a:prstGeom prst="rect">
            <a:avLst/>
          </a:prstGeom>
          <a:ln w="0">
            <a:noFill/>
          </a:ln>
        </p:spPr>
      </p:pic>
      <p:sp>
        <p:nvSpPr>
          <p:cNvPr id="435" name="Tekstvak 6"/>
          <p:cNvSpPr/>
          <p:nvPr/>
        </p:nvSpPr>
        <p:spPr>
          <a:xfrm>
            <a:off x="5715000" y="300024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ok in de stal meer ruimte, daglicht, verse lucht en stroois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6" descr="http://www.obio.nl/obiofotos/albums/2009-09-19Septemberneisimmer/CRW_3916.jpg"/>
          <p:cNvPicPr/>
          <p:nvPr/>
        </p:nvPicPr>
        <p:blipFill>
          <a:blip r:embed="rId4"/>
          <a:stretch/>
        </p:blipFill>
        <p:spPr>
          <a:xfrm>
            <a:off x="5929200" y="4857840"/>
            <a:ext cx="2475000" cy="1643040"/>
          </a:xfrm>
          <a:prstGeom prst="rect">
            <a:avLst/>
          </a:prstGeom>
          <a:ln w="0">
            <a:noFill/>
          </a:ln>
        </p:spPr>
      </p:pic>
      <p:sp>
        <p:nvSpPr>
          <p:cNvPr id="437" name="Tekstvak 8"/>
          <p:cNvSpPr/>
          <p:nvPr/>
        </p:nvSpPr>
        <p:spPr>
          <a:xfrm>
            <a:off x="3786120" y="5072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verplic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 zomers in de we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el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mijn hooilandje - my hay meadow by AnneTanne."/>
          <p:cNvPicPr/>
          <p:nvPr/>
        </p:nvPicPr>
        <p:blipFill>
          <a:blip r:embed="rId2"/>
          <a:stretch/>
        </p:blipFill>
        <p:spPr>
          <a:xfrm>
            <a:off x="785880" y="1714680"/>
            <a:ext cx="2044800" cy="1357200"/>
          </a:xfrm>
          <a:prstGeom prst="rect">
            <a:avLst/>
          </a:prstGeom>
          <a:ln w="0">
            <a:noFill/>
          </a:ln>
        </p:spPr>
      </p:pic>
      <p:sp>
        <p:nvSpPr>
          <p:cNvPr id="440" name="Tekstvak 4"/>
          <p:cNvSpPr/>
          <p:nvPr/>
        </p:nvSpPr>
        <p:spPr>
          <a:xfrm>
            <a:off x="642960" y="32860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eel kruiden in gra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http://www.borsele.nl/upload/bd2dc07a-d787-4c0b-ac17-95c039e6d452_vlinders.jpg"/>
          <p:cNvPicPr/>
          <p:nvPr/>
        </p:nvPicPr>
        <p:blipFill>
          <a:blip r:embed="rId3"/>
          <a:stretch/>
        </p:blipFill>
        <p:spPr>
          <a:xfrm>
            <a:off x="4357800" y="1643040"/>
            <a:ext cx="1838160" cy="1374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Jufferresize.jpg image by demona000"/>
          <p:cNvPicPr/>
          <p:nvPr/>
        </p:nvPicPr>
        <p:blipFill>
          <a:blip r:embed="rId4"/>
          <a:stretch/>
        </p:blipFill>
        <p:spPr>
          <a:xfrm>
            <a:off x="6643800" y="1571760"/>
            <a:ext cx="1199880" cy="1546200"/>
          </a:xfrm>
          <a:prstGeom prst="rect">
            <a:avLst/>
          </a:prstGeom>
          <a:ln w="0">
            <a:noFill/>
          </a:ln>
        </p:spPr>
      </p:pic>
      <p:sp>
        <p:nvSpPr>
          <p:cNvPr id="443" name="Tekstvak 8"/>
          <p:cNvSpPr/>
          <p:nvPr/>
        </p:nvSpPr>
        <p:spPr>
          <a:xfrm>
            <a:off x="4286160" y="32860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Daardoor meer vlinders en insec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10" descr="http://www.tgsoftware.nl/software/tijger32/catalog/bio_bod.jpg"/>
          <p:cNvPicPr/>
          <p:nvPr/>
        </p:nvPicPr>
        <p:blipFill>
          <a:blip r:embed="rId5"/>
          <a:stretch/>
        </p:blipFill>
        <p:spPr>
          <a:xfrm>
            <a:off x="714240" y="3929040"/>
            <a:ext cx="2810160" cy="1930320"/>
          </a:xfrm>
          <a:prstGeom prst="rect">
            <a:avLst/>
          </a:prstGeom>
          <a:ln w="0">
            <a:noFill/>
          </a:ln>
        </p:spPr>
      </p:pic>
      <p:sp>
        <p:nvSpPr>
          <p:cNvPr id="445" name="Tekstvak 10"/>
          <p:cNvSpPr/>
          <p:nvPr/>
        </p:nvSpPr>
        <p:spPr>
          <a:xfrm>
            <a:off x="642960" y="61437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zonde bodem met veel diertj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2" descr="http://provincie.overijssel.nl/contents/pages/2376/hotspot_weidevogels.jpg"/>
          <p:cNvPicPr/>
          <p:nvPr/>
        </p:nvPicPr>
        <p:blipFill>
          <a:blip r:embed="rId6"/>
          <a:stretch/>
        </p:blipFill>
        <p:spPr>
          <a:xfrm>
            <a:off x="5715000" y="3929040"/>
            <a:ext cx="2313000" cy="2028960"/>
          </a:xfrm>
          <a:prstGeom prst="rect">
            <a:avLst/>
          </a:prstGeom>
          <a:ln w="0">
            <a:noFill/>
          </a:ln>
        </p:spPr>
      </p:pic>
      <p:sp>
        <p:nvSpPr>
          <p:cNvPr id="447" name="Tekstvak 12"/>
          <p:cNvSpPr/>
          <p:nvPr/>
        </p:nvSpPr>
        <p:spPr>
          <a:xfrm>
            <a:off x="5572080" y="6072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oed voor weidevo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2646360" y="360360"/>
            <a:ext cx="3894120" cy="779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Beperkte anti-biotica bij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erke rassen gebruik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genenetische manipulati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Ruime vruchtwissel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renge controle door Sk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1073160" y="328680"/>
            <a:ext cx="7473960" cy="1171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admb.be/evap/evap.lees_blob?p_file=F31372/BIOCIDE.JPG"/>
          <p:cNvPicPr/>
          <p:nvPr/>
        </p:nvPicPr>
        <p:blipFill>
          <a:blip r:embed="rId2"/>
          <a:stretch/>
        </p:blipFill>
        <p:spPr>
          <a:xfrm>
            <a:off x="571680" y="1643040"/>
            <a:ext cx="17031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Tekstvak 4"/>
          <p:cNvSpPr/>
          <p:nvPr/>
        </p:nvSpPr>
        <p:spPr>
          <a:xfrm>
            <a:off x="2786040" y="21430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resten van gif in je v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4" descr="http://images.volkskrant.com/hartziel/uploads/users/legacy/wortelen1211378848.jpg"/>
          <p:cNvPicPr/>
          <p:nvPr/>
        </p:nvPicPr>
        <p:blipFill>
          <a:blip r:embed="rId3"/>
          <a:stretch/>
        </p:blipFill>
        <p:spPr>
          <a:xfrm>
            <a:off x="571680" y="3286080"/>
            <a:ext cx="1231560" cy="1643040"/>
          </a:xfrm>
          <a:prstGeom prst="rect">
            <a:avLst/>
          </a:prstGeom>
          <a:ln w="0">
            <a:noFill/>
          </a:ln>
        </p:spPr>
      </p:pic>
      <p:sp>
        <p:nvSpPr>
          <p:cNvPr id="454" name="Tekstvak 6"/>
          <p:cNvSpPr/>
          <p:nvPr/>
        </p:nvSpPr>
        <p:spPr>
          <a:xfrm>
            <a:off x="2214720" y="3571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Producten zijn vaak smaakvoller omdat ze langzaam gegroeid en gerijpt zij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kstvak 8"/>
          <p:cNvSpPr/>
          <p:nvPr/>
        </p:nvSpPr>
        <p:spPr>
          <a:xfrm>
            <a:off x="2357280" y="528624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Meer bijzondere voedingsstoffen zoals Omega-3 vetzuren, anti-oxidanten en vitamin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Afbeelding 2" descr=""/>
          <p:cNvPicPr/>
          <p:nvPr/>
        </p:nvPicPr>
        <p:blipFill>
          <a:blip r:embed="rId4"/>
          <a:stretch/>
        </p:blipFill>
        <p:spPr>
          <a:xfrm>
            <a:off x="571680" y="5084640"/>
            <a:ext cx="14032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1:26:55Z</dcterms:created>
  <dc:creator>wouter keppel</dc:creator>
  <dc:description/>
  <dc:language>en-US</dc:language>
  <cp:lastModifiedBy>Mecheline Lips-Maas</cp:lastModifiedBy>
  <dcterms:modified xsi:type="dcterms:W3CDTF">2017-01-26T12:59:40Z</dcterms:modified>
  <cp:revision>32</cp:revision>
  <dc:subject/>
  <dc:title>BIOLOGISCHE VOE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>19;#Mecheline Lips-Maas</vt:lpwstr>
  </property>
  <property fmtid="{D5CDD505-2E9C-101B-9397-08002B2CF9AE}" pid="3" name="display_urn:schemas-microsoft-com:office:office#SharedWithUsers">
    <vt:lpwstr>Mecheline Lips-Maas</vt:lpwstr>
  </property>
</Properties>
</file>