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15.png" ContentType="image/png"/>
  <Override PartName="/ppt/media/image3.jpeg" ContentType="image/jpeg"/>
  <Override PartName="/ppt/media/image6.jpeg" ContentType="image/jpeg"/>
  <Override PartName="/ppt/media/image11.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A62C4-057C-4E6F-A43D-4C30F46D1636}"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853920" y="744480"/>
            <a:ext cx="4961160" cy="3722760"/>
          </a:xfrm>
          <a:prstGeom prst="rect">
            <a:avLst/>
          </a:prstGeom>
          <a:ln w="0">
            <a:noFill/>
          </a:ln>
        </p:spPr>
      </p:sp>
      <p:sp>
        <p:nvSpPr>
          <p:cNvPr id="57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0F899-AF7C-4ACB-9258-E455120ACFC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53920" y="744480"/>
            <a:ext cx="4961160" cy="3722760"/>
          </a:xfrm>
          <a:prstGeom prst="rect">
            <a:avLst/>
          </a:prstGeom>
          <a:ln w="0">
            <a:noFill/>
          </a:ln>
        </p:spPr>
      </p:sp>
      <p:sp>
        <p:nvSpPr>
          <p:cNvPr id="59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853920" y="744480"/>
            <a:ext cx="4961160" cy="3722760"/>
          </a:xfrm>
          <a:prstGeom prst="rect">
            <a:avLst/>
          </a:prstGeom>
          <a:ln w="0">
            <a:noFill/>
          </a:ln>
        </p:spPr>
      </p:sp>
      <p:sp>
        <p:nvSpPr>
          <p:cNvPr id="59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C0014-9397-4804-8C13-606784A2B26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853920" y="744480"/>
            <a:ext cx="4961160" cy="3722760"/>
          </a:xfrm>
          <a:prstGeom prst="rect">
            <a:avLst/>
          </a:prstGeom>
          <a:ln w="0">
            <a:noFill/>
          </a:ln>
        </p:spPr>
      </p:sp>
      <p:sp>
        <p:nvSpPr>
          <p:cNvPr id="59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63E7F-8CD8-458D-9274-60A3131BD0A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853920" y="744480"/>
            <a:ext cx="4961160" cy="3722760"/>
          </a:xfrm>
          <a:prstGeom prst="rect">
            <a:avLst/>
          </a:prstGeom>
          <a:ln w="0">
            <a:noFill/>
          </a:ln>
        </p:spPr>
      </p:sp>
      <p:sp>
        <p:nvSpPr>
          <p:cNvPr id="5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 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853920" y="744480"/>
            <a:ext cx="4961160" cy="3722760"/>
          </a:xfrm>
          <a:prstGeom prst="rect">
            <a:avLst/>
          </a:prstGeom>
          <a:ln w="0">
            <a:noFill/>
          </a:ln>
        </p:spPr>
      </p:sp>
      <p:sp>
        <p:nvSpPr>
          <p:cNvPr id="60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853920" y="744480"/>
            <a:ext cx="4961160" cy="3722760"/>
          </a:xfrm>
          <a:prstGeom prst="rect">
            <a:avLst/>
          </a:prstGeom>
          <a:ln w="0">
            <a:noFill/>
          </a:ln>
        </p:spPr>
      </p:sp>
      <p:sp>
        <p:nvSpPr>
          <p:cNvPr id="60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853920" y="744480"/>
            <a:ext cx="4961160" cy="3722760"/>
          </a:xfrm>
          <a:prstGeom prst="rect">
            <a:avLst/>
          </a:prstGeom>
          <a:ln w="0">
            <a:noFill/>
          </a:ln>
        </p:spPr>
      </p:sp>
      <p:sp>
        <p:nvSpPr>
          <p:cNvPr id="60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ADH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853920" y="744480"/>
            <a:ext cx="4961160" cy="3722760"/>
          </a:xfrm>
          <a:prstGeom prst="rect">
            <a:avLst/>
          </a:prstGeom>
          <a:ln w="0">
            <a:noFill/>
          </a:ln>
        </p:spPr>
      </p:sp>
      <p:sp>
        <p:nvSpPr>
          <p:cNvPr id="60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853920" y="744480"/>
            <a:ext cx="4961160" cy="3722760"/>
          </a:xfrm>
          <a:prstGeom prst="rect">
            <a:avLst/>
          </a:prstGeom>
          <a:ln w="0">
            <a:noFill/>
          </a:ln>
        </p:spPr>
      </p:sp>
      <p:sp>
        <p:nvSpPr>
          <p:cNvPr id="60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853920" y="744480"/>
            <a:ext cx="4961160" cy="3722760"/>
          </a:xfrm>
          <a:prstGeom prst="rect">
            <a:avLst/>
          </a:prstGeom>
          <a:ln w="0">
            <a:noFill/>
          </a:ln>
        </p:spPr>
      </p:sp>
      <p:sp>
        <p:nvSpPr>
          <p:cNvPr id="57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6113E-0934-4045-BAEA-2A9F0959EA5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3920" y="744480"/>
            <a:ext cx="4961160" cy="3722760"/>
          </a:xfrm>
          <a:prstGeom prst="rect">
            <a:avLst/>
          </a:prstGeom>
          <a:ln w="0">
            <a:noFill/>
          </a:ln>
        </p:spPr>
      </p:sp>
      <p:sp>
        <p:nvSpPr>
          <p:cNvPr id="61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A48C4-C52A-4FD9-A3F6-46FE3F904CD2}"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853920" y="744480"/>
            <a:ext cx="4961160" cy="3722760"/>
          </a:xfrm>
          <a:prstGeom prst="rect">
            <a:avLst/>
          </a:prstGeom>
          <a:ln w="0">
            <a:noFill/>
          </a:ln>
        </p:spPr>
      </p:sp>
      <p:sp>
        <p:nvSpPr>
          <p:cNvPr id="6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CC8C8-B204-4880-9F59-4DC9EDF944B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853920" y="744480"/>
            <a:ext cx="4961160" cy="3722760"/>
          </a:xfrm>
          <a:prstGeom prst="rect">
            <a:avLst/>
          </a:prstGeom>
          <a:ln w="0">
            <a:noFill/>
          </a:ln>
        </p:spPr>
      </p:sp>
      <p:sp>
        <p:nvSpPr>
          <p:cNvPr id="61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675B4-855D-44D5-960C-8A73582CFA0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853920" y="744480"/>
            <a:ext cx="4961160" cy="3722760"/>
          </a:xfrm>
          <a:prstGeom prst="rect">
            <a:avLst/>
          </a:prstGeom>
          <a:ln w="0">
            <a:noFill/>
          </a:ln>
        </p:spPr>
      </p:sp>
      <p:sp>
        <p:nvSpPr>
          <p:cNvPr id="62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C75A1-F3FC-4B59-B9AF-7392A543790B}"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853920" y="744480"/>
            <a:ext cx="4961160" cy="3722760"/>
          </a:xfrm>
          <a:prstGeom prst="rect">
            <a:avLst/>
          </a:prstGeom>
          <a:ln w="0">
            <a:noFill/>
          </a:ln>
        </p:spPr>
      </p:sp>
      <p:sp>
        <p:nvSpPr>
          <p:cNvPr id="62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18ACD-746F-4C6E-902B-F8BE227C8BDF}"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853920" y="744480"/>
            <a:ext cx="4961160" cy="3722760"/>
          </a:xfrm>
          <a:prstGeom prst="rect">
            <a:avLst/>
          </a:prstGeom>
          <a:ln w="0">
            <a:noFill/>
          </a:ln>
        </p:spPr>
      </p:sp>
      <p:sp>
        <p:nvSpPr>
          <p:cNvPr id="62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02B84-97E4-478C-B39E-0622ABF106C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853920" y="744480"/>
            <a:ext cx="4961160" cy="3722760"/>
          </a:xfrm>
          <a:prstGeom prst="rect">
            <a:avLst/>
          </a:prstGeom>
          <a:ln w="0">
            <a:noFill/>
          </a:ln>
        </p:spPr>
      </p:sp>
      <p:sp>
        <p:nvSpPr>
          <p:cNvPr id="62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CAC7A-C332-4E61-AE58-9328DBAFF04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53920" y="744480"/>
            <a:ext cx="4961160" cy="3722760"/>
          </a:xfrm>
          <a:prstGeom prst="rect">
            <a:avLst/>
          </a:prstGeom>
          <a:ln w="0">
            <a:noFill/>
          </a:ln>
        </p:spPr>
      </p:sp>
      <p:sp>
        <p:nvSpPr>
          <p:cNvPr id="63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321D1-A98A-41F9-B834-47EC92514A1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853920" y="744480"/>
            <a:ext cx="4961160" cy="3722760"/>
          </a:xfrm>
          <a:prstGeom prst="rect">
            <a:avLst/>
          </a:prstGeom>
          <a:ln w="0">
            <a:noFill/>
          </a:ln>
        </p:spPr>
      </p:sp>
      <p:sp>
        <p:nvSpPr>
          <p:cNvPr id="63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BE" sz="1200" spc="-1" strike="noStrike">
              <a:solidFill>
                <a:srgbClr val="000000"/>
              </a:solidFill>
              <a:latin typeface="Calibri"/>
            </a:endParaRPr>
          </a:p>
        </p:txBody>
      </p:sp>
      <p:sp>
        <p:nvSpPr>
          <p:cNvPr id="63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B171B-5DFE-454E-88BB-FDB5A0C8E2B3}"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853920" y="744480"/>
            <a:ext cx="4961160" cy="3722760"/>
          </a:xfrm>
          <a:prstGeom prst="rect">
            <a:avLst/>
          </a:prstGeom>
          <a:ln w="0">
            <a:noFill/>
          </a:ln>
        </p:spPr>
      </p:sp>
      <p:sp>
        <p:nvSpPr>
          <p:cNvPr id="58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8C7AE-CD83-42A8-8E9C-09F1C73523D0}"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853920" y="744480"/>
            <a:ext cx="4961160" cy="3722760"/>
          </a:xfrm>
          <a:prstGeom prst="rect">
            <a:avLst/>
          </a:prstGeom>
          <a:ln w="0">
            <a:noFill/>
          </a:ln>
        </p:spPr>
      </p:sp>
      <p:sp>
        <p:nvSpPr>
          <p:cNvPr id="58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53920" y="744480"/>
            <a:ext cx="4961160" cy="3722760"/>
          </a:xfrm>
          <a:prstGeom prst="rect">
            <a:avLst/>
          </a:prstGeom>
          <a:ln w="0">
            <a:noFill/>
          </a:ln>
        </p:spPr>
      </p:sp>
      <p:sp>
        <p:nvSpPr>
          <p:cNvPr id="58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853920" y="744480"/>
            <a:ext cx="4961160" cy="3722760"/>
          </a:xfrm>
          <a:prstGeom prst="rect">
            <a:avLst/>
          </a:prstGeom>
          <a:ln w="0">
            <a:noFill/>
          </a:ln>
        </p:spPr>
      </p:sp>
      <p:sp>
        <p:nvSpPr>
          <p:cNvPr id="58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853920" y="744480"/>
            <a:ext cx="4961160" cy="3722760"/>
          </a:xfrm>
          <a:prstGeom prst="rect">
            <a:avLst/>
          </a:prstGeom>
          <a:ln w="0">
            <a:noFill/>
          </a:ln>
        </p:spPr>
      </p:sp>
      <p:sp>
        <p:nvSpPr>
          <p:cNvPr id="58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AE8EA-C3B3-46A8-A6EE-356AC6EBB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6FAFF-FF41-4297-BA2F-5FC325739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30307F-F0CD-4850-8D35-810CFB02BA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4AACEF-B652-4394-80F3-647D09792F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F77114-584D-4923-A9CE-889143BE39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B0294B-F630-4CB9-A01D-10848DB0A7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5E34A8-4713-4E31-AD2B-C48437BD8D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7FC7E5-0D2E-41B8-A830-E50A62A438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7BBDA5-A9A5-46BE-9EEA-5AF9417ECE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264547-0CFE-4051-BF57-2FFD6EDB5C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556EB99-9890-4136-B9E4-457EAF9BE3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B751333-616A-4691-A0C9-64D11282A1C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382E4-266C-4899-B59F-8B5ED2894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ACF40F3-5480-4A43-BF65-6871041C839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B6B931C-E5F0-4339-AA89-FE2D6861A22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36697AD-2CF9-4F5A-8B1A-5C9332955D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35D0AFB-3C1B-4DDC-8637-80311C27B2F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34A51D8-5E59-4A3D-BD47-8B21FB75DCC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7B7A356-471D-43D7-B4EF-256CCED516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D3D459-E4A0-4637-B319-FEB6FB5F5E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A12C46-F631-476A-A17C-7541DB8DCC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1A612CB-8FB6-46EC-B9C9-E2F024A8B3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959E9CF-E4A1-4F23-8B02-2CA4A005B9D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F4ECE-6C41-419D-A8CF-06C8598D43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170A47F-0504-4AB0-938C-1B67ADE9F50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18DB487-2AD8-4BDE-8A4A-865EA45A0BF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724308-B6CA-423E-99FE-133C5A25A0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116DB35-DA3F-4A0E-BE50-A2CCFF393C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B0B025-33D4-44C7-8593-743079B9F0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2BBDB7-7F00-4E98-B30B-4EA95F5ED7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33C201C-0AA6-4FD9-81E4-43CB04E8175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00F586-2A49-4C84-9345-32468B8846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751715-D798-412C-82A6-73FBFF22BF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F0A914-A2EC-43BA-B7C6-726661C2BF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44873A-6F2D-4555-B294-01933736B7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F206B72-41C0-4B60-82A0-69202DBD30E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473FDAD-6112-4242-9178-733391457B7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BEFEFDB-0D44-4DAE-B9F7-EAF602267CF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9B61E50-04DC-4463-9B7F-7F61F4918C9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F2C8CBF-A7E1-4D5F-811F-CE5655E455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0109B52-AF30-494A-B730-C361CF0B469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268EDFF-3154-4080-A8E3-50B71AC6D29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EA525BC-CBF5-4073-B22D-A38946EDBA8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931DC86-6B5A-4BA2-BF25-101AD532F49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55AD90-F9F8-4EDA-AE47-6140B7D09C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38D9A-4F6A-4682-961E-E80D057DE3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FA18D6-D39D-4F3E-84C2-5462A2CB70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AA8AD9-1A24-4900-A6EA-AE4D39A895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8D0BC55-5171-4A4C-946F-0C4EAA96017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63C1F24-CD6C-473F-A5A0-64C3D2E2610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F7FF37D-6D3B-44EF-8963-2C7BDC228BF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832A0-B8FF-4A55-B11A-AE31559EB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D827B-23AD-42D8-9235-B7F055415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0ECB9-2359-4A7B-AE7C-A2D2262D2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AC149-848E-4F02-A2BD-07E9BD1B0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3DC84-8671-445D-B56D-BD53DDD6A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24423-533D-42DB-8B33-18F81F90E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18C08-5358-4E96-8C57-749B9C87B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6BD90-415C-489D-B771-1FE5B43E5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B368F6-4BDA-4708-BFD6-F1A97F077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0670CC-912B-4F56-BC0A-DDE81D21F7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381F7E-6A69-44BE-A290-2CB4C8E5AC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DFCCC5-B09D-44EE-B2A6-E89CB5C1A6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F85FE5-92E7-4ED1-AB74-89BBBBA0AD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065B5B-70B6-4857-82E8-C3AAF1A04E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8BE790-E048-4EC8-8E14-5F6E7C71B5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4A4779-7EAC-43E3-862F-76487FA631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2218F-9217-4E2C-897B-067FDA05D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B8395A-075D-44E6-B9CB-99289F4CF0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AC2EBE-5D14-4C13-99BF-4F77940424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A4CCB4-3A9D-470A-8FD1-5B9588CEF9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1F8E43-0468-4D3D-825F-E9C36BD923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CD830A-A42E-4479-8F96-6110A8B74F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6002AB-3E2F-4778-AEC0-D57D414CF2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1B3246-71C8-4349-B433-72118EBD3C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216C26-5F41-4604-BEAB-AC21B317C8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2EE9A2-F2EC-4B4A-A738-E695E9723F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FB2700-0A4C-4989-BB3D-10269B9C8B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35106-A30B-4783-9E13-A0BB119DE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48BA48-66E7-4A71-83B6-2C1444F77A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90B74D-2B32-4441-BD8A-76738B1B07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D7B737-B282-4CE2-9C91-B3D3DFE188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51F14B-D546-41BE-BE61-DDBBF9A99F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DDFE81-798A-4A24-8306-74E9DD8C73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DE203C-796D-46F4-BB84-43DC7AAE40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557951-2D40-4D99-A928-18532F6527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40E3B8-ED22-446C-8C67-1C6FE61DD3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FF876F-88BA-4254-A5E3-9283EAC655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DE6D23-9A31-4A7B-AC2E-D92F4287D7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6C9DD-D733-4873-B21E-18A9BC2A0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BBCCB1-8CC4-4D12-96DF-FDC3EFDA18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B16916-2EB2-452E-9245-205C1B45DE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45C4F9-6975-4935-A763-1C0769B1E9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4F1457-B40E-40AD-A522-EB22FD010A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892CCD-3C53-468E-8D36-1CFE8D63D7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2D8936-93FA-4FAB-83ED-B2C4509E0B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62D9F2-35E0-45DE-A316-2D48642787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F12B29-D14D-4552-8A72-C515B4424F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FF160E-3F77-41FE-AB08-94F824F67F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CDA395-A255-4BEC-BDC2-07DFABC97F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43E6D-45BF-4D68-9653-4EA6B646A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002EF2-8D9A-450B-BF36-F2EB5B0912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48FB24-94E2-4CC8-8CDC-DFD51E51DF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EC4A74-7CD2-429D-A8CE-3464527C17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7747D2-CFE5-4D38-B8DA-373C790F29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FE25D7-FFFA-4B07-B724-4B7A62943F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6B5DE1-65B8-4611-8D14-C53F52CC8E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2C1EE4-1044-44AA-A8C0-09030DF230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FB31FE-DC87-4078-8600-7A3F5663DF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911FC9-01A6-41F4-B3EB-D468B08165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ABA757-9D52-4089-B088-D88AB060E0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F3C56-CC4E-4BE2-9AC2-E477FC318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90C048-4FCE-4A43-BCA1-4F31078C15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987429-32BF-4168-B09A-3E15C641F8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3621EE-E489-4E13-A66D-8741CE225B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F0CF81-BD16-4732-AFCD-EF135EAF7E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224BD5-E6D7-45CA-84D8-4520421274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526BC7-7A4E-4FD4-827D-FF990CA202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988CC4-550F-4FEB-AE10-23D7E4DA8B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0F2D52-7BA5-4960-A80D-A4AD58B1FA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F09C6C-29A5-43F5-AFC3-10B01819D8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330D99-6DDB-4B50-A5D6-F97991FE6A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97374-E1A5-40ED-890A-6C5869BDA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373339-CE73-41EF-BDD8-978761F769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1A1BFA-9467-438C-9A04-039F40B6CE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0504EA-9CB9-45B5-956F-FBCD772153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E6CD8D-12E5-47D8-BA64-3F7CA16085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E4E860-1BFF-4B1F-9B00-5036D94AAE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9FBA57-2747-4B30-8C92-D0C476CA11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5D5AB7-461E-4BC9-9A23-81BCEB0620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C941E3-7913-433C-93B7-350C5B6FB7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80522E-A573-45E6-9848-E2EF7C6C34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3285CE-2021-4571-A1EE-9B37E76F84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F6F55-B5D4-4E06-AA38-B3E273A1C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4B0BEF-BCC7-4FC5-B732-DAA7B900A9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F0A944-F150-4AC9-98BD-4E5275BE36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B26B1A-1300-4FE3-92D8-27DE3D0B6A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818AE7-E3B5-4C78-8C96-1F6E46A49D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BD66BF-0BD4-4752-90D4-B252920006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2A554B-9E58-4F35-BABC-4C35A39622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EBCC40-6EAF-4C9E-BEC6-313A8DB6E4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100D1F-64DC-4BF6-BDEF-3FD6C91958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29DEF2-1322-4178-8A98-0A314CD140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3C9D54-D1E4-49B2-8987-EC9AF7EDB95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11D04-1FD3-4B48-8EFA-8AC232FF89A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E8D5F-59C4-4599-9125-C205F857F0F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4BC69-1C96-4D84-AACD-1CC21D68328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7C01-34F1-4D4E-9E33-C78E855BBD3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52F78-9F4D-4F4C-848E-0F6EEC00AF9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B7522-271F-47F4-B9C4-4413D54F7B7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022E5-2A86-4BAF-B604-B94AA75B181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511E6-78CD-4C1E-88EF-EF4194BCA22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413BA-2693-4FE9-887B-AFB7BC1233A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6EC9A-7662-46D2-B5AE-5BE45EE65C0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95F82-BFE3-4782-87A2-272ED07106F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11521-AD63-4D7A-91D7-65741ABE604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Afbeelding 1" descr=""/>
          <p:cNvPicPr/>
          <p:nvPr/>
        </p:nvPicPr>
        <p:blipFill>
          <a:blip r:embed="rId1"/>
          <a:stretch/>
        </p:blipFill>
        <p:spPr>
          <a:xfrm>
            <a:off x="1719360" y="1870200"/>
            <a:ext cx="5229000" cy="3430440"/>
          </a:xfrm>
          <a:prstGeom prst="rect">
            <a:avLst/>
          </a:prstGeom>
          <a:ln w="0">
            <a:noFill/>
          </a:ln>
        </p:spPr>
      </p:pic>
      <p:pic>
        <p:nvPicPr>
          <p:cNvPr id="534" name="Afbeelding 2" descr=""/>
          <p:cNvPicPr/>
          <p:nvPr/>
        </p:nvPicPr>
        <p:blipFill>
          <a:blip r:embed="rId2"/>
          <a:stretch/>
        </p:blipFill>
        <p:spPr>
          <a:xfrm>
            <a:off x="1857240" y="1600200"/>
            <a:ext cx="5429520" cy="36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3"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4" name="Picture 2" descr=""/>
          <p:cNvPicPr/>
          <p:nvPr/>
        </p:nvPicPr>
        <p:blipFill>
          <a:blip r:embed="rId1"/>
          <a:stretch/>
        </p:blipFill>
        <p:spPr>
          <a:xfrm>
            <a:off x="4500720" y="2781360"/>
            <a:ext cx="1268280" cy="2027160"/>
          </a:xfrm>
          <a:prstGeom prst="rect">
            <a:avLst/>
          </a:prstGeom>
          <a:ln w="0">
            <a:noFill/>
          </a:ln>
        </p:spPr>
      </p:pic>
      <p:pic>
        <p:nvPicPr>
          <p:cNvPr id="555"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8"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1" name="Picture 6" descr="logo vig"/>
          <p:cNvPicPr/>
          <p:nvPr/>
        </p:nvPicPr>
        <p:blipFill>
          <a:blip r:embed="rId1"/>
          <a:stretch/>
        </p:blipFill>
        <p:spPr>
          <a:xfrm>
            <a:off x="8172360" y="5300640"/>
            <a:ext cx="863640" cy="1434960"/>
          </a:xfrm>
          <a:prstGeom prst="rect">
            <a:avLst/>
          </a:prstGeom>
          <a:ln w="0">
            <a:noFill/>
          </a:ln>
        </p:spPr>
      </p:pic>
      <p:pic>
        <p:nvPicPr>
          <p:cNvPr id="562"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70"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2"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6480" y="2811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4920" y="3333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72428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Mecheline Lips-Maas</cp:lastModifiedBy>
  <cp:lastPrinted>2012-02-03T12:52:21Z</cp:lastPrinted>
  <dcterms:modified xsi:type="dcterms:W3CDTF">2017-02-15T10:32:06Z</dcterms:modified>
  <cp:revision>58</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