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541-70A0-4CCE-843A-9E847A6B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FA1-46A7-4AF8-B755-8A405739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D45-EE38-4871-9A84-AE896526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AAF-4B9B-40A3-B2B0-9DA64E0E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89E-343A-4162-8181-048B8093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B1B-731E-4EC7-84FA-6BAA4C66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237-8CF4-4BF4-A17F-C7143E68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9D7-65AA-4E32-9C9A-695C6AF3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497-DC65-46BE-92DD-E56777A5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CE2-2B6E-4A7B-93EE-1AC9485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325-BAA3-4215-AD8F-474F669B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9D7-0288-4E40-9560-ADB5A04B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FD44-1C28-4FE1-81EB-5BF8343B0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Regien</cp:lastModifiedBy>
  <dcterms:modified xsi:type="dcterms:W3CDTF">2011-09-30T18:51:53Z</dcterms:modified>
  <cp:revision>2</cp:revision>
  <dc:subject/>
  <dc:title>Ziekten en Plagen</dc:title>
</cp:coreProperties>
</file>