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569-4F57-4E45-AFE7-36E5F235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7A4-1DE6-46BA-808D-EE8785E0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082-39F5-415F-BC65-B842B1F7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51E-930F-448E-83DC-F7B91ED1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059-15D9-4A62-9782-ED82028D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C7D-115B-4A6C-A337-0BD4761B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EB3-E56F-4C05-AB62-ACFBC7C5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FEC-5D34-429C-8913-12BEB509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793-5801-4A47-AEF1-AE650CA6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75C-5CEA-447A-862F-C1FB6D62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521-9A36-43C1-A429-96FF4859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5F7-E663-4568-BA08-02369E09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A105-A518-45D4-AA6E-1DC02818E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Regien</cp:lastModifiedBy>
  <dcterms:modified xsi:type="dcterms:W3CDTF">2011-09-30T18:51:53Z</dcterms:modified>
  <cp:revision>2</cp:revision>
  <dc:subject/>
  <dc:title>Ziekten en Plagen</dc:title>
</cp:coreProperties>
</file>