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F03-7CBE-4A8A-94D7-1368C1EE6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14A-8D71-4FB5-914F-A61BAA2C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399-4E0C-41A8-B8C9-F346D09B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547-8894-4CD6-A638-EBDB98DB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B087-433D-4D10-8C29-EDB6063B4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0AD5-F8F5-4318-A719-7F6CCF7D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C1FF-4995-4F73-908F-76CA611CB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3D34-0A18-427C-AF90-F728EE0B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040E-537D-4F6F-8F26-F772B70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BB6-1BC4-4DD7-9277-27C973D05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34F4-B3B2-45D4-968E-60F264EB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8085-FE6F-4C61-8FE3-AF03E39A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0C1-767A-48CB-AAD8-E420B4BC2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Zomereik_met_meeldauw_(Quercus_robur_with_Microsphaera_alphitoides).jpg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iekten en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148360" y="2421000"/>
            <a:ext cx="2085840" cy="16444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306864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148360" y="3860640"/>
            <a:ext cx="252072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aan de onderkant van het blad waardoor gele vlekken en gele bladeren ontst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groei wordt tegengegaan waardoor de plant dood kan ga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932360" y="3789360"/>
            <a:ext cx="311472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a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jand: Lieveheersbeest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merken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Bladeren worden glimmend en plakkerig (honingdauw)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lanten verwelke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r zijn verkleuringen of vervormingen te zien aan de blad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940360" y="549360"/>
            <a:ext cx="254340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ild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iverminder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het blad lee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rming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ge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300720" y="765000"/>
            <a:ext cx="223200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l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het blad leeg, hopen zich op tussen de stengel en blader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vormingen, bruine plekk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honingdauw a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jand: roofkever, sluipw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521080" cy="19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tte Vli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eiden veel honingdauw af waar roetdauw schimmels op groeie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de sappen uit de plant waardoor vervormingen en groeivermindering optreed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gen eieren onder de blade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77080" y="333360"/>
            <a:ext cx="857160" cy="771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77080" y="472428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mmelziekte (fuchsia, gerani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t verspreidt door w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zomers, broeier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48320" y="2060640"/>
            <a:ext cx="2695680" cy="1790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43280" y="4292640"/>
            <a:ext cx="1944720" cy="18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eldau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immelaanta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z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htige omgev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35640" y="1773360"/>
            <a:ext cx="295740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pl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en bladsa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eilijk te bestrijden door hun d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ullen de cellen met giftig speek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508720" y="378936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26920" y="3429000"/>
            <a:ext cx="261972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uigt aan de bovenkant van het blad de cellen leeg waardoor er zilverachtige vlekken ontsta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bladeren verdrog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867280" y="4149720"/>
            <a:ext cx="20289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30T18:29:23Z</dcterms:created>
  <dc:creator>Regien</dc:creator>
  <dc:description/>
  <dc:language>en-US</dc:language>
  <cp:lastModifiedBy>Regien</cp:lastModifiedBy>
  <dcterms:modified xsi:type="dcterms:W3CDTF">2011-09-30T18:51:53Z</dcterms:modified>
  <cp:revision>2</cp:revision>
  <dc:subject/>
  <dc:title>Ziekten en Plagen</dc:title>
</cp:coreProperties>
</file>