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B4C-B44C-4ABC-B00F-4B01DC795F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990-9495-4A24-B8E6-D19CC5A382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rikelextrasystole wordt vaak afgekort als VES en soms premature ventriculare contractie genoemd (PVC) of ventricular premature beat (VPB). Een extra slag met zijn oorsprong in de ventrikels. PVC's worden niet/nauwelijks via het bundeltakgeleidingssysteem voortgeleid. Dit veroorzaakt een trage geleiding (verbreed QRS-complex). Na een PVC volgt een lange compensatoire pauze. Oorzaken o.a.: ischemie, hypoxie, oud litteken, idiopathisch. 50% van gezonde mannen heeft sporadisch PVC's. Na een hartinfarct is het hebben van &gt; 10 PVC's / uur een teken van een slechtere prognose.[1] Aan de vorm is de oorsprong te herleiden. Een LBTB-vorm komt vaak vanuit het rechter ventrikel. Een VES met RBTB patroon komt vanuit de linker ventrikel. De QRS duur is &gt; 0.12 secon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3 of meer extrasystolen direct achter elkaar spreekt met van een ventrikeltachycar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76B-345E-4BE6-848D-88EDA1FCAF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hartwij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C45-7468-484E-8FED-8E533C944C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electrodes: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R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recht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neutraal, op het rechter been (= electrisch aarde of nulpunt ten opzichte waarvan de elektrische spanning wordt gemeten, in theorie kan deze willekeurig op het lichaam geplaatst word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voet, op het linker be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afleid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extremiteitsafleidingen (bedacht door Einthoven) zij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naar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link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elling van de afleidingen draait dus tegen de klok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arnaast zijn er elektrisch afgeleide afleidingen (bedacht door Goldberger). Deze hebben als centrum het elektrisch gemiddelde van de extremiteitsafleidingen (ongeveer het hart zelf du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L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wijst naar de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R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Rechter a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voet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tter a staat voor "augmented" (versterkt) en de letter V voor "voltage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aVR + aVL + aVF =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31C-9E41-43A9-A015-1F4FCEDD11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0C6-CF99-4261-A09C-78223108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A70-1F96-4D7C-88B7-D4808FC4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5D5-6D8F-4542-AF88-C7405917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F27-78FE-48CE-B085-D9983358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AD0-62EA-42FA-8EA9-A34BCE7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9B1-D909-4A56-96DC-285DB94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E4A-B2FB-408F-AE88-AA4D9E5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28F-8866-413A-BD38-9EB20197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BCD-67C8-47B1-8315-F11C448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825-C7A2-4537-8818-A9DE9F8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C78-B1EC-4715-B028-C07E51C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BDD-DBFE-4851-82CC-606B6D3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26B-A743-4FE7-9496-233C71B835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ken van een 12 afleidingen E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1224000" y="1989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reid de huid goed vo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ren verwijderen door te scheren ter plaatse van de elektr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entueel zacht schuren van de huid (bijvoorbeeld met een handdoek of met het schuurpadje dat hiertoe op sommige elektrode-plakkers z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uiken van contactspray eventueel na het afnemen van de huid met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 elektrische sto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spiertremoren door de patiënt stil te laten liggen en niet te laten pr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ervoor dat de draden genoeg speling hebben en niet onder spanning 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elektromagnetische interferentie van andere apparaten: mogelijke bronnen: TL verlichting, elektrisch bed, mobiele telefoon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Afbeelding 3" descr=""/>
          <p:cNvPicPr/>
          <p:nvPr/>
        </p:nvPicPr>
        <p:blipFill>
          <a:blip r:embed="rId1"/>
          <a:stretch/>
        </p:blipFill>
        <p:spPr>
          <a:xfrm>
            <a:off x="6012000" y="1930320"/>
            <a:ext cx="2584440" cy="70164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"/>
          <p:cNvPicPr/>
          <p:nvPr/>
        </p:nvPicPr>
        <p:blipFill>
          <a:blip r:embed="rId2"/>
          <a:stretch/>
        </p:blipFill>
        <p:spPr>
          <a:xfrm>
            <a:off x="6622920" y="5816520"/>
            <a:ext cx="18003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staat er op een EC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boven: Patiënten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chts daarvan: hartfrequentie, geleidingstijden en  ha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terpretatie ECG (‘diagnos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onder staat de 'snelheid van het papier' (25 mm/s op de horizontale as), de gevoeligheid (10mm/mV) en de frequentie van het filter (40Hz, filtert storingen van bijvoorbeeld TL verlichting w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jk op het ECG  is een vertikaal blokje (moet 10 mm zij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2 af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nusrit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C:\Users\g-sch_000\Pictures\download 15.jpg"/>
          <p:cNvPicPr/>
          <p:nvPr/>
        </p:nvPicPr>
        <p:blipFill>
          <a:blip r:embed="rId1"/>
          <a:stretch/>
        </p:blipFill>
        <p:spPr>
          <a:xfrm>
            <a:off x="914400" y="167652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g-sch_000\Pictures\download 16.jpg"/>
          <p:cNvPicPr/>
          <p:nvPr/>
        </p:nvPicPr>
        <p:blipFill>
          <a:blip r:embed="rId2"/>
          <a:stretch/>
        </p:blipFill>
        <p:spPr>
          <a:xfrm>
            <a:off x="3886200" y="4495680"/>
            <a:ext cx="43592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3901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600200"/>
            <a:ext cx="91440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Boezis </a:t>
            </a:r>
            <a:r>
              <a:rPr b="1" lang="nl-NL" sz="900" spc="-1" strike="noStrike">
                <a:solidFill>
                  <a:srgbClr val="ffffff"/>
                </a:solidFill>
                <a:latin typeface="Times New Roman"/>
                <a:ea typeface="Tahoma"/>
              </a:rPr>
              <a:t>éé</a:t>
            </a: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n van de meest voorkomende hartritmestoorniss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143000"/>
            <a:ext cx="8153280" cy="34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Er zijn verschillende vormen van hartritmestoornissen. Een daarvan is boezemfibrilleren. Een andere term voor deze vorm is atriumfibrill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Boezemfibrilleren is een hartritmestoornis waarbij het hart onregelmatig en meestal sneller klo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Het is een van de meest voorkomende hartritmestoorniss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ezemfibrille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C:\Users\g-sch_000\Pictures\download 13.png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-sch_000\Pictures\download 12.jpg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uze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g-sch_000\Pictures\download 3.png"/>
          <p:cNvPicPr/>
          <p:nvPr/>
        </p:nvPicPr>
        <p:blipFill>
          <a:blip r:embed="rId1"/>
          <a:stretch/>
        </p:blipFill>
        <p:spPr>
          <a:xfrm>
            <a:off x="95400" y="2195640"/>
            <a:ext cx="8953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ssen/PV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Users\g-sch_000\Pictures\vessen bigeminie.jpg"/>
          <p:cNvPicPr/>
          <p:nvPr/>
        </p:nvPicPr>
        <p:blipFill>
          <a:blip r:embed="rId1"/>
          <a:stretch/>
        </p:blipFill>
        <p:spPr>
          <a:xfrm>
            <a:off x="3124080" y="2362320"/>
            <a:ext cx="5867640" cy="434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g-sch_000\Pictures\PVC10.JPG"/>
          <p:cNvPicPr/>
          <p:nvPr/>
        </p:nvPicPr>
        <p:blipFill>
          <a:blip r:embed="rId2"/>
          <a:stretch/>
        </p:blipFill>
        <p:spPr>
          <a:xfrm>
            <a:off x="380880" y="1828800"/>
            <a:ext cx="3676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tachycardie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tachycar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g-sch_000\Pictures\download 5.jpg"/>
          <p:cNvPicPr/>
          <p:nvPr/>
        </p:nvPicPr>
        <p:blipFill>
          <a:blip r:embed="rId1"/>
          <a:stretch/>
        </p:blipFill>
        <p:spPr>
          <a:xfrm>
            <a:off x="1219320" y="2438280"/>
            <a:ext cx="6705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rdo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ze present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de prikkelgeleiding van het hart we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waar de ECG electroden geplakt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u een technisch goed ECG 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en aantal storingen van het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nkele ritme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aktijk: ECG maken aan de hand van h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fibrilleren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fibriller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vensgevaarlijk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g-sch_000\Pictures\download 6.jpg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g-sch_000\Pictures\images (4).jpg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e; nog vrage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hthoek 2"/>
          <p:cNvSpPr/>
          <p:nvPr/>
        </p:nvSpPr>
        <p:spPr>
          <a:xfrm>
            <a:off x="971640" y="301320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nl.ecgpedia.org/images/7/74/Noise_move.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kstvak 3"/>
          <p:cNvSpPr/>
          <p:nvPr/>
        </p:nvSpPr>
        <p:spPr>
          <a:xfrm flipH="1">
            <a:off x="154692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strid; Afdeling Cardiologie Martini zieken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kstvak 4"/>
          <p:cNvSpPr/>
          <p:nvPr/>
        </p:nvSpPr>
        <p:spPr>
          <a:xfrm>
            <a:off x="1547640" y="51577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twi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cardiogram</a:t>
            </a:r>
            <a:br>
              <a:rPr sz="4400"/>
            </a:br>
            <a:br>
              <a:rPr sz="44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en elektrocardiogram of </a:t>
            </a:r>
            <a:r>
              <a:rPr b="1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CG</a:t>
            </a: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 (in Nederland in de volksmond vaak </a:t>
            </a:r>
            <a:br>
              <a:rPr sz="20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hartfilmpje genoemd) is een registratie van de elektrische activiteit van de hartspi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419720" y="327672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g-sch_000\Pictures\images (1).jpg"/>
          <p:cNvPicPr/>
          <p:nvPr/>
        </p:nvPicPr>
        <p:blipFill>
          <a:blip r:embed="rId1"/>
          <a:stretch/>
        </p:blipFill>
        <p:spPr>
          <a:xfrm>
            <a:off x="1752480" y="327672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Users\g-sch_000\Pictures\300px-Conduction_system.png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flipH="1" flipV="1">
            <a:off x="30384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720" y="12859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de sinusknoop zitten pacemakercellen die de hartfrequentie bep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gaan d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boezem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atria) samentrekken, daarna trekken de 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hartkam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ventrikels) samen. Het elektrische signaal loopt va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Sinus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boezems (at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AV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bundel van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hartkamers (ventrik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linker en rechter bundel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Purkinjevezels die aan de binnenzijde van de hartspier l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Users\g-sch_000\Pictures\images (5).jpg"/>
          <p:cNvPicPr/>
          <p:nvPr/>
        </p:nvPicPr>
        <p:blipFill>
          <a:blip r:embed="rId2"/>
          <a:stretch/>
        </p:blipFill>
        <p:spPr>
          <a:xfrm>
            <a:off x="5380200" y="285264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Vier fasen EC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280" y="228600"/>
            <a:ext cx="8991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ier fasen van een hart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begint in de sinusknoop die zich bevindt in het plafond van de rechterboezem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ongeveer 0.11 seconden of minder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-top= sinusritme!!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na wordt de elektrische prikkel even opgehouden in de AV-knoop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2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R-segmen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verspreidt zich over de spierwand van de kamers, die daardoor krachtig samenknij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08-0.10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QRS-complex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stelfas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T-top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g-sch_000\Pictures\download 1.jpg"/>
          <p:cNvPicPr/>
          <p:nvPr/>
        </p:nvPicPr>
        <p:blipFill>
          <a:blip r:embed="rId1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CG MAK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de borst (pre-cordi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20640"/>
            <a:ext cx="82789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1 - 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lruimte recht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2  -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link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3 - geplaatst halverwege tussen V2 en V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4 - geplaatst in de 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in het midclaviculairl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5 - geplaatst halverwege tussen V4 en 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6 - geplaatst in axillairlijn op dezelfde hoogte als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g-sch_000\Pictures\download 4.jpg"/>
          <p:cNvPicPr/>
          <p:nvPr/>
        </p:nvPicPr>
        <p:blipFill>
          <a:blip r:embed="rId1"/>
          <a:stretch/>
        </p:blipFill>
        <p:spPr>
          <a:xfrm>
            <a:off x="179280" y="1868400"/>
            <a:ext cx="27464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2" descr=""/>
          <p:cNvPicPr/>
          <p:nvPr/>
        </p:nvPicPr>
        <p:blipFill>
          <a:blip r:embed="rId2"/>
          <a:stretch/>
        </p:blipFill>
        <p:spPr>
          <a:xfrm>
            <a:off x="6156360" y="2120760"/>
            <a:ext cx="2530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extremit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134200" cy="26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Rood (R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rechter 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wart (RB)  : op rechterbeen (enkel) = neutr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00"/>
                </a:solidFill>
                <a:latin typeface="Arial"/>
                <a:ea typeface="Arial"/>
              </a:rPr>
              <a:t>Geel   (L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8000"/>
                </a:solidFill>
                <a:latin typeface="Arial"/>
                <a:ea typeface="Arial"/>
              </a:rPr>
              <a:t>Groen (LB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been (enk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g-sch_000\Pictures\download 3.jpg"/>
          <p:cNvPicPr/>
          <p:nvPr/>
        </p:nvPicPr>
        <p:blipFill>
          <a:blip r:embed="rId1"/>
          <a:stretch/>
        </p:blipFill>
        <p:spPr>
          <a:xfrm>
            <a:off x="3059280" y="155736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7:01Z</dcterms:created>
  <dc:creator>g-schouten@home.nl</dc:creator>
  <dc:description/>
  <dc:language>en-US</dc:language>
  <cp:lastModifiedBy>Bouke Cuperus</cp:lastModifiedBy>
  <dcterms:modified xsi:type="dcterms:W3CDTF">2016-09-22T14:08:51Z</dcterms:modified>
  <cp:revision>33</cp:revision>
  <dc:subject/>
  <dc:title>Elektrocardiogram  Een elektrocardiogram of ECG (in Nederland in de volksmond vaak  hartfilmpje genoemd) is een registratie van de elektrische activiteit van de hartspier</dc:title>
</cp:coreProperties>
</file>