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38FC-0A10-47F8-A54D-E19C1639950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9904-74D3-49C9-A8DE-3085F81F9A8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rikelextrasystole wordt vaak afgekort als VES en soms premature ventriculare contractie genoemd (PVC) of ventricular premature beat (VPB). Een extra slag met zijn oorsprong in de ventrikels. PVC's worden niet/nauwelijks via het bundeltakgeleidingssysteem voortgeleid. Dit veroorzaakt een trage geleiding (verbreed QRS-complex). Na een PVC volgt een lange compensatoire pauze. Oorzaken o.a.: ischemie, hypoxie, oud litteken, idiopathisch. 50% van gezonde mannen heeft sporadisch PVC's. Na een hartinfarct is het hebben van &gt; 10 PVC's / uur een teken van een slechtere prognose.[1] Aan de vorm is de oorsprong te herleiden. Een LBTB-vorm komt vaak vanuit het rechter ventrikel. Een VES met RBTB patroon komt vanuit de linker ventrikel. De QRS duur is &gt; 0.12 secon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3 of meer extrasystolen direct achter elkaar spreekt met van een ventrikeltachycar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D041-2EEE-48DB-8DB4-992C65D456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on: hartwij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1EDA-9C78-4A44-ABCD-CCFEF9366AF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de extremiteitselectrodes: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RA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recht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neutraal, op het rechter been (= electrisch aarde of nulpunt ten opzichte waarvan de elektrische spanning wordt gemeten, in theorie kan deze willekeurig op het lichaam geplaatst word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- voet, op het linker been (fe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De extremiteitsafleid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extremiteitsafleidingen (bedacht door Einthoven) zij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rechter naar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rechter arm naar linker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an linker arm naar linker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telling van de afleidingen draait dus tegen de klok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aarnaast zijn er elektrisch afgeleide afleidingen (bedacht door Goldberger). Deze hebben als centrum het elektrisch gemiddelde van de extremiteitsafleidingen (ongeveer het hart zelf du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L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wijst naar de Linker 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R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de Rechter a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AVF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de voeten (Fe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letter a staat voor "augmented" (versterkt) en de letter V voor "voltage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aVR + aVL + aVF =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30BC-E0F7-4376-86DC-9A305DD2789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77F-7E89-44F6-979B-C1BF12AB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31B-26C5-48A4-8101-FA274E54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1ED-AED1-42C9-B7FB-41C275A6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E85-9DD9-4B35-831D-22BB9CD1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C32-61F4-4CAB-B82F-56F4484A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87E-F250-48CA-BB00-21B2D48D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875-AA54-4F68-BEA4-6D006EF0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32B-2EF3-413B-9F29-8BA86645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57E-BD68-4717-8DF3-241DD083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6E7-6DBB-4622-980A-C7F0EC4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EAE-DE84-4D66-BC8E-2B90001F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42F-8418-45AB-A460-53FC5940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9DA4-BCE3-4686-97E7-9C7D42A5D6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aken van een 12 afleidingen E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fbeelding 4" descr=""/>
          <p:cNvPicPr/>
          <p:nvPr/>
        </p:nvPicPr>
        <p:blipFill>
          <a:blip r:embed="rId1"/>
          <a:stretch/>
        </p:blipFill>
        <p:spPr>
          <a:xfrm>
            <a:off x="1224000" y="198900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Adviezen voor technisch goed 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reid de huid goed vo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ren verwijderen door te scheren ter plaatse van de elektr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ventueel zacht schuren van de huid (bijvoorbeeld met een handdoek of met het schuurpadje dat hiertoe op sommige elektrode-plakkers z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bruiken van contactspray eventueel na het afnemen van de huid met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Adviezen voor technisch goed EC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kom elektrische sto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kom spiertremoren door de patiënt stil te laten liggen en niet te laten pr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rg ervoor dat de draden genoeg speling hebben en niet onder spanning 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kom elektromagnetische interferentie van andere apparaten: mogelijke bronnen: TL verlichting, elektrisch bed, mobiele telefoon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Afbeelding 3" descr=""/>
          <p:cNvPicPr/>
          <p:nvPr/>
        </p:nvPicPr>
        <p:blipFill>
          <a:blip r:embed="rId1"/>
          <a:stretch/>
        </p:blipFill>
        <p:spPr>
          <a:xfrm>
            <a:off x="6012000" y="1930320"/>
            <a:ext cx="2584440" cy="701640"/>
          </a:xfrm>
          <a:prstGeom prst="rect">
            <a:avLst/>
          </a:prstGeom>
          <a:ln w="0">
            <a:noFill/>
          </a:ln>
        </p:spPr>
      </p:pic>
      <p:pic>
        <p:nvPicPr>
          <p:cNvPr id="79" name="Afbeelding 4" descr=""/>
          <p:cNvPicPr/>
          <p:nvPr/>
        </p:nvPicPr>
        <p:blipFill>
          <a:blip r:embed="rId2"/>
          <a:stretch/>
        </p:blipFill>
        <p:spPr>
          <a:xfrm>
            <a:off x="6622920" y="5816520"/>
            <a:ext cx="180036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staat er op een ECG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inksboven: Patiënten gegev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chts daarvan: hartfrequentie, geleidingstijden en  ha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terpretatie ECG (‘diagnos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inksonder staat de 'snelheid van het papier' (25 mm/s op de horizontale as), de gevoeligheid (10mm/mV) en de frequentie van het filter (40Hz, filtert storingen van bijvoorbeeld TL verlichting we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jk op het ECG  is een vertikaal blokje (moet 10 mm zij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2 af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inusrit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C:\Users\g-sch_000\Pictures\download 15.jpg"/>
          <p:cNvPicPr/>
          <p:nvPr/>
        </p:nvPicPr>
        <p:blipFill>
          <a:blip r:embed="rId1"/>
          <a:stretch/>
        </p:blipFill>
        <p:spPr>
          <a:xfrm>
            <a:off x="914400" y="1676520"/>
            <a:ext cx="449568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g-sch_000\Pictures\download 16.jpg"/>
          <p:cNvPicPr/>
          <p:nvPr/>
        </p:nvPicPr>
        <p:blipFill>
          <a:blip r:embed="rId2"/>
          <a:stretch/>
        </p:blipFill>
        <p:spPr>
          <a:xfrm>
            <a:off x="3886200" y="4495680"/>
            <a:ext cx="435924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3901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1600200"/>
            <a:ext cx="914400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ffffff"/>
                </a:solidFill>
                <a:latin typeface="Tahoma"/>
                <a:ea typeface="Tahoma"/>
              </a:rPr>
              <a:t>Boezis </a:t>
            </a:r>
            <a:r>
              <a:rPr b="1" lang="nl-NL" sz="900" spc="-1" strike="noStrike">
                <a:solidFill>
                  <a:srgbClr val="ffffff"/>
                </a:solidFill>
                <a:latin typeface="Times New Roman"/>
                <a:ea typeface="Tahoma"/>
              </a:rPr>
              <a:t>éé</a:t>
            </a:r>
            <a:r>
              <a:rPr b="1" lang="nl-NL" sz="900" spc="-1" strike="noStrike">
                <a:solidFill>
                  <a:srgbClr val="ffffff"/>
                </a:solidFill>
                <a:latin typeface="Tahoma"/>
                <a:ea typeface="Tahoma"/>
              </a:rPr>
              <a:t>n van de meest voorkomende hartritmestoornisse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04920" y="1143000"/>
            <a:ext cx="8153280" cy="34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228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Er zijn verschillende vormen van hartritmestoornissen. Een daarvan is boezemfibrilleren. Een andere term voor deze vorm is atriumfibrill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Boezemfibrilleren is een hartritmestoornis waarbij het hart onregelmatig en meestal sneller klo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Het is een van de meest voorkomende hartritmestoorniss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oezemfibriller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C:\Users\g-sch_000\Pictures\download 13.png"/>
          <p:cNvPicPr/>
          <p:nvPr/>
        </p:nvPicPr>
        <p:blipFill>
          <a:blip r:embed="rId1"/>
          <a:stretch/>
        </p:blipFill>
        <p:spPr>
          <a:xfrm>
            <a:off x="5562720" y="403848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g-sch_000\Pictures\download 12.jpg"/>
          <p:cNvPicPr/>
          <p:nvPr/>
        </p:nvPicPr>
        <p:blipFill>
          <a:blip r:embed="rId1"/>
          <a:stretch/>
        </p:blipFill>
        <p:spPr>
          <a:xfrm>
            <a:off x="1752480" y="457200"/>
            <a:ext cx="563904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uze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C:\Users\g-sch_000\Pictures\download 3.png"/>
          <p:cNvPicPr/>
          <p:nvPr/>
        </p:nvPicPr>
        <p:blipFill>
          <a:blip r:embed="rId1"/>
          <a:stretch/>
        </p:blipFill>
        <p:spPr>
          <a:xfrm>
            <a:off x="95400" y="2195640"/>
            <a:ext cx="89532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ssen/PV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C:\Users\g-sch_000\Pictures\vessen bigeminie.jpg"/>
          <p:cNvPicPr/>
          <p:nvPr/>
        </p:nvPicPr>
        <p:blipFill>
          <a:blip r:embed="rId1"/>
          <a:stretch/>
        </p:blipFill>
        <p:spPr>
          <a:xfrm>
            <a:off x="3124080" y="2362320"/>
            <a:ext cx="5867640" cy="434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g-sch_000\Pictures\PVC10.JPG"/>
          <p:cNvPicPr/>
          <p:nvPr/>
        </p:nvPicPr>
        <p:blipFill>
          <a:blip r:embed="rId2"/>
          <a:stretch/>
        </p:blipFill>
        <p:spPr>
          <a:xfrm>
            <a:off x="380880" y="1828800"/>
            <a:ext cx="36766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ntrikeltachycardie/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mertachycar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C:\Users\g-sch_000\Pictures\download 5.jpg"/>
          <p:cNvPicPr/>
          <p:nvPr/>
        </p:nvPicPr>
        <p:blipFill>
          <a:blip r:embed="rId1"/>
          <a:stretch/>
        </p:blipFill>
        <p:spPr>
          <a:xfrm>
            <a:off x="1219320" y="2438280"/>
            <a:ext cx="67053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rdo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ze present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hoe de prikkelgeleiding van het hart werk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waar de ECG electroden geplakt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et u hoe u een technisch goed ECG 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kent u een aantal storingen van het E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kent u enkele ritmestoo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aktijk: ECG maken aan de hand van het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ntrikelfibrilleren/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amerfibriller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vensgevaarlijk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Users\g-sch_000\Pictures\download 6.jpg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g-sch_000\Pictures\images (4).jpg"/>
          <p:cNvPicPr/>
          <p:nvPr/>
        </p:nvPicPr>
        <p:blipFill>
          <a:blip r:embed="rId1"/>
          <a:stretch/>
        </p:blipFill>
        <p:spPr>
          <a:xfrm>
            <a:off x="2438280" y="2057400"/>
            <a:ext cx="4496040" cy="3124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inde; nog vragen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hthoek 2"/>
          <p:cNvSpPr/>
          <p:nvPr/>
        </p:nvSpPr>
        <p:spPr>
          <a:xfrm>
            <a:off x="971640" y="301320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nl.ecgpedia.org/images/7/74/Noise_move.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kstvak 3"/>
          <p:cNvSpPr/>
          <p:nvPr/>
        </p:nvSpPr>
        <p:spPr>
          <a:xfrm flipH="1">
            <a:off x="1546920" y="4221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strid; Afdeling Cardiologie Martini zieken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kstvak 4"/>
          <p:cNvSpPr/>
          <p:nvPr/>
        </p:nvSpPr>
        <p:spPr>
          <a:xfrm>
            <a:off x="1547640" y="515772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artwij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lektrocardiogram</a:t>
            </a:r>
            <a:br>
              <a:rPr sz="4400"/>
            </a:br>
            <a:br>
              <a:rPr sz="4400"/>
            </a:b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Een elektrocardiogram of </a:t>
            </a:r>
            <a:r>
              <a:rPr b="1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ECG</a:t>
            </a: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 (in Nederland in de volksmond vaak </a:t>
            </a:r>
            <a:br>
              <a:rPr sz="2000"/>
            </a:br>
            <a:r>
              <a:rPr b="0" lang="nl-NL" sz="2000" spc="-1" strike="noStrike">
                <a:solidFill>
                  <a:srgbClr val="444444"/>
                </a:solidFill>
                <a:latin typeface="Arial"/>
                <a:ea typeface="Arial"/>
              </a:rPr>
              <a:t>hartfilmpje genoemd) is een registratie van de elektrische activiteit van de hartspi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4419720" y="327672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C:\Users\g-sch_000\Pictures\images (1).jpg"/>
          <p:cNvPicPr/>
          <p:nvPr/>
        </p:nvPicPr>
        <p:blipFill>
          <a:blip r:embed="rId1"/>
          <a:stretch/>
        </p:blipFill>
        <p:spPr>
          <a:xfrm>
            <a:off x="1752480" y="327672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t 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:\Users\g-sch_000\Pictures\300px-Conduction_system.png"/>
          <p:cNvPicPr/>
          <p:nvPr/>
        </p:nvPicPr>
        <p:blipFill>
          <a:blip r:embed="rId1"/>
          <a:stretch/>
        </p:blipFill>
        <p:spPr>
          <a:xfrm>
            <a:off x="1905120" y="1752480"/>
            <a:ext cx="4876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 flipH="1" flipV="1">
            <a:off x="30384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96720" y="1285920"/>
            <a:ext cx="769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de sinusknoop zitten pacemakercellen die de hartfrequentie bepa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gaan d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b0080"/>
                </a:solidFill>
                <a:latin typeface="Arial"/>
                <a:ea typeface="Arial"/>
              </a:rPr>
              <a:t>boezem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atria) samentrekken, daarna trekken de </a:t>
            </a:r>
            <a:r>
              <a:rPr b="0" lang="nl-NL" sz="2400" spc="-1" strike="noStrike">
                <a:solidFill>
                  <a:srgbClr val="0b0080"/>
                </a:solidFill>
                <a:latin typeface="Arial"/>
                <a:ea typeface="Arial"/>
              </a:rPr>
              <a:t>hartkamer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ventrikels) samen. Het elektrische signaal loopt va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Sinus-kn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boezems (at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AV-kn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bundel van 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hartkamers (ventrik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linker en rechter bundel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de Purkinjevezels die aan de binnenzijde van de hartspier l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elektrische prikk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C:\Users\g-sch_000\Pictures\images (5).jpg"/>
          <p:cNvPicPr/>
          <p:nvPr/>
        </p:nvPicPr>
        <p:blipFill>
          <a:blip r:embed="rId2"/>
          <a:stretch/>
        </p:blipFill>
        <p:spPr>
          <a:xfrm>
            <a:off x="5380200" y="2852640"/>
            <a:ext cx="2895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elektrische prikk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Vier fasen ECG"/>
          <p:cNvPicPr/>
          <p:nvPr/>
        </p:nvPicPr>
        <p:blipFill>
          <a:blip r:embed="rId1"/>
          <a:stretch/>
        </p:blipFill>
        <p:spPr>
          <a:xfrm>
            <a:off x="762120" y="190512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52280" y="228600"/>
            <a:ext cx="8991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ier fasen van een harts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elektrische prikkel begint in de sinusknoop die zich bevindt in het plafond van de rechterboezem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ongeveer 0.11 seconden of minder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P-top= sinusritme!!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na wordt de elektrische prikkel even opgehouden in de AV-knoop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0.2 second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PR-segmen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elektrische prikkel verspreidt zich over de spierwand van de kamers, die daardoor krachtig samenknij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ur: 0.08-0.10 second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QRS-complex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stelfase.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am: </a:t>
            </a:r>
            <a:r>
              <a:rPr b="0" i="1" lang="nl-NL" sz="2400" spc="-1" strike="noStrike">
                <a:solidFill>
                  <a:srgbClr val="cc0066"/>
                </a:solidFill>
                <a:latin typeface="Arial"/>
                <a:ea typeface="Arial"/>
              </a:rPr>
              <a:t>T-top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C:\Users\g-sch_000\Pictures\download 1.jpg"/>
          <p:cNvPicPr/>
          <p:nvPr/>
        </p:nvPicPr>
        <p:blipFill>
          <a:blip r:embed="rId1"/>
          <a:stretch/>
        </p:blipFill>
        <p:spPr>
          <a:xfrm>
            <a:off x="6705720" y="457200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CG MAK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lektroden plaatsen op de borst (pre-cordia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4220640"/>
            <a:ext cx="8278920" cy="22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1 - geplaatst in de 4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lruimte rechts van het borst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2  -geplaatst in de 4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alruimte links van het borst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3 - geplaatst halverwege tussen V2 en V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4 - geplaatst in de 5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intercostaalruimte in het midclaviculairl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5 - geplaatst halverwege tussen V4 en 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6 - geplaatst in axillairlijn op dezelfde hoogte als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C:\Users\g-sch_000\Pictures\download 4.jpg"/>
          <p:cNvPicPr/>
          <p:nvPr/>
        </p:nvPicPr>
        <p:blipFill>
          <a:blip r:embed="rId1"/>
          <a:stretch/>
        </p:blipFill>
        <p:spPr>
          <a:xfrm>
            <a:off x="179280" y="1868400"/>
            <a:ext cx="274644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2" descr=""/>
          <p:cNvPicPr/>
          <p:nvPr/>
        </p:nvPicPr>
        <p:blipFill>
          <a:blip r:embed="rId2"/>
          <a:stretch/>
        </p:blipFill>
        <p:spPr>
          <a:xfrm>
            <a:off x="6156360" y="2120760"/>
            <a:ext cx="25304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lektroden plaatsen op extremite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3860640"/>
            <a:ext cx="8134200" cy="26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Rood (RA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rechter (boven)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wart (RB)  : op rechterbeen (enkel) = neutr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cc00"/>
                </a:solidFill>
                <a:latin typeface="Arial"/>
                <a:ea typeface="Arial"/>
              </a:rPr>
              <a:t>Geel   (LA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linker(boven)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8000"/>
                </a:solidFill>
                <a:latin typeface="Arial"/>
                <a:ea typeface="Arial"/>
              </a:rPr>
              <a:t>Groen (LB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 : op linkerbeen (enk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C:\Users\g-sch_000\Pictures\download 3.jpg"/>
          <p:cNvPicPr/>
          <p:nvPr/>
        </p:nvPicPr>
        <p:blipFill>
          <a:blip r:embed="rId1"/>
          <a:stretch/>
        </p:blipFill>
        <p:spPr>
          <a:xfrm>
            <a:off x="3059280" y="1557360"/>
            <a:ext cx="28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7:01Z</dcterms:created>
  <dc:creator>g-schouten@home.nl</dc:creator>
  <dc:description/>
  <dc:language>en-US</dc:language>
  <cp:lastModifiedBy>Bouke Cuperus</cp:lastModifiedBy>
  <dcterms:modified xsi:type="dcterms:W3CDTF">2016-09-22T14:08:51Z</dcterms:modified>
  <cp:revision>33</cp:revision>
  <dc:subject/>
  <dc:title>Elektrocardiogram  Een elektrocardiogram of ECG (in Nederland in de volksmond vaak  hartfilmpje genoemd) is een registratie van de elektrische activiteit van de hartspier</dc:title>
</cp:coreProperties>
</file>