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C474-FCA6-4A4A-8781-697E114B915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4C9C-842C-431C-85A3-68AFF710324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ntrikelextrasystole wordt vaak afgekort als VES en soms premature ventriculare contractie genoemd (PVC) of ventricular premature beat (VPB). Een extra slag met zijn oorsprong in de ventrikels. PVC's worden niet/nauwelijks via het bundeltakgeleidingssysteem voortgeleid. Dit veroorzaakt een trage geleiding (verbreed QRS-complex). Na een PVC volgt een lange compensatoire pauze. Oorzaken o.a.: ischemie, hypoxie, oud litteken, idiopathisch. 50% van gezonde mannen heeft sporadisch PVC's. Na een hartinfarct is het hebben van &gt; 10 PVC's / uur een teken van een slechtere prognose.[1] Aan de vorm is de oorsprong te herleiden. Een LBTB-vorm komt vaak vanuit het rechter ventrikel. Een VES met RBTB patroon komt vanuit de linker ventrikel. De QRS duur is &gt; 0.12 secon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 3 of meer extrasystolen direct achter elkaar spreekt met van een ventrikeltachycard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F431-F29E-4036-96E3-85578D21FCC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on: hartwijz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A781-798D-4C6A-B3B5-803E0DEA2F3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de extremiteitselectrodes: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LA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- linker 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RA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- rechter 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- neutraal, op het rechter been (= electrisch aarde of nulpunt ten opzichte waarvan de elektrische spanning wordt gemeten, in theorie kan deze willekeurig op het lichaam geplaatst word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- voet, op het linker been (fe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De extremiteitsafleidi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extremiteitsafleidingen (bedacht door Einthoven) zij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van rechter naar linker 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van rechter arm naar linker b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van linker arm naar linker b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telling van de afleidingen draait dus tegen de klok 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aarnaast zijn er elektrisch afgeleide afleidingen (bedacht door Goldberger). Deze hebben als centrum het elektrisch gemiddelde van de extremiteitsafleidingen (ongeveer het hart zelf dus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AVL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wijst naar de Linker 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AVR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de Rechter a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AVF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de voeten (Fe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letter a staat voor "augmented" (versterkt) en de letter V voor "voltage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(aVR + aVL + aVF =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109D-E2C2-4DAE-93F1-9039A25374A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CBA1-00C5-408A-8CF7-B149B807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D7F9-24E3-4C2B-A6F7-7EEF4C55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6F30-1B8A-4248-B0B3-23C88F13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E589-6382-47A1-82CB-FD98B5B1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35C4-C9AB-479D-8138-9394FE8D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CFFA-1578-4C70-9417-DBCAA011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2CD5-15AF-4B42-8408-52055382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3A68-D924-4FAE-A34E-9A80AEC3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CDD-74FA-44B6-9718-817BD021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7169-8DC8-4EB8-B134-1D9D30B3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9E58-1B6F-40C1-89C5-1F02782A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D2F4-5283-4812-BB0C-D831BCF0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CD68-75B0-45BA-9188-DB90CEDFE41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aken van een 12 afleidingen E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Afbeelding 4" descr=""/>
          <p:cNvPicPr/>
          <p:nvPr/>
        </p:nvPicPr>
        <p:blipFill>
          <a:blip r:embed="rId1"/>
          <a:stretch/>
        </p:blipFill>
        <p:spPr>
          <a:xfrm>
            <a:off x="1224000" y="1989000"/>
            <a:ext cx="66960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Adviezen voor technisch goed EC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reid de huid goed voo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aren verwijderen door te scheren ter plaatse van de elektr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ventueel zacht schuren van de huid (bijvoorbeeld met een handdoek of met het schuurpadje dat hiertoe op sommige elektrode-plakkers z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bruiken van contactspray eventueel na het afnemen van de huid met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Adviezen voor technisch goed EC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kom elektrische stor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kom spiertremoren door de patiënt stil te laten liggen en niet te laten pr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org ervoor dat de draden genoeg speling hebben en niet onder spanning sta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kom elektromagnetische interferentie van andere apparaten: mogelijke bronnen: TL verlichting, elektrisch bed, mobiele telefoons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Afbeelding 3" descr=""/>
          <p:cNvPicPr/>
          <p:nvPr/>
        </p:nvPicPr>
        <p:blipFill>
          <a:blip r:embed="rId1"/>
          <a:stretch/>
        </p:blipFill>
        <p:spPr>
          <a:xfrm>
            <a:off x="6012000" y="1930320"/>
            <a:ext cx="2584440" cy="701640"/>
          </a:xfrm>
          <a:prstGeom prst="rect">
            <a:avLst/>
          </a:prstGeom>
          <a:ln w="0">
            <a:noFill/>
          </a:ln>
        </p:spPr>
      </p:pic>
      <p:pic>
        <p:nvPicPr>
          <p:cNvPr id="79" name="Afbeelding 4" descr=""/>
          <p:cNvPicPr/>
          <p:nvPr/>
        </p:nvPicPr>
        <p:blipFill>
          <a:blip r:embed="rId2"/>
          <a:stretch/>
        </p:blipFill>
        <p:spPr>
          <a:xfrm>
            <a:off x="6622920" y="5816520"/>
            <a:ext cx="180036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Wat staat er op een ECG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inksboven: Patiënten gegev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chts daarvan: hartfrequentie, geleidingstijden en  ha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terpretatie ECG (‘diagnos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inksonder staat de 'snelheid van het papier' (25 mm/s op de horizontale as), de gevoeligheid (10mm/mV) en de frequentie van het filter (40Hz, filtert storingen van bijvoorbeeld TL verlichting we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jk op het ECG  is een vertikaal blokje (moet 10 mm zij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2 afleid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inusrit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C:\Users\g-sch_000\Pictures\download 15.jpg"/>
          <p:cNvPicPr/>
          <p:nvPr/>
        </p:nvPicPr>
        <p:blipFill>
          <a:blip r:embed="rId1"/>
          <a:stretch/>
        </p:blipFill>
        <p:spPr>
          <a:xfrm>
            <a:off x="914400" y="1676520"/>
            <a:ext cx="4495680" cy="2743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Users\g-sch_000\Pictures\download 16.jpg"/>
          <p:cNvPicPr/>
          <p:nvPr/>
        </p:nvPicPr>
        <p:blipFill>
          <a:blip r:embed="rId2"/>
          <a:stretch/>
        </p:blipFill>
        <p:spPr>
          <a:xfrm>
            <a:off x="3886200" y="4495680"/>
            <a:ext cx="435924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Afbeelding 3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39016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1600200"/>
            <a:ext cx="914400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76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ffffff"/>
                </a:solidFill>
                <a:latin typeface="Tahoma"/>
                <a:ea typeface="Tahoma"/>
              </a:rPr>
              <a:t>Boezis </a:t>
            </a:r>
            <a:r>
              <a:rPr b="1" lang="nl-NL" sz="900" spc="-1" strike="noStrike">
                <a:solidFill>
                  <a:srgbClr val="ffffff"/>
                </a:solidFill>
                <a:latin typeface="Times New Roman"/>
                <a:ea typeface="Tahoma"/>
              </a:rPr>
              <a:t>éé</a:t>
            </a:r>
            <a:r>
              <a:rPr b="1" lang="nl-NL" sz="900" spc="-1" strike="noStrike">
                <a:solidFill>
                  <a:srgbClr val="ffffff"/>
                </a:solidFill>
                <a:latin typeface="Tahoma"/>
                <a:ea typeface="Tahoma"/>
              </a:rPr>
              <a:t>n van de meest voorkomende hartritmestoornisse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04920" y="1143000"/>
            <a:ext cx="8153280" cy="344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Er zijn verschillende vormen van hartritmestoornissen. Een daarvan is boezemfibrilleren. Een andere term voor deze vorm is atriumfibrill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Boezemfibrilleren is een hartritmestoornis waarbij het hart onregelmatig en meestal sneller klo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Het is een van de meest voorkomende hartritmestoorniss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oezemfibriller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C:\Users\g-sch_000\Pictures\download 13.png"/>
          <p:cNvPicPr/>
          <p:nvPr/>
        </p:nvPicPr>
        <p:blipFill>
          <a:blip r:embed="rId1"/>
          <a:stretch/>
        </p:blipFill>
        <p:spPr>
          <a:xfrm>
            <a:off x="5562720" y="4038480"/>
            <a:ext cx="2286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C:\Users\g-sch_000\Pictures\download 12.jpg"/>
          <p:cNvPicPr/>
          <p:nvPr/>
        </p:nvPicPr>
        <p:blipFill>
          <a:blip r:embed="rId1"/>
          <a:stretch/>
        </p:blipFill>
        <p:spPr>
          <a:xfrm>
            <a:off x="1752480" y="457200"/>
            <a:ext cx="563904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auze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C:\Users\g-sch_000\Pictures\download 3.png"/>
          <p:cNvPicPr/>
          <p:nvPr/>
        </p:nvPicPr>
        <p:blipFill>
          <a:blip r:embed="rId1"/>
          <a:stretch/>
        </p:blipFill>
        <p:spPr>
          <a:xfrm>
            <a:off x="95400" y="2195640"/>
            <a:ext cx="895320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ssen/PV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C:\Users\g-sch_000\Pictures\vessen bigeminie.jpg"/>
          <p:cNvPicPr/>
          <p:nvPr/>
        </p:nvPicPr>
        <p:blipFill>
          <a:blip r:embed="rId1"/>
          <a:stretch/>
        </p:blipFill>
        <p:spPr>
          <a:xfrm>
            <a:off x="3124080" y="2362320"/>
            <a:ext cx="5867640" cy="4348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Users\g-sch_000\Pictures\PVC10.JPG"/>
          <p:cNvPicPr/>
          <p:nvPr/>
        </p:nvPicPr>
        <p:blipFill>
          <a:blip r:embed="rId2"/>
          <a:stretch/>
        </p:blipFill>
        <p:spPr>
          <a:xfrm>
            <a:off x="380880" y="1828800"/>
            <a:ext cx="36766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ntrikeltachycardie/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kamertachycard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C:\Users\g-sch_000\Pictures\download 5.jpg"/>
          <p:cNvPicPr/>
          <p:nvPr/>
        </p:nvPicPr>
        <p:blipFill>
          <a:blip r:embed="rId1"/>
          <a:stretch/>
        </p:blipFill>
        <p:spPr>
          <a:xfrm>
            <a:off x="1219320" y="2438280"/>
            <a:ext cx="67053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eerdo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 het eind van deze presentat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et u hoe de prikkelgeleiding van het hart werk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et u waar de ECG electroden geplakt wo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et u hoe u een technisch goed ECG ma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rkent u een aantal storingen van het E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rkent u enkele ritmestoor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aktijk: ECG maken aan de hand van het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ntrikelfibrilleren/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kamerfibriller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evensgevaarlijk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C:\Users\g-sch_000\Pictures\download 6.jpg"/>
          <p:cNvPicPr/>
          <p:nvPr/>
        </p:nvPicPr>
        <p:blipFill>
          <a:blip r:embed="rId1"/>
          <a:stretch/>
        </p:blipFill>
        <p:spPr>
          <a:xfrm>
            <a:off x="304920" y="2666880"/>
            <a:ext cx="8686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g-sch_000\Pictures\images (4).jpg"/>
          <p:cNvPicPr/>
          <p:nvPr/>
        </p:nvPicPr>
        <p:blipFill>
          <a:blip r:embed="rId1"/>
          <a:stretch/>
        </p:blipFill>
        <p:spPr>
          <a:xfrm>
            <a:off x="2438280" y="2057400"/>
            <a:ext cx="4496040" cy="3124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inde; nog vragen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ron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hthoek 2"/>
          <p:cNvSpPr/>
          <p:nvPr/>
        </p:nvSpPr>
        <p:spPr>
          <a:xfrm>
            <a:off x="971640" y="3013200"/>
            <a:ext cx="74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ttp://nl.ecgpedia.org/images/7/74/Noise_move.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kstvak 3"/>
          <p:cNvSpPr/>
          <p:nvPr/>
        </p:nvSpPr>
        <p:spPr>
          <a:xfrm flipH="1">
            <a:off x="1546920" y="422100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strid; Afdeling Cardiologie Martini ziekenh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kstvak 4"/>
          <p:cNvSpPr/>
          <p:nvPr/>
        </p:nvSpPr>
        <p:spPr>
          <a:xfrm>
            <a:off x="1547640" y="515772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artwij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lektrocardiogram</a:t>
            </a:r>
            <a:br>
              <a:rPr sz="4400"/>
            </a:br>
            <a:br>
              <a:rPr sz="4400"/>
            </a:br>
            <a:r>
              <a:rPr b="0" lang="nl-NL" sz="2000" spc="-1" strike="noStrike">
                <a:solidFill>
                  <a:srgbClr val="444444"/>
                </a:solidFill>
                <a:latin typeface="Arial"/>
                <a:ea typeface="Arial"/>
              </a:rPr>
              <a:t>Een elektrocardiogram of </a:t>
            </a:r>
            <a:r>
              <a:rPr b="1" lang="nl-NL" sz="2000" spc="-1" strike="noStrike">
                <a:solidFill>
                  <a:srgbClr val="444444"/>
                </a:solidFill>
                <a:latin typeface="Arial"/>
                <a:ea typeface="Arial"/>
              </a:rPr>
              <a:t>ECG</a:t>
            </a:r>
            <a:r>
              <a:rPr b="0" lang="nl-NL" sz="2000" spc="-1" strike="noStrike">
                <a:solidFill>
                  <a:srgbClr val="444444"/>
                </a:solidFill>
                <a:latin typeface="Arial"/>
                <a:ea typeface="Arial"/>
              </a:rPr>
              <a:t> (in Nederland in de volksmond vaak </a:t>
            </a:r>
            <a:br>
              <a:rPr sz="2000"/>
            </a:br>
            <a:r>
              <a:rPr b="0" lang="nl-NL" sz="2000" spc="-1" strike="noStrike">
                <a:solidFill>
                  <a:srgbClr val="444444"/>
                </a:solidFill>
                <a:latin typeface="Arial"/>
                <a:ea typeface="Arial"/>
              </a:rPr>
              <a:t>hartfilmpje genoemd) is een registratie van de elektrische activiteit van de hartspie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4419720" y="3276720"/>
            <a:ext cx="2966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8" descr="C:\Users\g-sch_000\Pictures\images (1).jpg"/>
          <p:cNvPicPr/>
          <p:nvPr/>
        </p:nvPicPr>
        <p:blipFill>
          <a:blip r:embed="rId1"/>
          <a:stretch/>
        </p:blipFill>
        <p:spPr>
          <a:xfrm>
            <a:off x="1752480" y="3276720"/>
            <a:ext cx="533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et 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C:\Users\g-sch_000\Pictures\300px-Conduction_system.png"/>
          <p:cNvPicPr/>
          <p:nvPr/>
        </p:nvPicPr>
        <p:blipFill>
          <a:blip r:embed="rId1"/>
          <a:stretch/>
        </p:blipFill>
        <p:spPr>
          <a:xfrm>
            <a:off x="1905120" y="1752480"/>
            <a:ext cx="48765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 flipH="1" flipV="1">
            <a:off x="30384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96720" y="1285920"/>
            <a:ext cx="7696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de sinusknoop zitten pacemakercellen die de hartfrequentie bepa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rst gaan d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lang="nl-NL" sz="2400" spc="-1" strike="noStrike">
                <a:solidFill>
                  <a:srgbClr val="0b0080"/>
                </a:solidFill>
                <a:latin typeface="Arial"/>
                <a:ea typeface="Arial"/>
              </a:rPr>
              <a:t>boezem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(atria) samentrekken, daarna trekken de </a:t>
            </a:r>
            <a:r>
              <a:rPr b="0" lang="nl-NL" sz="2400" spc="-1" strike="noStrike">
                <a:solidFill>
                  <a:srgbClr val="0b0080"/>
                </a:solidFill>
                <a:latin typeface="Arial"/>
                <a:ea typeface="Arial"/>
              </a:rPr>
              <a:t>hartkamer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(ventrikels) samen. Het elektrische signaal loopt van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Sinus-kn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boezems (at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de AV-kn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de bundel van 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de hartkamers (ventrike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de linker en rechter bundelt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de Purkinjevezels die aan de binnenzijde van de hartspier lo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 elektrische prikk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C:\Users\g-sch_000\Pictures\images (5).jpg"/>
          <p:cNvPicPr/>
          <p:nvPr/>
        </p:nvPicPr>
        <p:blipFill>
          <a:blip r:embed="rId2"/>
          <a:stretch/>
        </p:blipFill>
        <p:spPr>
          <a:xfrm>
            <a:off x="5380200" y="2852640"/>
            <a:ext cx="28954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 elektrische prikk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Vier fasen ECG"/>
          <p:cNvPicPr/>
          <p:nvPr/>
        </p:nvPicPr>
        <p:blipFill>
          <a:blip r:embed="rId1"/>
          <a:stretch/>
        </p:blipFill>
        <p:spPr>
          <a:xfrm>
            <a:off x="762120" y="1905120"/>
            <a:ext cx="7467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152280" y="228600"/>
            <a:ext cx="899172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ier fasen van een harts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elektrische prikkel begint in de sinusknoop die zich bevindt in het plafond van de rechterboezem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uur: ongeveer 0.11 seconden of minder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am: </a:t>
            </a:r>
            <a:r>
              <a:rPr b="0" i="1" lang="nl-NL" sz="2400" spc="-1" strike="noStrike">
                <a:solidFill>
                  <a:srgbClr val="cc0066"/>
                </a:solidFill>
                <a:latin typeface="Arial"/>
                <a:ea typeface="Arial"/>
              </a:rPr>
              <a:t>P-top= sinusritme!!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aarna wordt de elektrische prikkel even opgehouden in de AV-knoop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uur: 0.2 seconde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am: </a:t>
            </a:r>
            <a:r>
              <a:rPr b="0" i="1" lang="nl-NL" sz="2400" spc="-1" strike="noStrike">
                <a:solidFill>
                  <a:srgbClr val="cc0066"/>
                </a:solidFill>
                <a:latin typeface="Arial"/>
                <a:ea typeface="Arial"/>
              </a:rPr>
              <a:t>PR-segment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C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elektrische prikkel verspreidt zich over de spierwand van de kamers, die daardoor krachtig samenknijpen.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uur: 0.08-0.10 seconde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am: </a:t>
            </a:r>
            <a:r>
              <a:rPr b="0" i="1" lang="nl-NL" sz="2400" spc="-1" strike="noStrike">
                <a:solidFill>
                  <a:srgbClr val="cc0066"/>
                </a:solidFill>
                <a:latin typeface="Arial"/>
                <a:ea typeface="Arial"/>
              </a:rPr>
              <a:t>QRS-complex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rstelfase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am: </a:t>
            </a:r>
            <a:r>
              <a:rPr b="0" i="1" lang="nl-NL" sz="2400" spc="-1" strike="noStrike">
                <a:solidFill>
                  <a:srgbClr val="cc0066"/>
                </a:solidFill>
                <a:latin typeface="Arial"/>
                <a:ea typeface="Arial"/>
              </a:rPr>
              <a:t>T-top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C:\Users\g-sch_000\Pictures\download 1.jpg"/>
          <p:cNvPicPr/>
          <p:nvPr/>
        </p:nvPicPr>
        <p:blipFill>
          <a:blip r:embed="rId1"/>
          <a:stretch/>
        </p:blipFill>
        <p:spPr>
          <a:xfrm>
            <a:off x="6705720" y="4572000"/>
            <a:ext cx="2438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CG MAK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lektroden plaatsen op de borst (pre-cordia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4220640"/>
            <a:ext cx="8278920" cy="22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1 - geplaatst in de 4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intercostalruimte rechts van het borstb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2  -geplaatst in de 4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intercostaalruimte links van het borstb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3 - geplaatst halverwege tussen V2 en V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4 - geplaatst in de 5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intercostaalruimte in het midclaviculairl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5 - geplaatst halverwege tussen V4 en V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6 - geplaatst in axillairlijn op dezelfde hoogte als 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C:\Users\g-sch_000\Pictures\download 4.jpg"/>
          <p:cNvPicPr/>
          <p:nvPr/>
        </p:nvPicPr>
        <p:blipFill>
          <a:blip r:embed="rId1"/>
          <a:stretch/>
        </p:blipFill>
        <p:spPr>
          <a:xfrm>
            <a:off x="179280" y="1868400"/>
            <a:ext cx="2746440" cy="2133720"/>
          </a:xfrm>
          <a:prstGeom prst="rect">
            <a:avLst/>
          </a:prstGeom>
          <a:ln w="0">
            <a:noFill/>
          </a:ln>
        </p:spPr>
      </p:pic>
      <p:pic>
        <p:nvPicPr>
          <p:cNvPr id="70" name="Afbeelding 2" descr=""/>
          <p:cNvPicPr/>
          <p:nvPr/>
        </p:nvPicPr>
        <p:blipFill>
          <a:blip r:embed="rId2"/>
          <a:stretch/>
        </p:blipFill>
        <p:spPr>
          <a:xfrm>
            <a:off x="6156360" y="2120760"/>
            <a:ext cx="25304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Elektroden plaatsen op extremite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3640" y="3860640"/>
            <a:ext cx="8134200" cy="26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Rood (RA)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 : op rechter (boven)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wart (RB)  : op rechterbeen (enkel) = neutr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cc00"/>
                </a:solidFill>
                <a:latin typeface="Arial"/>
                <a:ea typeface="Arial"/>
              </a:rPr>
              <a:t>Geel   (LA)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 : op linker(boven)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8000"/>
                </a:solidFill>
                <a:latin typeface="Arial"/>
                <a:ea typeface="Arial"/>
              </a:rPr>
              <a:t>Groen (LB)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 : op linkerbeen (enk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C:\Users\g-sch_000\Pictures\download 3.jpg"/>
          <p:cNvPicPr/>
          <p:nvPr/>
        </p:nvPicPr>
        <p:blipFill>
          <a:blip r:embed="rId1"/>
          <a:stretch/>
        </p:blipFill>
        <p:spPr>
          <a:xfrm>
            <a:off x="3059280" y="1557360"/>
            <a:ext cx="2881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18:37:01Z</dcterms:created>
  <dc:creator>g-schouten@home.nl</dc:creator>
  <dc:description/>
  <dc:language>en-US</dc:language>
  <cp:lastModifiedBy>Bouke Cuperus</cp:lastModifiedBy>
  <dcterms:modified xsi:type="dcterms:W3CDTF">2016-09-22T14:08:51Z</dcterms:modified>
  <cp:revision>33</cp:revision>
  <dc:subject/>
  <dc:title>Elektrocardiogram  Een elektrocardiogram of ECG (in Nederland in de volksmond vaak  hartfilmpje genoemd) is een registratie van de elektrische activiteit van de hartspier</dc:title>
</cp:coreProperties>
</file>