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4B7-DCEE-48DD-AB5E-7CD56CEE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4FB-7BB9-423A-A582-7C080641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083-EB9B-4A27-9230-6E070F59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247-D4C9-42F0-90D2-9962BDDB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7E3-E8E9-430D-8C71-10FDC664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191-C761-4AC6-982E-3F5C3FDD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142-73D3-4FF0-8460-6F916C5D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F63-C3A2-469B-A58F-4A1DF2C7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699-8000-455A-89B0-F5FDD108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26A-52C2-42BB-A9B7-BE92085A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7E9-5CD1-4116-89F4-0C983424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93A-FAC3-4175-8AC3-C63BE9E0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BC22-A2EB-41D0-AFEA-67C5F6CB0A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KEN: HET BETO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oog: een spreekbeurt waarin je een standpunt inneemt ten aanzien van een stelling en dat standpunt verded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eer een duidelijk standp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: je publiek overtuigen van de juistheid van je standp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opbouw van een bet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eiding: het onder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vóór de 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tegen de stelling; je moet de tegenargumenten weerleg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e + korte samenv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uditorium,bedrijf,bedrijven,communicatie,personen,personen aan het werk,presentaties,publiek,toehoorders"/>
          <p:cNvPicPr/>
          <p:nvPr/>
        </p:nvPicPr>
        <p:blipFill>
          <a:blip r:embed="rId1"/>
          <a:stretch/>
        </p:blipFill>
        <p:spPr>
          <a:xfrm>
            <a:off x="5292720" y="43657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s een onderwerp waar je echt in geïnteresseerd b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je publiek warm voor je verhaal met een leuke, persoonlijke inle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ek rustig en duidelijk, herhaal gerust eens i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je publiek aan te kijken en zo mogelijk bij je verhaal te betrekken door af en toe een vraag te stellen bijvoorbe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eet niet aan het eind je betoog nog even samen te va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“schokkende” onderwerpen: vermijd het gebruik van foto’s en filmpjes niet – waarschuw wel eerst jouw pub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og meer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PowerPoint of Prezi bij jouw bet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klas bij het betoog te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in de eerste dia direct jouw standpunt 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een inhoudsopgave. Laat de klas zien welke “route” je gaat af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e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jouw onderwerp met de d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rgumenten: argumenten voor jouw standpunt. Tegenargumenten: argumenten tegen jouw stand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tteren, je verspreken enz.: helemaal niet erg! Niemand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wordt niet beoordeeld op jouw standpunt. Iedereen heeft recht op zijn/haar m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wordt wel gekeken naar de juistheid van de arg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ekeningen mag je meenemen, maar voorlezen is uit den boze. Dat gaat je zeker punten ko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pjes mag je laten zien, maar zij tellen niet mee bij de totale spreektijd (6-8 minuten). Ga dus geen filmpje gebruiken als vulling van de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j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ijfer telt voor de helft mee. Toets vormt andere helft van het cijfer (net als in periode 2 met de schrijf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teria: samenhang, verstaanbaarheid, open/communicatieve houding, grammaticale juistheid, extra uitleg, compleet verhaal, afstemming op doel, afstemming op publiek. Daarnaast scoren mooie PowerPoints/Prezi’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1:03:50Z</dcterms:created>
  <dc:creator>joke</dc:creator>
  <dc:description/>
  <dc:language>en-US</dc:language>
  <cp:lastModifiedBy>Tim Bommel</cp:lastModifiedBy>
  <dcterms:modified xsi:type="dcterms:W3CDTF">2017-05-23T08:53:39Z</dcterms:modified>
  <cp:revision>6</cp:revision>
  <dc:subject/>
  <dc:title>EXAMEN NEDERLANDS NIVEAU 3</dc:title>
</cp:coreProperties>
</file>