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25D-F497-45AE-8A41-ED95B4F2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067-C347-4C01-ABA0-0629AB9A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60E-F8D9-4A06-B6CF-74B965B9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FB2-0A00-4694-8813-ADEC36E8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41E-81CC-4BEE-91E9-9EC5CEF5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E72-10AD-4A1E-8059-E3D30431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869-7C25-4A4E-A9A7-CAC80472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330-AAE2-4069-8C29-1BB6C6A1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ED9-DC20-4493-A82D-48785C2A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020-C256-4CD9-9C67-A2CEFD49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674-22F7-4744-B7D9-001269F0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7A2-1716-40E8-A53E-B5ADC554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FF85-1359-458D-9C1B-C4E0E25BA6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EKEN: HET BETO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oog: een spreekbeurt waarin je een standpunt inneemt ten aanzien van een stelling en dat standpunt verdedig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eer een duidelijk standp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: je publiek overtuigen van de juistheid van je standp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opbouw van een bet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leiding: het onder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vóór de 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tegen de stelling; je moet de tegenargumenten weerlegg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e + korte samenv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uditorium,bedrijf,bedrijven,communicatie,personen,personen aan het werk,presentaties,publiek,toehoorders"/>
          <p:cNvPicPr/>
          <p:nvPr/>
        </p:nvPicPr>
        <p:blipFill>
          <a:blip r:embed="rId1"/>
          <a:stretch/>
        </p:blipFill>
        <p:spPr>
          <a:xfrm>
            <a:off x="5292720" y="43657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s een onderwerp waar je echt in geïnteresseerd b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je publiek warm voor je verhaal met een leuke, persoonlijke inlei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ek rustig en duidelijk, herhaal gerust eens i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er je publiek aan te kijken en zo mogelijk bij je verhaal te betrekken door af en toe een vraag te stellen bijvoorbe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eet niet aan het eind je betoog nog even samen te va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“schokkende” onderwerpen: vermijd het gebruik van foto’s en filmpjes niet – waarschuw wel eerst jouw pub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og meer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PowerPoint of Prezi bij jouw bet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klas bij het betoog te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in de eerste dia direct jouw standpunt 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f een inhoudsopgave. Laat de klas zien welke “route” je gaat af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e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jouw onderwerp met de do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rgumenten: argumenten voor jouw standpunt. Tegenargumenten: argumenten tegen jouw stand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tteren, je verspreken enz.: helemaal niet erg! Niemand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wordt niet beoordeeld op jouw standpunt. Iedereen heeft recht op zijn/haar m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wordt wel gekeken naar de juistheid van de arg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ekeningen mag je meenemen, maar voorlezen is uit den boze. Dat gaat je zeker punten ko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pjes mag je laten zien, maar zij tellen niet mee bij de totale spreektijd (6-8 minuten). Ga dus geen filmpje gebruiken als vulling van de tij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j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ijfer telt voor de helft mee. Toets vormt andere helft van het cijfer (net als in periode 2 met de schrijfopdra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iteria: samenhang, verstaanbaarheid, open/communicatieve houding, grammaticale juistheid, extra uitleg, compleet verhaal, afstemming op doel, afstemming op publiek. Daarnaast scoren mooie PowerPoints/Prezi’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1:03:50Z</dcterms:created>
  <dc:creator>joke</dc:creator>
  <dc:description/>
  <dc:language>en-US</dc:language>
  <cp:lastModifiedBy>Tim Bommel</cp:lastModifiedBy>
  <dcterms:modified xsi:type="dcterms:W3CDTF">2017-05-23T08:53:39Z</dcterms:modified>
  <cp:revision>6</cp:revision>
  <dc:subject/>
  <dc:title>EXAMEN NEDERLANDS NIVEAU 3</dc:title>
</cp:coreProperties>
</file>