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5AE-3195-4D84-904D-CB403A8F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F5E-57AB-4226-B1E2-179025D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A68-BDC4-4E90-83B8-625C49AF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B4A-7E27-4A99-AFAD-43CC01B2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10C-2FD7-4616-8B38-C5EA26C9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9A9-0D70-4BED-909C-9AAF852D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6DD-3430-4C71-9CCD-4A9528B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D4-AB84-46AC-8997-EA4FAC0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FBE-86CE-4AD4-9CA7-B33575DB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B51-C41D-4948-B0F1-F0F9D44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B81-51A8-4646-B004-5F7B23A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F35-DF0B-4247-84F3-E761C95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E83-5C52-4528-B125-759F8604B2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KEN: HET BETO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oog: een spreekbeurt waarin je een standpunt inneemt ten aanzien van een stelling en dat standpunt verdedig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eer een duidelijk standp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: je publiek overtuigen van de juistheid van je standp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opbouw van een bet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leiding: het onder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vóór de 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twee argumenten tegen de stelling; je moet de tegenargumenten weerleg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e + korte samenv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uditorium,bedrijf,bedrijven,communicatie,personen,personen aan het werk,presentaties,publiek,toehoorders"/>
          <p:cNvPicPr/>
          <p:nvPr/>
        </p:nvPicPr>
        <p:blipFill>
          <a:blip r:embed="rId1"/>
          <a:stretch/>
        </p:blipFill>
        <p:spPr>
          <a:xfrm>
            <a:off x="5292720" y="43657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es een onderwerp waar je echt in geïnteresseerd b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je publiek warm voor je verhaal met een leuke, persoonlijke inlei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ek rustig en duidelijk, herhaal gerust eens i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je publiek aan te kijken en zo mogelijk bij je verhaal te betrekken door af en toe een vraag te stellen bijvoorbe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eet niet aan het eind je betoog nog even samen te va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“schokkende” onderwerpen: vermijd het gebruik van foto’s en filmpjes niet – waarschuw wel eerst jouw pub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og meer 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PowerPoint of Prezi bij jouw bet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klas bij het betoog te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in de eerste dia direct jouw standpunt 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een inhoudsopgave. Laat de klas zien welke “route” je gaat af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e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jouw onderwerp met de d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rgumenten: argumenten voor jouw standpunt. Tegenargumenten: argumenten tegen jouw standp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tteren, je verspreken enz.: helemaal niet erg! Niemand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wordt niet beoordeeld op jouw standpunt. Iedereen heeft recht op zijn/haar m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wordt wel gekeken naar de juistheid van de arg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ekeningen mag je meenemen, maar voorlezen is uit den boze. Dat gaat je zeker punten ko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pjes mag je laten zien, maar zij tellen niet mee bij de totale spreektijd (6-8 minuten). Ga dus geen filmpje gebruiken als vulling van de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j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ijfer telt voor de helft mee. Toets vormt andere helft van het cijfer (net als in periode 2 met de schrijfopdra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iteria: samenhang, verstaanbaarheid, open/communicatieve houding, grammaticale juistheid, extra uitleg, compleet verhaal, afstemming op doel, afstemming op publiek. Daarnaast scoren mooie PowerPoints/Prezi’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1:03:50Z</dcterms:created>
  <dc:creator>joke</dc:creator>
  <dc:description/>
  <dc:language>en-US</dc:language>
  <cp:lastModifiedBy>Tim Bommel</cp:lastModifiedBy>
  <dcterms:modified xsi:type="dcterms:W3CDTF">2017-05-23T08:53:39Z</dcterms:modified>
  <cp:revision>6</cp:revision>
  <dc:subject/>
  <dc:title>EXAMEN NEDERLANDS NIVEAU 3</dc:title>
</cp:coreProperties>
</file>