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EEDD7F-C3BD-4800-B853-23977B93386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B66786-1DED-4098-B24D-5B92CCDC8A59}" type="slidenum">
              <a:rPr b="0" lang="nl-NL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6B3C72-753C-4264-A113-D1F968F56D81}" type="slidenum">
              <a:rPr b="0" lang="nl-NL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999D65-3FD4-46FC-958E-9FA201ACA849}" type="slidenum">
              <a:rPr b="0" lang="nl-NL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2D979F-7A9C-4CA7-8330-D42346F82BE6}" type="slidenum">
              <a:rPr b="0" lang="nl-NL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6473D2-F456-49F0-AA9F-8568E3F99F98}" type="slidenum">
              <a:rPr b="0" lang="nl-NL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441912-2DA3-4EC3-B670-46D9B61C9B3C}" type="slidenum">
              <a:rPr b="0" lang="nl-NL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8CBDA6-0BB2-44B1-938E-562560C188F6}" type="slidenum">
              <a:rPr b="0" lang="nl-NL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191CAB-F4AC-44D1-AFA2-3109852F7012}" type="slidenum">
              <a:rPr b="0" lang="nl-NL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E5F9A6-1B3F-49CC-8B60-669DABB23F82}" type="slidenum">
              <a:rPr b="0" lang="nl-NL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68E8-4860-4C19-AC3B-E61586A2D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7709-5F7B-410E-B1DD-F9B186EE8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F47F-C132-4BDA-87FF-D38FF89DA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5A3A-C2E1-476C-BA80-D65165C93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FA532-A603-40EE-8D3C-3FA222930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8721D-2C80-49BB-8CC1-40AA9E570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BCC7C-AA68-4C83-AB04-6C2799D0F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BCCE2-FC19-4A05-BDBA-3EB66B368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535CA-2F19-4C64-8EC2-075A88EC2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6A7A2-3F22-4ACC-B8A0-4063C1432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2E918-3FB8-4BD9-B29D-420D5482E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8E3E-D592-4F73-8EDA-EAA081E72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8FCF4-7E42-426D-AB21-55C3185B6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2C357-8957-440A-87D4-30212E545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1F4EF-FACD-483E-AEDA-DB22F1663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6EED3-D426-4138-8624-1E7B71FBD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B2F7F-652C-4816-AB21-02823C476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3FB852-DB61-4522-AA7B-18C593263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F426C2-2B4F-4436-9665-22556FCBA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019793-8341-48F9-B8D1-C1F378047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83836E-48EF-4779-AE9B-A845E970F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F51F38-2FDD-4208-861B-5D7221FCF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EAC7-620C-494E-A08E-3A5D0FCF8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93224E-EF4B-41D9-8C27-6ECF60E96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648511-5D4E-45BF-8D17-6C1F1DA6B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F06AAC-B9B7-4D7D-BEF1-60EF24447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0D2416-4DFF-4651-8375-5FD470FC7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496405-645F-44FB-B6E6-309F2FAE6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0A3F5D-C9F0-4F3B-82D8-E347D3F58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9A93C9-B07C-44CB-82BB-CD1717196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C70B57-DE1B-4C5D-AED0-2616B4356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123053-CB37-4337-A52B-EDF127768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1BA770-20FF-40FB-AF44-AB984B81F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90A7-5AB7-40AF-884C-C2C8E7976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4018CC-6876-4B50-A529-2C7547409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497498-F7ED-46A0-BF38-34A3A4B6E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1A895C-6F59-4FDB-9FFC-2B979165F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2B6306-F393-4DC8-8A8B-D2FFFD6B0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798603-18BA-469B-94FF-9D00D57C4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05137C-1B1A-4D72-9463-4F2449E23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7FA32C-4190-4434-A7CC-E3691101A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F15BAC-2CD7-409E-8B1A-3AA3FFC6A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B80B7E-EC18-43CA-BDE3-31D3B9347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A25D-04F4-4840-8897-E59527B53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BEA5-08B0-492F-9A1F-1F6C595C6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2E75-9ED3-49EC-A82C-78A8B19F6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8964-886C-4C5B-9433-F3A93F996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B6ED-D2BA-4E9B-9A4D-A802565CF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f1c"/>
            </a:gs>
            <a:gs pos="100000">
              <a:srgbClr val="9e0000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6670440" y="3894120"/>
            <a:ext cx="2470320" cy="2658960"/>
            <a:chOff x="6670440" y="3894120"/>
            <a:chExt cx="2470320" cy="2658960"/>
          </a:xfrm>
        </p:grpSpPr>
        <p:sp>
          <p:nvSpPr>
            <p:cNvPr id="1" name="Straight Connector 7"/>
            <p:cNvSpPr/>
            <p:nvPr/>
          </p:nvSpPr>
          <p:spPr>
            <a:xfrm flipH="1">
              <a:off x="8384760" y="3894120"/>
              <a:ext cx="756000" cy="7563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2" name="Straight Connector 8"/>
            <p:cNvSpPr/>
            <p:nvPr/>
          </p:nvSpPr>
          <p:spPr>
            <a:xfrm flipH="1">
              <a:off x="6670440" y="4082040"/>
              <a:ext cx="2469960" cy="247104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3" name="Straight Connector 9"/>
            <p:cNvSpPr/>
            <p:nvPr/>
          </p:nvSpPr>
          <p:spPr>
            <a:xfrm flipH="1">
              <a:off x="7569720" y="4160520"/>
              <a:ext cx="1571040" cy="15714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4" name="Straight Connector 10"/>
            <p:cNvSpPr/>
            <p:nvPr/>
          </p:nvSpPr>
          <p:spPr>
            <a:xfrm flipH="1">
              <a:off x="7694280" y="4037760"/>
              <a:ext cx="1441080" cy="144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5" name="Straight Connector 11"/>
            <p:cNvSpPr/>
            <p:nvPr/>
          </p:nvSpPr>
          <p:spPr>
            <a:xfrm flipH="1">
              <a:off x="8088840" y="4495320"/>
              <a:ext cx="1046880" cy="10472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000" spc="-1" strike="noStrike">
                <a:solidFill>
                  <a:srgbClr val="57170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000" spc="-1" strike="noStrike">
                <a:solidFill>
                  <a:srgbClr val="57170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2800" spc="-1" strike="noStrike">
                <a:solidFill>
                  <a:srgbClr val="57170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096730-0AC7-4915-8349-6BD91805A06F}" type="slidenum">
              <a:rPr b="0" lang="nl-NL" sz="2800" spc="-1" strike="noStrike">
                <a:solidFill>
                  <a:srgbClr val="571701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f1c"/>
            </a:gs>
            <a:gs pos="100000">
              <a:srgbClr val="9e0000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15"/>
          <p:cNvGrpSpPr/>
          <p:nvPr/>
        </p:nvGrpSpPr>
        <p:grpSpPr>
          <a:xfrm>
            <a:off x="4335120" y="1170000"/>
            <a:ext cx="4815000" cy="4994280"/>
            <a:chOff x="4335120" y="1170000"/>
            <a:chExt cx="4815000" cy="4994280"/>
          </a:xfrm>
        </p:grpSpPr>
        <p:sp>
          <p:nvSpPr>
            <p:cNvPr id="48" name="Straight Connector 16"/>
            <p:cNvSpPr/>
            <p:nvPr/>
          </p:nvSpPr>
          <p:spPr>
            <a:xfrm flipH="1">
              <a:off x="6009840" y="1170000"/>
              <a:ext cx="3134880" cy="3135240"/>
            </a:xfrm>
            <a:prstGeom prst="line">
              <a:avLst/>
            </a:prstGeom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49" name="Straight Connector 18"/>
            <p:cNvSpPr/>
            <p:nvPr/>
          </p:nvSpPr>
          <p:spPr>
            <a:xfrm flipH="1">
              <a:off x="4335120" y="1348920"/>
              <a:ext cx="4815000" cy="4815360"/>
            </a:xfrm>
            <a:prstGeom prst="line">
              <a:avLst/>
            </a:prstGeom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50" name="Straight Connector 20"/>
            <p:cNvSpPr/>
            <p:nvPr/>
          </p:nvSpPr>
          <p:spPr>
            <a:xfrm flipH="1">
              <a:off x="5226120" y="1469160"/>
              <a:ext cx="3912480" cy="3912480"/>
            </a:xfrm>
            <a:prstGeom prst="line">
              <a:avLst/>
            </a:prstGeom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51" name="Straight Connector 21"/>
            <p:cNvSpPr/>
            <p:nvPr/>
          </p:nvSpPr>
          <p:spPr>
            <a:xfrm flipH="1">
              <a:off x="5304960" y="1307880"/>
              <a:ext cx="3839760" cy="3839760"/>
            </a:xfrm>
            <a:prstGeom prst="line">
              <a:avLst/>
            </a:prstGeom>
            <a:ln cap="rnd"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52" name="Straight Connector 22"/>
            <p:cNvSpPr/>
            <p:nvPr/>
          </p:nvSpPr>
          <p:spPr>
            <a:xfrm flipH="1">
              <a:off x="5707440" y="1770120"/>
              <a:ext cx="3430800" cy="3430800"/>
            </a:xfrm>
            <a:prstGeom prst="line">
              <a:avLst/>
            </a:prstGeom>
            <a:ln cap="rnd"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000" spc="-1" strike="noStrike">
                <a:solidFill>
                  <a:srgbClr val="57170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000" spc="-1" strike="noStrike">
                <a:solidFill>
                  <a:srgbClr val="57170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2800" spc="-1" strike="noStrike">
                <a:solidFill>
                  <a:srgbClr val="57170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7492BB-A3CD-49DF-9BC7-28B40AE0808D}" type="slidenum">
              <a:rPr b="0" lang="nl-NL" sz="2800" spc="-1" strike="noStrike">
                <a:solidFill>
                  <a:srgbClr val="571701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f1c"/>
            </a:gs>
            <a:gs pos="100000">
              <a:srgbClr val="9e0000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Group 6"/>
          <p:cNvGrpSpPr/>
          <p:nvPr/>
        </p:nvGrpSpPr>
        <p:grpSpPr>
          <a:xfrm>
            <a:off x="6670440" y="3894120"/>
            <a:ext cx="2470320" cy="2658960"/>
            <a:chOff x="6670440" y="3894120"/>
            <a:chExt cx="2470320" cy="2658960"/>
          </a:xfrm>
        </p:grpSpPr>
        <p:sp>
          <p:nvSpPr>
            <p:cNvPr id="95" name="Straight Connector 7"/>
            <p:cNvSpPr/>
            <p:nvPr/>
          </p:nvSpPr>
          <p:spPr>
            <a:xfrm flipH="1">
              <a:off x="8384760" y="3894120"/>
              <a:ext cx="756000" cy="7563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96" name="Straight Connector 8"/>
            <p:cNvSpPr/>
            <p:nvPr/>
          </p:nvSpPr>
          <p:spPr>
            <a:xfrm flipH="1">
              <a:off x="6670440" y="4082040"/>
              <a:ext cx="2469960" cy="247104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97" name="Straight Connector 9"/>
            <p:cNvSpPr/>
            <p:nvPr/>
          </p:nvSpPr>
          <p:spPr>
            <a:xfrm flipH="1">
              <a:off x="7569720" y="4160520"/>
              <a:ext cx="1571040" cy="15714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98" name="Straight Connector 10"/>
            <p:cNvSpPr/>
            <p:nvPr/>
          </p:nvSpPr>
          <p:spPr>
            <a:xfrm flipH="1">
              <a:off x="7694280" y="4037760"/>
              <a:ext cx="1441080" cy="144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99" name="Straight Connector 11"/>
            <p:cNvSpPr/>
            <p:nvPr/>
          </p:nvSpPr>
          <p:spPr>
            <a:xfrm flipH="1">
              <a:off x="8088840" y="4495320"/>
              <a:ext cx="1046880" cy="10472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100" name="TextBox 13"/>
          <p:cNvSpPr/>
          <p:nvPr/>
        </p:nvSpPr>
        <p:spPr>
          <a:xfrm>
            <a:off x="228600" y="7113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TextBox 14"/>
          <p:cNvSpPr/>
          <p:nvPr/>
        </p:nvSpPr>
        <p:spPr>
          <a:xfrm>
            <a:off x="7696080" y="27687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000" spc="-1" strike="noStrike">
                <a:solidFill>
                  <a:srgbClr val="57170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000" spc="-1" strike="noStrike">
                <a:solidFill>
                  <a:srgbClr val="57170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2800" spc="-1" strike="noStrike">
                <a:solidFill>
                  <a:srgbClr val="57170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054DE4-5070-4918-9CC1-C49A6EA0EB1B}" type="slidenum">
              <a:rPr b="0" lang="nl-NL" sz="2800" spc="-1" strike="noStrike">
                <a:solidFill>
                  <a:srgbClr val="571701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f1c"/>
            </a:gs>
            <a:gs pos="100000">
              <a:srgbClr val="9e0000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Group 6"/>
          <p:cNvGrpSpPr/>
          <p:nvPr/>
        </p:nvGrpSpPr>
        <p:grpSpPr>
          <a:xfrm>
            <a:off x="6670440" y="3894120"/>
            <a:ext cx="2470320" cy="2658960"/>
            <a:chOff x="6670440" y="3894120"/>
            <a:chExt cx="2470320" cy="2658960"/>
          </a:xfrm>
        </p:grpSpPr>
        <p:sp>
          <p:nvSpPr>
            <p:cNvPr id="144" name="Straight Connector 7"/>
            <p:cNvSpPr/>
            <p:nvPr/>
          </p:nvSpPr>
          <p:spPr>
            <a:xfrm flipH="1">
              <a:off x="8384760" y="3894120"/>
              <a:ext cx="756000" cy="7563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45" name="Straight Connector 8"/>
            <p:cNvSpPr/>
            <p:nvPr/>
          </p:nvSpPr>
          <p:spPr>
            <a:xfrm flipH="1">
              <a:off x="6670440" y="4082040"/>
              <a:ext cx="2469960" cy="247104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46" name="Straight Connector 9"/>
            <p:cNvSpPr/>
            <p:nvPr/>
          </p:nvSpPr>
          <p:spPr>
            <a:xfrm flipH="1">
              <a:off x="7569720" y="4160520"/>
              <a:ext cx="1571040" cy="15714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47" name="Straight Connector 10"/>
            <p:cNvSpPr/>
            <p:nvPr/>
          </p:nvSpPr>
          <p:spPr>
            <a:xfrm flipH="1">
              <a:off x="7694280" y="4037760"/>
              <a:ext cx="1441080" cy="144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48" name="Straight Connector 11"/>
            <p:cNvSpPr/>
            <p:nvPr/>
          </p:nvSpPr>
          <p:spPr>
            <a:xfrm flipH="1">
              <a:off x="8088840" y="4495320"/>
              <a:ext cx="1046880" cy="10472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149" name="TextBox 13"/>
          <p:cNvSpPr/>
          <p:nvPr/>
        </p:nvSpPr>
        <p:spPr>
          <a:xfrm>
            <a:off x="228600" y="7113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TextBox 14"/>
          <p:cNvSpPr/>
          <p:nvPr/>
        </p:nvSpPr>
        <p:spPr>
          <a:xfrm>
            <a:off x="7696080" y="27687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000" spc="-1" strike="noStrike">
                <a:solidFill>
                  <a:srgbClr val="57170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000" spc="-1" strike="noStrike">
                <a:solidFill>
                  <a:srgbClr val="57170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2800" spc="-1" strike="noStrike">
                <a:solidFill>
                  <a:srgbClr val="57170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1047AE-3BFE-464F-B985-39CA682943F8}" type="slidenum">
              <a:rPr b="0" lang="nl-NL" sz="2800" spc="-1" strike="noStrike">
                <a:solidFill>
                  <a:srgbClr val="571701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11280" y="9075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entury Gothic"/>
              </a:rPr>
              <a:t>INTRAMUSCULAIR INJECTEREN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533520" y="3843360"/>
            <a:ext cx="4954320" cy="191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nl-NL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01" name="Picture 2" descr=""/>
          <p:cNvPicPr/>
          <p:nvPr/>
        </p:nvPicPr>
        <p:blipFill>
          <a:blip r:embed="rId1"/>
          <a:stretch/>
        </p:blipFill>
        <p:spPr>
          <a:xfrm>
            <a:off x="2225520" y="2968560"/>
            <a:ext cx="441972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entury Gothic"/>
              </a:rPr>
              <a:t>CONTRA INDICATIE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Beschadigde huid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Ontstoken huid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Hematoom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Shun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Mamma amputatie met okselklier verwijdering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entury Gothic"/>
              </a:rPr>
              <a:t>REGEL VAN 5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1835280" y="1599840"/>
            <a:ext cx="6394320" cy="341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Juiste naam en geboortedatum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Juiste medicijn ( let op vervaldatum)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Juiste dosi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Juiste toedieningsvorm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Juiste tijd en aantal ker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entury Gothic"/>
              </a:rPr>
              <a:t>TECHNIEK 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124000" y="1600200"/>
            <a:ext cx="6105600" cy="377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Plaats desinfecter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Pak met volle hand spierbund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Spier laten ontspann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Vlot loodrecht injecter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Controle of je niet in bloedvat zit bij IM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          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Langzaam in spuit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Naald vlot erui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entury Gothic"/>
              </a:rPr>
              <a:t>PRIKACCIDENTEN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476000" y="1773360"/>
            <a:ext cx="575964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Nooit huls terug op de naald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Gebruik naaldencontainer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Stel jezelf op de hoogte, bij de instelling waar je werkt, hoe om te gaan met prikaccident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entury Gothic"/>
              </a:rPr>
              <a:t>BEREKENINGEN: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In voorraad: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1 ml =10 mg Phenerga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Geef 7 mg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Hoeveel ml geef je?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In voorraad: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2 ml = 15 mg Haldo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Geef 10 mg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Hoeveel ml zuig je op?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In voorraad: 1 ml= 5 mg Morfine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Geef 12,5 mg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Hoeveel ml zuig je op?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entury Gothic"/>
              </a:rPr>
              <a:t>INJECTEREN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187280" y="1600200"/>
            <a:ext cx="7042320" cy="377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= </a:t>
            </a:r>
            <a:r>
              <a:rPr b="0" lang="nl-NL" sz="2400" spc="-1" strike="noStrike">
                <a:solidFill>
                  <a:srgbClr val="ffffff"/>
                </a:solidFill>
                <a:latin typeface="Century Gothic"/>
              </a:rPr>
              <a:t>parenteraal toedienen medicijnen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0" lang="nl-NL" sz="2400" spc="-1" strike="noStrike">
                <a:solidFill>
                  <a:srgbClr val="ffffff"/>
                </a:solidFill>
                <a:latin typeface="Century Gothic"/>
              </a:rPr>
              <a:t>(buiten spijsverteringskanaal om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04" name="Afbeelding 3" descr="injectie.jpg"/>
          <p:cNvPicPr/>
          <p:nvPr/>
        </p:nvPicPr>
        <p:blipFill>
          <a:blip r:embed="rId1"/>
          <a:stretch/>
        </p:blipFill>
        <p:spPr>
          <a:xfrm>
            <a:off x="5867280" y="1125360"/>
            <a:ext cx="2143080" cy="16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entury Gothic"/>
              </a:rPr>
              <a:t>INJECTEREN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900000" y="1600200"/>
            <a:ext cx="7329600" cy="398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Century Gothic"/>
              </a:rPr>
              <a:t>Wet BIG: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Injecteren is een voorbehouden handeling…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Wat houdt dit in?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Aan welke 4 voorwaarden moet voldaan worden als verpleegkundige?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entury Gothic"/>
              </a:rPr>
              <a:t>INJECTEREN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514440" indent="-51444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entury Gothic"/>
              </a:rPr>
              <a:t>Deskundigheid: voldoende scholing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14440" indent="-51444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14440" indent="-51444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entury Gothic"/>
              </a:rPr>
              <a:t>Bekwaamheid: ervaring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14440" indent="-51444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14440" indent="-51444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entury Gothic"/>
              </a:rPr>
              <a:t>Opdracht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14440" indent="-51444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14440" indent="-51444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entury Gothic"/>
              </a:rPr>
              <a:t>Mogelijke tussenkomst van huisarts/art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entury Gothic"/>
              </a:rPr>
              <a:t>REDENEN OM TE INJECTEREN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611280" y="1599840"/>
            <a:ext cx="7618320" cy="319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Snel (meteen) resulta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Medicijn onwerkzaam wordt gemaakt door één van de spijsverteringssapp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Orale medicatie niet kan worden in genom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Patiënt geen orale medicatie wil innem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Medicatie alleen in injectievorm verkrijgbaar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entury Gothic"/>
              </a:rPr>
              <a:t>INJECTEREN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95280" y="277560"/>
            <a:ext cx="7834320" cy="538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4 verschillende manieren van injecteren: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Intracutaan (i.c.)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Subcutaan (s.c.)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Intramusculair (i.m.)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Intraveneus (i.v.)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13" name="Picture 8" descr="SC_45_90_graden"/>
          <p:cNvPicPr/>
          <p:nvPr/>
        </p:nvPicPr>
        <p:blipFill>
          <a:blip r:embed="rId1"/>
          <a:stretch/>
        </p:blipFill>
        <p:spPr>
          <a:xfrm>
            <a:off x="4114800" y="2637000"/>
            <a:ext cx="432108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entury Gothic"/>
              </a:rPr>
              <a:t>INJECTIE PLAATSEN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95280" y="2795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Grote bilspier: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musculus glutaeus maximu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groot, goed doorbloed, grote hoeveelheid toedien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bovenste, buitenste bilkwadran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omzeilt zenuwban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16" name="Picture 5" descr=""/>
          <p:cNvPicPr/>
          <p:nvPr/>
        </p:nvPicPr>
        <p:blipFill>
          <a:blip r:embed="rId1"/>
          <a:stretch/>
        </p:blipFill>
        <p:spPr>
          <a:xfrm>
            <a:off x="5796000" y="755640"/>
            <a:ext cx="2647800" cy="29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entury Gothic"/>
              </a:rPr>
              <a:t>DIJBEEN 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Musculus rectus femori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Bovenbeen in 3-en verdelen: middelste deel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Zie Vilans protoco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entury Gothic"/>
              </a:rPr>
              <a:t>BOVENARM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Musculus deltoïdeu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Voor kleinere hvh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Bv. Griepprik, vaccinatie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21" name="Picture 2" descr=""/>
          <p:cNvPicPr/>
          <p:nvPr/>
        </p:nvPicPr>
        <p:blipFill>
          <a:blip r:embed="rId1"/>
          <a:stretch/>
        </p:blipFill>
        <p:spPr>
          <a:xfrm>
            <a:off x="5364000" y="981000"/>
            <a:ext cx="2657520" cy="24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1:15:47Z</dcterms:created>
  <dc:creator>Rhea</dc:creator>
  <dc:description/>
  <dc:language>en-US</dc:language>
  <cp:lastModifiedBy>Rina Niemeijer</cp:lastModifiedBy>
  <dcterms:modified xsi:type="dcterms:W3CDTF">2018-02-13T07:29:54Z</dcterms:modified>
  <cp:revision>26</cp:revision>
  <dc:subject/>
  <dc:title>Wet BIG</dc:title>
</cp:coreProperties>
</file>