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4BF7D0-1101-4639-BE4F-B466765A26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199AE-ADAE-47C0-9E75-7EA1F047CB82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2A6DA-4965-4594-838C-C10CE8510AA5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187C9-B700-442B-8142-1A5CC8A98D44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E697A-A83D-45D5-8FB5-70BF6EC692E1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85772-C1A2-4E26-A47B-AADD60E7FE3A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A2D38-8B4E-4881-94FE-2B8286FDB0F1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96945-FA8E-47B7-B65A-46FFD81D55A2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F5D5D-36D0-4785-8986-92E3939302DF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10DEE-E491-4847-8D26-DEB3EFDFA30A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C9C-13EE-41F5-852F-DFD1105C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B5F2-B15B-4404-BE8A-8DCB79F4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FFCC-6AFB-4685-B4BC-399BC0A7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74E-F488-4948-9343-1208163B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325A-46F8-4429-BEF1-9FF42139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CF85-A7BA-4DC6-8E9E-B1EFF609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69C9-C174-4A75-966F-E3050BFB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FA31-B7DA-4C95-B07C-00F2BFB7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BFEE-909D-4540-A913-84668727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A58B-D7FB-4C77-8007-C5566874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86BE-FA13-44BB-BF33-BFF868A4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0E76-16C6-4ECA-ABB8-083A6CD7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A461-1B48-4779-BCF8-625AA352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520C-C95C-49CE-90D1-49EB6690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FB84-0F56-4FBE-9EB9-319AF0BE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D418-6C7D-4EAB-8D55-D2E26810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A6CD-0122-4BDD-82EE-BBA60CCF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82D09-9508-4C00-8771-3051CD14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38F2C-C6D6-41CD-BBD1-F77537CD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06EF4-8D61-49CD-B083-FD2F0B24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6B480-52F6-48C5-8A3D-1636F386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6B82C-8723-4E07-AC75-0B23B006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62DB-CE1C-414E-8C25-CE62A9F4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C5CD9-D649-4CEE-A14F-F1BC0B22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0CED4-C283-4696-8A57-63798385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4B2BA-3A05-46EC-B22F-7736537D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F3C6B-58B3-4AF8-9959-A4AD1342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CAE7B-411B-4179-8D0B-BE222BD2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FD3E3-2651-4151-B3D4-24D806E9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F9A86-D225-4DDC-92F6-C5A33E59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85B24-809F-4350-A666-630F5834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76D9A-248E-400B-A1E7-B955B669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500D0-91BC-437A-8637-10225F67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C97B-2CFB-4898-898D-687F11F9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10394-BFE9-4655-90E3-B1C18299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00F41-9D37-4775-B029-F29A2802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DC608-6D56-47E2-9D7E-EC0A7C24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C5B45-2901-4B82-A9DB-FD33ECBC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A093D-67AF-445F-8C50-1FE574FF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ACD25-2392-493E-905E-615D61A2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8E53A-9C64-47E8-867D-E038FF19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1271E-D49D-4A3E-8156-5E215543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0DE27-D080-4D2B-87E7-17E9E367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B33D-7B12-4972-8974-64103AA9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90F8-5C0C-4402-9DBD-AD61838E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9BF9-C6FB-4F47-99AC-FCAB2E92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4806-C6BF-4ED6-81A8-FDC850F0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7CF1-4BA3-4BCC-8626-67A14CB2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916D46-FEAD-4B39-B814-A06A39DBF574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56F12-0FA4-42FB-A89C-C0FF7D841EC3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BF9AAD-7E0A-4F4E-8E4C-C99A18E2B307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6D3BC-51BC-4CBB-852E-FB4193907B06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entury Gothic"/>
              </a:rPr>
              <a:t>INTRAMUSCULAIR INJECTERE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CONTRA INDICATI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eschadigde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tstoken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mato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hu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mma amputatie met okselklier verwijde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GEL VAN 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835280" y="1599840"/>
            <a:ext cx="6394320" cy="34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naam en geboortedatu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medicijn ( let op vervaldatum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dos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oedieningsvo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ijd en aantal k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TECHNIEK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24000" y="1600200"/>
            <a:ext cx="610560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laats desinf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k met volle hand spierbund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pier laten ontspan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lot loodrecht inj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ontrole of je niet in bloedvat zit bij I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angzaam in spui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aald vlot eru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PRIKACCIDENT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6000" y="1773360"/>
            <a:ext cx="57596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ooit huls terug op de naal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bruik naaldencontain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el jezelf op de hoogte, bij de instelling waar je werkt, hoe om te gaan met prikacciden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EREKENINGEN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1 ml =10 mg Phenerg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7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geef j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2 ml = 15 mg Hald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0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 1 ml= 5 mg Morf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2,5 m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87280" y="1600200"/>
            <a:ext cx="704232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parenteraal toedienen medicijn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(buiten spijsverteringskanaal om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Afbeelding 3" descr="injectie.jpg"/>
          <p:cNvPicPr/>
          <p:nvPr/>
        </p:nvPicPr>
        <p:blipFill>
          <a:blip r:embed="rId1"/>
          <a:stretch/>
        </p:blipFill>
        <p:spPr>
          <a:xfrm>
            <a:off x="5867280" y="1125360"/>
            <a:ext cx="214308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00000" y="1600200"/>
            <a:ext cx="7329600" cy="398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Wet BIG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jecteren is een voorbehouden handeling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at houdt dit in?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an welke 4 voorwaarden moet voldaan worden als verpleegkundig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Deskundigheid: voldoende schol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Bekwaamheid: ervar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Opdrach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ogelijke tussenkomst van huisarts/ar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DENEN OM TE 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11280" y="1599840"/>
            <a:ext cx="761832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nel (meteen) resulta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 onwerkzaam wordt gemaakt door één van de spijsverteringssapp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rale medicatie niet kan worden in geno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tiënt geen orale medicatie wil inne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atie alleen in injectievorm verkrijgba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77560"/>
            <a:ext cx="783432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4 verschillende manieren van injectere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cutaan (i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ubcutaan (s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musculair (i.m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veneus (i.v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8" descr="SC_45_90_graden"/>
          <p:cNvPicPr/>
          <p:nvPr/>
        </p:nvPicPr>
        <p:blipFill>
          <a:blip r:embed="rId1"/>
          <a:stretch/>
        </p:blipFill>
        <p:spPr>
          <a:xfrm>
            <a:off x="4114800" y="2637000"/>
            <a:ext cx="4321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IE PLAATS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279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te bilspier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glutaeus maxim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ot, goed doorbloed, grote hoeveelheid toedie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ste, buitenste bilkwadra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mzeilt zenuwba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5796000" y="7556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DIJBEEN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rectus femor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been in 3-en verdelen: middelste dee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ie Vilans protoc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OVENAR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deltoïde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 kleinere hv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v. Griepprik, vaccina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364000" y="981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Rina Niemeijer</cp:lastModifiedBy>
  <dcterms:modified xsi:type="dcterms:W3CDTF">2018-02-13T07:29:54Z</dcterms:modified>
  <cp:revision>26</cp:revision>
  <dc:subject/>
  <dc:title>Wet BIG</dc:title>
</cp:coreProperties>
</file>