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8B29-B595-47F9-8873-EB6B8791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8063-151E-47A8-9144-9DC42EE3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B46A-5700-49F4-8049-05D3B23A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1229-1BC8-4CBD-9D08-42B89061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6C21-EB6D-4FBA-B8CB-4FF26A5E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09FC-572B-41A3-B5D0-507C6DDA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EBAD-CE5D-4E20-9BDD-8F08B83A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18A4-FD52-411A-95B0-C97CFE84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6EC2-F1DC-42FA-8E29-06E4D995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EC40-3AEA-4A46-BC37-73D1778F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AF33-7F9F-4C4F-A27F-E31D856E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81AD-AB29-40DE-86B5-47F57185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EC30-147A-4844-88F0-DE922516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B70D-4E60-4C62-95A6-C57E2B07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F345-3890-4D52-82C0-9161B95F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BF3F-F2EC-4945-9A52-F0947730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7BF6-ECCC-4014-BB4B-B58B852E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3B0FC-3D15-436D-96D1-0DB56CDF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4CE6F-B9B0-425C-8B40-5D2237FC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49A91-F533-4CC5-9704-7F030FB6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4C3B2-3501-4250-867D-1F1FF2CE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751EF-457D-436F-9D13-808CE93F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4F3B-31FB-443F-A741-73E97B3A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FAD60-B1A8-4293-95F1-649AE955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AD11E-8D66-4771-A825-759BD291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AECA8-FDAC-4AFE-98EE-8BA13CBC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CA4BC-8789-470D-B9DA-80D2A681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33340-5B6F-4386-9D97-3ECE5BFA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A6D62-92EB-4607-8EC2-686C116C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035FB-FF57-478D-9F76-D98BADA0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7E850-D66D-4FE5-9305-F41B67C6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9F23B-4CD5-4832-BEE4-D44DCCF5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B7637-19B4-4DBC-B13C-BE03F509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5CFF-2166-400E-99F8-93D04A75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F70D6-154E-4B78-81C8-5913F293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A17AA-C394-4F99-BF15-2E948146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EE6A2-8387-48B3-BB70-E92F64AB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2F9AA-EF9F-44D6-A832-65589528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36B32-5AA4-4D52-8412-1BE4C89E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29A23-85D2-4916-85E0-8D8B05AA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96B92-DF90-49B9-BFD2-373DC1E3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E3F1E-87AD-4043-93D2-6CC96231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85152-6AE5-459E-B168-C1D63C7F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3000-0DE6-4FE9-B6BA-24B21AFD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EA2A-F6D8-4D92-A589-D4751588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B75D-FF2F-4C38-B82B-496D5E94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9661-CA9B-4E6A-9185-5C473388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BCA8-B08C-4B62-B77D-6CC28BFB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8118C-1A82-4C82-A46F-B362B18A12EA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FB8F8-90D9-466C-920A-05F00E4B44F0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06D48-1C5D-4898-84E3-786716D8A594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6FC2D7-C880-4238-B9D3-A7A48F072714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eb3d9f"/>
                </a:solidFill>
                <a:latin typeface="Trebuchet MS"/>
              </a:rPr>
              <a:t>Sonde inbrengen </a:t>
            </a:r>
            <a:endParaRPr b="0" lang="en-US" sz="5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800" spc="-1" strike="noStrike">
              <a:solidFill>
                <a:srgbClr val="7f7f7f"/>
              </a:solidFill>
              <a:latin typeface="Trebuchet MS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5364000" y="330120"/>
            <a:ext cx="14241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dat sonde niet op juiste plaats zit of blijft zit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opboeren, braken, hoesten kan sonde verplaat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elke voeding aansluiting sonde control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  Lucht in maag spu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kmoespapiertje(PH meting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Actieknop: Terug of Vorige 3">
            <a:hlinkClick r:id="rId1" action="ppaction://hlinksldjump"/>
          </p:cNvPr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op verstopping van 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eding koekt aan i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art en eindigen met 20 ml lauw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nimaal 6x per dag sonde doorspo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Actieknop: Terug of Vorige 3">
            <a:hlinkClick r:id="rId1" action="ppaction://hlinksldjump"/>
          </p:cNvPr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zorgen van PEG/PEJ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Pas aangelegd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: extra hygië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anden fistel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sinfect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tadine jo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Na 6 weken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inigen water z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Afbeelding 3" descr="PEG.bmp"/>
          <p:cNvPicPr/>
          <p:nvPr/>
        </p:nvPicPr>
        <p:blipFill>
          <a:blip r:embed="rId1"/>
          <a:stretch/>
        </p:blipFill>
        <p:spPr>
          <a:xfrm>
            <a:off x="6084720" y="1052640"/>
            <a:ext cx="2735280" cy="2523960"/>
          </a:xfrm>
          <a:prstGeom prst="rect">
            <a:avLst/>
          </a:prstGeom>
          <a:ln w="0">
            <a:noFill/>
          </a:ln>
        </p:spPr>
      </p:pic>
      <p:pic>
        <p:nvPicPr>
          <p:cNvPr id="241" name="Afbeelding 6" descr="peg 2.jpg"/>
          <p:cNvPicPr/>
          <p:nvPr/>
        </p:nvPicPr>
        <p:blipFill>
          <a:blip r:embed="rId2"/>
          <a:stretch/>
        </p:blipFill>
        <p:spPr>
          <a:xfrm>
            <a:off x="5651640" y="3789360"/>
            <a:ext cx="32144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ickey butto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43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244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245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rekenen hoeveelheid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eveelheid ml SV x druppels per ml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------------------------------------------= aantal druppels/m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tal uren SV gegeven x 60 mi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 arts spreekt af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iter sondevoeding per 24 uu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 is de druppelsnelheid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t = 2000 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4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28 druppels per minuu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24 x 60            144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Arts spreekt af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iter in 8 uur (alleen ‘s nacht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t = 1000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1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41 druppels per minuu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8 x 60           48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120" y="1700280"/>
            <a:ext cx="662652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ek een filmpje op het internet waar een sonde wordt ingeb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kijk di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ak nu het protocol van Vilans erbij en leg dit ernaa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rdt het protocol nauwgezet gevolgd? Zoek de overeenkomsten en de verschill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ragen?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t is sondevoeding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loeibare voeding die geven wordt via kunstmatige verbinding met de maag/duodenu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medicij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anieren van sondevoeding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eus maagsond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 (percutane endoscopische gastr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J (percutane endoscopische jejun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olu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ntinu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ystee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nneer sondevoeding geven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6920" y="2276280"/>
            <a:ext cx="8066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reigende ondervoeding met een goed functionerend maagdarmkana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vulling op die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oeningen: slikken/kauwen, slokdarm, maa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lechte lichamelijke condi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ngdurig voedselweigering (ki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et inbrengen van een voedings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est gebruikte: neus-maag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behouden hande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 langdurige sonde voeding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= Percutane Endoscopische Gastronom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medische ingr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wisseling mag door Verpleegkundig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Neus-maag sonde inbreng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ikte van de sonde: Uitgedrukt in: charriere= C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fort ZV&gt; zo dun mogelijk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ngte van de sonde bepalen(neus-maag): volgens NEX Methode(pg 205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Aandachtspunten: voorbereiding en werkwijze ZV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rgvrager informeren over waarom en de werkwijze inbrengen va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acht voor ang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ttentie hou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nat (warm water)inbre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controleren op maagre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bevesti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zorg ZV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gevens vastleg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eb3d9f"/>
                </a:solidFill>
                <a:latin typeface="Trebuchet MS"/>
              </a:rPr>
              <a:t>Observatiepunten (tijdens inbrengen)</a:t>
            </a:r>
            <a:endParaRPr b="0" lang="en-US" sz="2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nauwdheid en hoes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wil niet verd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en maagretentie krij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kan opgerold komen te liggen in de keel tijdens inbreng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Complicatie: Kans op decubitus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zit te strak tegen neusvleug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controle/ observ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pleister verscho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leister op juiste wijze plak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Actieknop: Terug of Vorige 3">
            <a:hlinkClick r:id="rId1" action="ppaction://hlinksldjump"/>
          </p:cNvPr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Rina Niemeijer</cp:lastModifiedBy>
  <dcterms:modified xsi:type="dcterms:W3CDTF">2018-02-20T11:27:12Z</dcterms:modified>
  <cp:revision>23</cp:revision>
  <dc:subject/>
  <dc:title>Sondevoeding</dc:title>
</cp:coreProperties>
</file>