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DE68-EB70-4401-B997-27D86022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7C0-C497-4C26-B7CA-D08F09BA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D472-7A41-43B6-8015-D87E41A8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189-8AC2-4AF3-8BC0-56F3F9C3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5D1B-88F0-431C-B2E5-277CFB2A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901E-22A2-4253-A73B-4DE35F9C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1A68-10D0-46B5-A9C3-7BBAC799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AE0B-A72D-48F5-B32B-12A1BF14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578A-9C37-488A-B737-556A412A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67A0-B90F-4801-9D43-DCFE8B67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1172-4D91-4336-85C7-1DFDF2D6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9358-91BF-4A19-AE46-586EA940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705C-C739-4B15-A95C-B966CF50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F119-AE50-4953-B636-6441F5CB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90FE-0C5B-469C-BEAC-4A19E8E2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332D-D029-4475-A4CD-652F1C79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CBD4-03EA-4A67-8C14-B997ECA2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6BAD-54B2-4C0F-B90C-6FDADFEF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470F-6113-448B-84BD-B1E814F0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3B9-5402-4E69-A444-3BD25BF8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F47-F3FD-40F3-885B-B6B24F18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DB57-1EB4-4CAC-AEFD-EC3A52EF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C130-38F2-40E2-AC1D-99D0B02F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ABA6-E29A-4626-BAC5-EAADF73E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C298-B6B5-48D6-A0FA-A6EFA25A210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2409-D72E-466E-9FD1-505308C30EB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340000" y="256536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ostoperat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oorbehouden Hande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Juiste maat: charri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Informatievoorziening Z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septisch en hygiënisch wer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(fistel) in buik, boven schaambeen(os pubis)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k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oliklinisch onder plaatselijke verdov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cute ret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Schrompelbla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reventi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Afbeelding 3" descr="suprapubis.jpg"/>
          <p:cNvPicPr/>
          <p:nvPr/>
        </p:nvPicPr>
        <p:blipFill>
          <a:blip r:embed="rId1"/>
          <a:stretch/>
        </p:blipFill>
        <p:spPr>
          <a:xfrm>
            <a:off x="5364000" y="425772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02920" y="301320"/>
            <a:ext cx="728028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oordelen Supra pub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v kan makkelijker verzor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blaasst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infec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belast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ksualit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vrouwen: minder kans op fecale infectie van anus naar ureth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mannen minder kans op prostatitis en urethr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Anatomie van de Urineweg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Picture 2" descr="Gerelateerde afbeelding"/>
          <p:cNvPicPr/>
          <p:nvPr/>
        </p:nvPicPr>
        <p:blipFill>
          <a:blip r:embed="rId1"/>
          <a:stretch/>
        </p:blipFill>
        <p:spPr>
          <a:xfrm>
            <a:off x="1370160" y="1473120"/>
            <a:ext cx="6777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erwijderen van de 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voudige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rk hygiënis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inbrengen: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verwijderen: wegwerp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Cad: eerst water uit de ballon hal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Zo nodig kweek katheter p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efe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aantrekken van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K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(vesica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Definitie Katheteriser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éénmalig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te katheteris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lijfskatheter (Catheter à Demeu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/vernauwing van de urinebu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laton katheter(recht uitein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pra pubis kath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eenmalige blaasledig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ermitterend Katheteriseren: bij aandoeningen van de blaas en ruggemerg let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 man en vrouw: in de leng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coat en on geco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1 op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erbijfsk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Catheter à Deme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ft na inbrengen na 6 weken verwisseld te word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ij een Silliconen: 3 maanden intramuraal, 6 maanden extramuraal(afhankelijk instel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K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 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katheteriser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leegmaken en houden van de bla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wijkingen aan de urine we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ekte van de zorgvrager(kan niet naar de wc/ toi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llen van een diagnose: urine voor microbiologisch onderzo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acte bepaling resi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onderzoek zoals een cystograf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voor (verblijfs)blaa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Rina Niemeijer</cp:lastModifiedBy>
  <dcterms:modified xsi:type="dcterms:W3CDTF">2018-03-06T08:18:32Z</dcterms:modified>
  <cp:revision>39</cp:revision>
  <dc:subject/>
  <dc:title>Indeling WCS=</dc:title>
</cp:coreProperties>
</file>