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EC3B-5869-4C86-92F4-BE4C47696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760F-DA28-4283-B86D-97334856D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8416-0ED9-4B91-B65B-9D86CF59D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7592-E841-47E9-B98B-923C87439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8813F-DEE0-430D-B95A-7B585C2B5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7DE1B-62C6-4610-A827-47D0691BC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11A05-5E23-4616-B328-25C843D14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593A6-BE3C-476F-BEEA-071015614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3684F-1C77-4C37-BE01-B1534609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9D8C4-2B67-48FF-838C-4BBAA7977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8B7C3-1913-4CC1-B4CD-310000DD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34B1-2A15-40EC-9D85-C92C81CCA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FA97E-2B91-48E6-BE39-EE2D53C6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3F699-5FFC-4BD8-90D1-F1C0647E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F57D5-FE02-4A76-AA45-0DECE4044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FC642-5D36-4131-87A0-E66D81665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8102C-45EC-49E3-8308-F1092114C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4D44C-2851-4FC4-BA96-72DC0F329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F9AE3-ED06-4615-BEAE-2777A11A7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A453C-B16C-4BCE-947B-B924BEC5E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3C188-B555-4154-A011-1C424AE12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AD0FF-BA27-404F-A3BE-F47E99B5B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3D91-E2A5-4201-8309-882BF8E89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D7A04-C512-483B-A8DA-B707B7A3C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C210E-B1D3-4F96-A2EA-E17B5E68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9ED9C-00D9-4568-BC27-B15D31F9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138F5-D68A-4510-981B-3DA26D52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3DF5D-DB94-4E51-B980-52BDE9ED9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FF769-45AA-42EE-9A52-FEFA74330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F7F15-705E-474A-9358-39080E951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A8599-4C93-4C9E-83F1-C5623F42B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25BF3-74F7-416D-B794-33BB00C55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45053-4A2E-4228-BF23-B6AA7F6A0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C01D-07B0-4BEF-80FF-B624FFD0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91366-814C-4635-A013-C967BC31C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A5A7D-917C-4114-8DCE-12F724D61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D4415-D510-4A98-8520-1B3699C09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3F016-13DE-4E26-8A8B-2DDE80E4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D5677-98C5-4442-8709-D056E8F8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08E1C-7F2E-4C31-825B-2A2D328F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AF663-A5ED-44C3-92DC-D51075F69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535FA-2E99-4031-837E-A1A0E2BD5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3DA35-9DB9-4133-8C93-86042A99A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C930-738F-43DC-9BEC-DCFFA5D67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56CE-D55B-4097-BAFE-858845584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5C56-1176-4B5B-AA58-E998AF48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538B-E0CF-4CB3-A4A9-987E5A18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3B2B-FD98-43D4-8B02-EB1BF16F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66FEAB-9575-4E72-A55C-8952BC58069A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eb3d9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315741-86D6-4BBD-BC66-7A2FD8C99272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14C522-242B-43FB-990A-666498E876D9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44291D-6980-466D-B8BB-0FF40CA8E2C7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30400" y="2404800"/>
            <a:ext cx="582768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eb3d9f"/>
                </a:solidFill>
                <a:latin typeface="Trebuchet MS"/>
              </a:rPr>
              <a:t>Sonde inbrengen </a:t>
            </a:r>
            <a:endParaRPr b="0" lang="en-US" sz="54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30400" y="4051080"/>
            <a:ext cx="582768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800" spc="-1" strike="noStrike">
              <a:solidFill>
                <a:srgbClr val="7f7f7f"/>
              </a:solidFill>
              <a:latin typeface="Trebuchet MS"/>
            </a:endParaRPr>
          </a:p>
        </p:txBody>
      </p:sp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5364000" y="330120"/>
            <a:ext cx="142416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Kans dat sonde niet op juiste plaats zit of blijft zitte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oor opboeren, braken, hoesten kan sonde verplaats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Actie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oor elke voeding aansluiting sonde control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   Lucht in maag spui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Lakmoespapiertje(PH meting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Actieknop: Terug of Vorige 3">
            <a:hlinkClick r:id="rId1" action="ppaction://hlinksldjump"/>
          </p:cNvPr>
          <p:cNvSpPr/>
          <p:nvPr/>
        </p:nvSpPr>
        <p:spPr>
          <a:xfrm>
            <a:off x="1187280" y="5732640"/>
            <a:ext cx="682920" cy="504720"/>
          </a:xfrm>
          <a:custGeom>
            <a:avLst/>
            <a:gdLst>
              <a:gd name="textAreaLeft" fmla="*/ 32400 w 682920"/>
              <a:gd name="textAreaRight" fmla="*/ 650520 w 6829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9221" h="21600">
                <a:moveTo>
                  <a:pt x="0" y="0"/>
                </a:moveTo>
                <a:lnTo>
                  <a:pt x="29221" y="0"/>
                </a:lnTo>
                <a:lnTo>
                  <a:pt x="29221" y="21600"/>
                </a:lnTo>
                <a:lnTo>
                  <a:pt x="0" y="21600"/>
                </a:lnTo>
                <a:close/>
              </a:path>
              <a:path fill="lightenLess" w="29221" h="21600">
                <a:moveTo>
                  <a:pt x="0" y="0"/>
                </a:moveTo>
                <a:lnTo>
                  <a:pt x="29221" y="0"/>
                </a:lnTo>
                <a:lnTo>
                  <a:pt x="27821" y="1400"/>
                </a:lnTo>
                <a:lnTo>
                  <a:pt x="1400" y="1400"/>
                </a:lnTo>
                <a:close/>
              </a:path>
              <a:path fill="darken" w="29221" h="21600">
                <a:moveTo>
                  <a:pt x="29221" y="0"/>
                </a:moveTo>
                <a:lnTo>
                  <a:pt x="29221" y="21600"/>
                </a:lnTo>
                <a:lnTo>
                  <a:pt x="27821" y="20200"/>
                </a:lnTo>
                <a:lnTo>
                  <a:pt x="27821" y="1400"/>
                </a:lnTo>
                <a:close/>
              </a:path>
              <a:path fill="darkenLess" w="29221" h="21600">
                <a:moveTo>
                  <a:pt x="292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21" y="20200"/>
                </a:lnTo>
                <a:close/>
              </a:path>
              <a:path fill="lighten" w="292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21" h="21600">
                <a:moveTo>
                  <a:pt x="7604" y="10800"/>
                </a:moveTo>
                <a:lnTo>
                  <a:pt x="21617" y="3794"/>
                </a:lnTo>
                <a:lnTo>
                  <a:pt x="21617" y="17806"/>
                </a:lnTo>
                <a:close/>
              </a:path>
            </a:pathLst>
          </a:custGeom>
          <a:solidFill>
            <a:srgbClr val="f496cb"/>
          </a:solidFill>
          <a:ln cap="rnd" w="19080">
            <a:solidFill>
              <a:srgbClr val="b36d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Kans op verstopping van sond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oeding koekt aan in de son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Actie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tart en eindigen met 20 ml lauw wat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inimaal 6x per dag sonde doorspoel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Actieknop: Terug of Vorige 3">
            <a:hlinkClick r:id="rId1" action="ppaction://hlinksldjump"/>
          </p:cNvPr>
          <p:cNvSpPr/>
          <p:nvPr/>
        </p:nvSpPr>
        <p:spPr>
          <a:xfrm>
            <a:off x="971640" y="4221000"/>
            <a:ext cx="610920" cy="503280"/>
          </a:xfrm>
          <a:custGeom>
            <a:avLst/>
            <a:gdLst>
              <a:gd name="textAreaLeft" fmla="*/ 32400 w 610920"/>
              <a:gd name="textAreaRight" fmla="*/ 578520 w 61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6216" h="21600">
                <a:moveTo>
                  <a:pt x="0" y="0"/>
                </a:moveTo>
                <a:lnTo>
                  <a:pt x="26216" y="0"/>
                </a:lnTo>
                <a:lnTo>
                  <a:pt x="26216" y="21600"/>
                </a:lnTo>
                <a:lnTo>
                  <a:pt x="0" y="21600"/>
                </a:lnTo>
                <a:close/>
              </a:path>
              <a:path fill="lightenLess" w="26216" h="21600">
                <a:moveTo>
                  <a:pt x="0" y="0"/>
                </a:moveTo>
                <a:lnTo>
                  <a:pt x="26216" y="0"/>
                </a:lnTo>
                <a:lnTo>
                  <a:pt x="24816" y="1400"/>
                </a:lnTo>
                <a:lnTo>
                  <a:pt x="1400" y="1400"/>
                </a:lnTo>
                <a:close/>
              </a:path>
              <a:path fill="darken" w="26216" h="21600">
                <a:moveTo>
                  <a:pt x="26216" y="0"/>
                </a:moveTo>
                <a:lnTo>
                  <a:pt x="26216" y="21600"/>
                </a:lnTo>
                <a:lnTo>
                  <a:pt x="24816" y="20200"/>
                </a:lnTo>
                <a:lnTo>
                  <a:pt x="24816" y="1400"/>
                </a:lnTo>
                <a:close/>
              </a:path>
              <a:path fill="darkenLess" w="26216" h="21600">
                <a:moveTo>
                  <a:pt x="262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16" y="20200"/>
                </a:lnTo>
                <a:close/>
              </a:path>
              <a:path fill="lighten" w="262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16" h="21600">
                <a:moveTo>
                  <a:pt x="6102" y="10800"/>
                </a:moveTo>
                <a:lnTo>
                  <a:pt x="20115" y="3794"/>
                </a:lnTo>
                <a:lnTo>
                  <a:pt x="20115" y="17806"/>
                </a:lnTo>
                <a:close/>
              </a:path>
            </a:pathLst>
          </a:custGeom>
          <a:solidFill>
            <a:srgbClr val="f496cb"/>
          </a:solidFill>
          <a:ln cap="rnd" w="19080">
            <a:solidFill>
              <a:srgbClr val="b36d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Verzorgen van PEG/PEJ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Pas aangelegd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: extra hygiën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Randen fistel genez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esinfect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x per dag draai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tadine jodiu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teriele splitgaa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Na 6 weken: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Reinigen water zeep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teriele splitgaa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x per dag draai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0" name="Afbeelding 3" descr="PEG.bmp"/>
          <p:cNvPicPr/>
          <p:nvPr/>
        </p:nvPicPr>
        <p:blipFill>
          <a:blip r:embed="rId1"/>
          <a:stretch/>
        </p:blipFill>
        <p:spPr>
          <a:xfrm>
            <a:off x="6084720" y="1052640"/>
            <a:ext cx="2735280" cy="2523960"/>
          </a:xfrm>
          <a:prstGeom prst="rect">
            <a:avLst/>
          </a:prstGeom>
          <a:ln w="0">
            <a:noFill/>
          </a:ln>
        </p:spPr>
      </p:pic>
      <p:pic>
        <p:nvPicPr>
          <p:cNvPr id="241" name="Afbeelding 6" descr="peg 2.jpg"/>
          <p:cNvPicPr/>
          <p:nvPr/>
        </p:nvPicPr>
        <p:blipFill>
          <a:blip r:embed="rId2"/>
          <a:stretch/>
        </p:blipFill>
        <p:spPr>
          <a:xfrm>
            <a:off x="5651640" y="3789360"/>
            <a:ext cx="321444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Mickey butto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243" name="Tijdelijke aanduiding voor inhoud 3" descr="Mickey sonde.bmp"/>
          <p:cNvPicPr/>
          <p:nvPr/>
        </p:nvPicPr>
        <p:blipFill>
          <a:blip r:embed="rId1"/>
          <a:stretch/>
        </p:blipFill>
        <p:spPr>
          <a:xfrm>
            <a:off x="611280" y="1341360"/>
            <a:ext cx="4330440" cy="3241800"/>
          </a:xfrm>
          <a:prstGeom prst="rect">
            <a:avLst/>
          </a:prstGeom>
          <a:ln w="0">
            <a:noFill/>
          </a:ln>
        </p:spPr>
      </p:pic>
      <p:pic>
        <p:nvPicPr>
          <p:cNvPr id="244" name="Afbeelding 4" descr="mickey sonde 1.bmp"/>
          <p:cNvPicPr/>
          <p:nvPr/>
        </p:nvPicPr>
        <p:blipFill>
          <a:blip r:embed="rId2"/>
          <a:stretch/>
        </p:blipFill>
        <p:spPr>
          <a:xfrm>
            <a:off x="5292720" y="3444840"/>
            <a:ext cx="3643200" cy="3218040"/>
          </a:xfrm>
          <a:prstGeom prst="rect">
            <a:avLst/>
          </a:prstGeom>
          <a:ln w="0">
            <a:noFill/>
          </a:ln>
        </p:spPr>
      </p:pic>
      <p:pic>
        <p:nvPicPr>
          <p:cNvPr id="245" name="Afbeelding 5" descr="mickey sonde 2.jpg"/>
          <p:cNvPicPr/>
          <p:nvPr/>
        </p:nvPicPr>
        <p:blipFill>
          <a:blip r:embed="rId3"/>
          <a:stretch/>
        </p:blipFill>
        <p:spPr>
          <a:xfrm>
            <a:off x="5796000" y="1268280"/>
            <a:ext cx="213372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Berekenen hoeveelheid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ml = 20 druppel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oeveelheid ml SV x druppels per ml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------------------------------------------= aantal druppels/mi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antal uren SV gegeven x 60 min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Opdracht: arts spreekt af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2 liter sondevoeding per 24 uu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at is de druppelsnelheid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2 lt = 2000  m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ml = 20 druppel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2000 x 20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= </a:t>
            </a: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40000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= 28 druppels per minuut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24 x 60            1440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Arts spreekt af: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liter in 8 uur (alleen ‘s nachts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lt = 1000 m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ml = 20 druppel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1000 x 20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= </a:t>
            </a: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20000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= 41 druppels per minuu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8 x 60           480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Opdracht: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120" y="1700280"/>
            <a:ext cx="6626520" cy="43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Zoek een filmpje op het internet waar een sonde wordt ingebra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kijk dit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ak nu het protocol van Vilans erbij en leg dit ernaa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ordt het protocol nauwgezet gevolgd? Zoek de overeenkomsten en de verschillen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Vragen?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Wat is sondevoeding?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loeibare voeding die geven wordt via kunstmatige verbinding met de maag/duodenum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 voed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 vo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 medicijn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Manieren van sondevoeding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Neus maagsonde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EG (percutane endoscopische gastrostomie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EJ (percutane endoscopische jejunostomie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olus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Continue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pui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ysteem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Wanneer sondevoeding geven?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26920" y="2276280"/>
            <a:ext cx="806616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reigende ondervoeding met een goed functionerend maagdarmkanaa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anvulling op diee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andoeningen: slikken/kauwen, slokdarm, maag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erminderde eetlu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lechte lichamelijke condi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Langdurig voedselweigering (kind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Het inbrengen van een voedingssond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eest gebruikte: neus-maagson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oor behouden handel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ij langdurige sonde voeding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EG= Percutane Endoscopische Gastronom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oor medische ingreep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erwisseling mag door Verpleegkundig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Neus-maag sonde inbrenge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ikte van de sonde: Uitgedrukt in: charriere= CH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Comfort ZV&gt; zo dun mogelijke son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Lengte van de sonde bepalen(neus-maag): volgens NEX Methode(pg 205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eb3d9f"/>
                </a:solidFill>
                <a:latin typeface="Trebuchet MS"/>
              </a:rPr>
              <a:t>Aandachtspunten: voorbereiding en werkwijze ZV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Zorgvrager informeren over waarom en de werkwijze inbrengen van de son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andacht voor ang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ttentie hou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nat (warm water)inbren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controleren op maagreten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bevesti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Nazorg ZV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Gegevens vastleg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eb3d9f"/>
                </a:solidFill>
                <a:latin typeface="Trebuchet MS"/>
              </a:rPr>
              <a:t>Observatiepunten (tijdens inbrengen)</a:t>
            </a:r>
            <a:endParaRPr b="0" lang="en-US" sz="24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nauwdheid en hoes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wil niet verd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Geen maagretentie krij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kan opgerold komen te liggen in de keel tijdens inbrengen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eb3d9f"/>
                </a:solidFill>
                <a:latin typeface="Trebuchet MS"/>
              </a:rPr>
              <a:t>Complicatie: Kans op decubitus</a:t>
            </a:r>
            <a:endParaRPr b="0" lang="en-US" sz="28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zit te strak tegen neusvleug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Actie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Elke dag controle/ observa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Elke dag pleister verschon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leister op juiste wijze plakk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Actieknop: Terug of Vorige 3">
            <a:hlinkClick r:id="rId1" action="ppaction://hlinksldjump"/>
          </p:cNvPr>
          <p:cNvSpPr/>
          <p:nvPr/>
        </p:nvSpPr>
        <p:spPr>
          <a:xfrm>
            <a:off x="1258920" y="4941720"/>
            <a:ext cx="611280" cy="503280"/>
          </a:xfrm>
          <a:custGeom>
            <a:avLst/>
            <a:gdLst>
              <a:gd name="textAreaLeft" fmla="*/ 32400 w 611280"/>
              <a:gd name="textAreaRight" fmla="*/ 578880 w 611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6232" h="21600">
                <a:moveTo>
                  <a:pt x="0" y="0"/>
                </a:moveTo>
                <a:lnTo>
                  <a:pt x="26232" y="0"/>
                </a:lnTo>
                <a:lnTo>
                  <a:pt x="26232" y="21600"/>
                </a:lnTo>
                <a:lnTo>
                  <a:pt x="0" y="21600"/>
                </a:lnTo>
                <a:close/>
              </a:path>
              <a:path fill="lightenLess" w="26232" h="21600">
                <a:moveTo>
                  <a:pt x="0" y="0"/>
                </a:moveTo>
                <a:lnTo>
                  <a:pt x="26232" y="0"/>
                </a:lnTo>
                <a:lnTo>
                  <a:pt x="24832" y="1400"/>
                </a:lnTo>
                <a:lnTo>
                  <a:pt x="1400" y="1400"/>
                </a:lnTo>
                <a:close/>
              </a:path>
              <a:path fill="darken" w="26232" h="21600">
                <a:moveTo>
                  <a:pt x="26232" y="0"/>
                </a:moveTo>
                <a:lnTo>
                  <a:pt x="26232" y="21600"/>
                </a:lnTo>
                <a:lnTo>
                  <a:pt x="24832" y="20200"/>
                </a:lnTo>
                <a:lnTo>
                  <a:pt x="24832" y="1400"/>
                </a:lnTo>
                <a:close/>
              </a:path>
              <a:path fill="darkenLess" w="26232" h="21600">
                <a:moveTo>
                  <a:pt x="26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32" y="20200"/>
                </a:lnTo>
                <a:close/>
              </a:path>
              <a:path fill="lighten" w="26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32" h="21600">
                <a:moveTo>
                  <a:pt x="6109" y="10800"/>
                </a:moveTo>
                <a:lnTo>
                  <a:pt x="20122" y="3794"/>
                </a:lnTo>
                <a:lnTo>
                  <a:pt x="20122" y="17806"/>
                </a:lnTo>
                <a:close/>
              </a:path>
            </a:pathLst>
          </a:custGeom>
          <a:solidFill>
            <a:srgbClr val="f496cb"/>
          </a:solidFill>
          <a:ln cap="rnd" w="19080">
            <a:solidFill>
              <a:srgbClr val="b36d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. Scheltens-Flink</dc:creator>
  <dc:description/>
  <dc:language>en-US</dc:language>
  <cp:lastModifiedBy>Rina Niemeijer</cp:lastModifiedBy>
  <dcterms:modified xsi:type="dcterms:W3CDTF">2018-02-20T11:27:12Z</dcterms:modified>
  <cp:revision>23</cp:revision>
  <dc:subject/>
  <dc:title>Sondevoeding</dc:title>
</cp:coreProperties>
</file>