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1B6D-0816-4A2E-8975-99AB1EC1E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6425-CCFF-4DF8-984D-6A463885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2DD4-B502-4473-8E32-F1B757719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38BF-5CCE-4087-8E14-C4111D349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0FB4-4D85-45D1-9EA0-19400E53A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B54E-1BAC-47B9-9EC8-FC571A8E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86DA-E23F-49C9-804F-FE529D9A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B0FC-0A48-41E6-B251-1D5F6433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DC08-2794-4A1E-A5EE-2C1B19F6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B175-FB72-48C9-B88A-9233C874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9804-EB0E-43EC-B157-8EAAC494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D5B7-D63E-4701-9143-70D87B46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00C5-776D-4F54-AF58-B2232EC8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E0FC-CC3C-4AC6-8F39-9479A300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474A-8286-40CB-9E4F-4E8F99CC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017C-C68C-444E-A49D-27035047F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B3B7-5F61-40F5-9A4F-CA1C69A84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F28C-0326-4F6B-853C-169D6898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3603-FC1E-4660-8665-5604DC96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9961-8E63-408F-ADD0-28729157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A86E-8444-4720-A26B-639E1012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C96A-7A60-4ED2-BA2E-7143AE29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A930-3C4B-4C49-9EB4-5A2A0C61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0559-0E19-44D3-B1C4-F8A0D89F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F2A7-726C-4B8C-92A4-26A3CD328C2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AEDA-3E3B-45B5-B235-85464256F9C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050920" y="2492280"/>
            <a:ext cx="5326200" cy="3475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880560" y="188640"/>
            <a:ext cx="65185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6666"/>
                </a:solidFill>
                <a:latin typeface="Arial"/>
              </a:rPr>
              <a:t>Made by : Rina Niemeijer</a:t>
            </a: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Tekenen van infectie: koor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inbreng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ygië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Pijn tijdens het inbrengen van de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iet meer dan 500 ml urine laten afvloei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vrou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Kenmerk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ia opening in buik, boven schaambeen in blaas gebrach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oorkeur silicone catheter ( kan langere tijd zitten, minder gauw irritaties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Indicatie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andoening of operatie urinebu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dwarslaes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incontin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Afbeelding 3" descr="suprapubis.jpg"/>
          <p:cNvPicPr/>
          <p:nvPr/>
        </p:nvPicPr>
        <p:blipFill>
          <a:blip r:embed="rId1"/>
          <a:stretch/>
        </p:blipFill>
        <p:spPr>
          <a:xfrm>
            <a:off x="5219640" y="4005360"/>
            <a:ext cx="3597480" cy="2600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pubisch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 Pubis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06600" y="1852200"/>
            <a:ext cx="704376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5" descr="f47mszien4hulpmiddelenkatheter"/>
          <p:cNvPicPr/>
          <p:nvPr/>
        </p:nvPicPr>
        <p:blipFill>
          <a:blip r:embed="rId1"/>
          <a:stretch/>
        </p:blipFill>
        <p:spPr>
          <a:xfrm>
            <a:off x="1835280" y="1392120"/>
            <a:ext cx="496872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Verzorgen van een supra pubis c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zorgvrager met een supra-pubische katheter heeft dus een niet-natuurlijke verbinding tussen de blaas en de buitenwereld (een fistel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a fistelvorming is de verzorging een niet-complexe handeling, die veel zorgvragers   zelf kunnen uitvoer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Blaasspoel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4" descr="7"/>
          <p:cNvPicPr/>
          <p:nvPr/>
        </p:nvPicPr>
        <p:blipFill>
          <a:blip r:embed="rId1"/>
          <a:stretch/>
        </p:blipFill>
        <p:spPr>
          <a:xfrm>
            <a:off x="2268360" y="1628640"/>
            <a:ext cx="605016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Verdana"/>
              </a:rPr>
              <a:t>Redenen hiervoor kunnen zijn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infec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lokaal toedienen van medicatie, bijvoorbeeld cytostatic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 verstopte of bijna verstopte blaaskathet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bloedstolsels na een oper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laasspoelen kan plaatsvinden met de hand ofwel met een open systeem (uro tainer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or het spoelen met een gesloten systeem is een driewegkatheter nodi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c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Katheteriseren i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 spoelen met een open systeem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Doel: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doorgang van de verblijfskatheter open houden / toedienen medic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Bij wie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: Zorgvragers bij wie de blaas met een zakje moet worden gespoel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Verschillende redenen om de blaas te spoelen met zakjes: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Om de afvoer van urine in stand te houde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zichtbare hematurie in 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produceerde urine (met stolsel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gruis / afval in de blaas e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de katheter, die dan verstopt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raken.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spoelen om  medicatie toe te dien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cytostaticakuren met lokale werking bijv. bij blaastumo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reinigen van de blaas vanwege een zeer ernstige urineweginfectie, een pyur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4" descr="2086"/>
          <p:cNvPicPr/>
          <p:nvPr/>
        </p:nvPicPr>
        <p:blipFill>
          <a:blip r:embed="rId1"/>
          <a:stretch/>
        </p:blipFill>
        <p:spPr>
          <a:xfrm>
            <a:off x="5580000" y="3860640"/>
            <a:ext cx="280836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5" descr="zz09werkbladsupra"/>
          <p:cNvPicPr/>
          <p:nvPr/>
        </p:nvPicPr>
        <p:blipFill>
          <a:blip r:embed="rId1"/>
          <a:stretch/>
        </p:blipFill>
        <p:spPr>
          <a:xfrm>
            <a:off x="1187280" y="900000"/>
            <a:ext cx="662472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 &gt; afloop ur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 in verschillende soorten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n en  materiale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èè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malig te katheteriser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erblijfskathete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uprapubis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Kenmerken verblijfskatheter: 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lijft na inbrengen 4-8 weken zitten, Bij een silliconen Kad: 3 maanden intramuraal, 6 maanden extramura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allon gevuld met steriel water of glycerine, ter fixa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2 lumen catheter:  1 voor afvoer urine en 1 om ballon te vull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overdag aangesloten aan been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 nachts aan urine nacht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stop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nneer breng je een verblijfskatheter in en waarom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nneer/waarom verblijfs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Eenmalige katheterisati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Post-operatie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ermoeden van urinereten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Neurologische afwijkingen (zelf katheterisati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Urinekwee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t zijn belangrijke aandachtspunten bij het hebben van en Katheter(denk aan Gordon!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A.R. Niemeijer</cp:lastModifiedBy>
  <dcterms:modified xsi:type="dcterms:W3CDTF">2016-12-14T09:22:39Z</dcterms:modified>
  <cp:revision>33</cp:revision>
  <dc:subject/>
  <dc:title>Indeling WCS=</dc:title>
</cp:coreProperties>
</file>