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510F0-9E20-46B7-B9B6-2E7D92500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7EF76-7510-46B7-8A09-F2081EA64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11CFC-6177-4FC8-B917-45EF626A9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BCB29-EF7A-4F05-A692-A7628731F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53EBB8-3FE6-4AC4-8DF0-3D35B07DC8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B3B54-7A73-42D6-919D-DE92852EB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E78AF-6B46-476E-B628-16C050737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FF5FA-B860-41F6-B9C7-E9103A9F5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49837-D056-45B9-8D6C-477FD4AF3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EEE8E-AA64-4D57-A938-DB1B83EB8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5EA18-FB1A-4934-A068-0683D3151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04B24-7544-463E-94DA-E0A57221A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60F6B-526A-438A-B6E7-39828778D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27A83-5E37-4AD5-9850-4EB0837E8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41B96-4E10-4383-8A48-E664AABA8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5C7AD8-D47A-42E2-9D7E-7E837C052E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3C5BDB-91AC-48E8-9FCE-C083022B65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28D742-BBAE-4A35-B83D-581FCA27E3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28810C-612A-40C4-9A09-0DD32121F3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C2A2D1-947E-40AA-B3C2-C6BE27DB8A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F11996-FD46-4D4C-9897-853BA62F8D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784C5B-0F73-4934-ACB7-D0E4BC0CEB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D6F9C-26F1-4738-AB1C-3D13262B2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9CAF50-F45F-4685-BCCB-6EFD8C8D80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5CEF91-3A7C-461A-A558-07D9CE481C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853BAF-8C1D-4CD4-9BDC-37325BCA56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BA14EC-2AD7-44A1-8B14-A449BBAF4A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E2D7A3-B780-4462-8FC3-D86D9E09C6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B2C399-9529-48BB-AC5D-77C2BD86C1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6B0228-8492-4A94-8338-5D3893E660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4A9005-6837-4429-A96D-9AF6B1ADAD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0EC80E-04C5-4792-A11B-7AAAAD23A3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F534E6-5A51-4511-8E4C-9991A2E9C3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7FAC7-6270-4099-A712-F16D93BA5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A1E72A-E6A5-4CE8-9B2F-D047710C5F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10F728-9594-4E16-B5FA-CB4B91F1ED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3EE659-4BB7-464B-AC40-3C8C99DED6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D20D50-BCF1-4D42-8C76-B765590363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41C8A4-6B29-4C07-819D-A7A4433BFA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E73485-9C44-4E3B-B17B-702115E0E3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CB9E27-5BB3-4B06-97F8-17F3624B84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9F7DA8-E6BB-4D6E-A5C0-03401E0E92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2E2183-04C0-426F-918C-F0784EA26B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CAA092-C077-426A-A73A-FFB33ECF4C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C5675-591B-4938-A240-BD07B1CFF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52A48C-8891-4A61-BCD7-8A88A7C749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F18414-54F3-4AEB-880C-BD036809AA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CFB54D-8044-4910-8E11-1723814693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4DAC57-55ED-447C-9FF6-26F51105F3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94CBB9-D761-4B28-A4F6-0F1FED719E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E19D13-0DD2-47F6-852D-529BAFA7C4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CBD26C-71AC-4343-8BE4-B5843E25E4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2DB9C7-1D76-4126-BD41-A2297327E6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929771-610D-440D-8E99-3C85101039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BEDD3E-8BFD-4512-80A9-9536FB99CA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47314-6358-4399-B218-CA7E6A264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E5E21E-67AC-4195-8F83-377C1AC12C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4C4CC5-A444-40B0-AF5C-1606419F6C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248E2E-56DF-4AC1-95B9-8FB4954724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607952-D243-4E2A-8270-77B92EA8A2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B12DF1-5195-4835-93CC-89AC2A5117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04877E-712A-48E6-9BBA-4D6D68C8E9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5D388D-E5B1-41C7-8119-4C618A8409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71921E-6296-4739-9644-C54A5FB9A1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4160CA-AECD-4A39-86D0-0D134F326D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BDBFEC-373F-4A48-A160-0C6069FFF8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13806-BE36-486D-B5FF-6CB7DB00B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3B3C7C-D640-4F71-A408-3E60638D6C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35D403-2C03-4802-9C51-E7F3858563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E42EF0-BFA9-428A-B7E0-4167D1D424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6EB958-EE7C-44C2-A94F-E408936FBD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6DB355-C9AC-48D0-B16F-2035387534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6856AF-9B63-4FD0-90B6-0528344BB7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DA14D6-AB98-4E6F-B7F1-570E992C1F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357137-7C9C-4501-8777-468D1A229A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5AEE12-A663-4EC8-A094-826E05ED16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B28638-6F61-4161-9EDF-370B4115B1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ADB9E-AD27-4B44-A924-ECC5B8B96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00EBD5-600C-4009-9551-0FC7CE6545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8D952A-CC9A-4EE0-84DB-9120FF83BD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C4AA1E-2395-47A0-A0F2-69648ABD8E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FB6BFD-FCCC-44F4-B941-4A4DCEA16B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BA9F73-0DD9-451C-B39D-9F29A2FFEB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F09DD-EF9C-4EEC-B26A-318CE65B8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8A744-8574-4686-84E4-68E651668D07}"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8BCF-F5BD-4E4D-9EF1-9AD660F14974}"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4571-0E64-4CC7-9E1E-8A9528696C9F}"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5F01F-5CD8-4835-B1A8-B4F736A8F5E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1CB0-7A65-4F6D-9B72-AF21C7B8CB0C}"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CBEF-D421-4980-95DD-166CFECEFE55}"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0BB1D-2A9C-4D09-833A-BCEEB6B83A95}"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verpleegtechniekinbeeld.nl/secure/vib/zuurstof_geven12_nasopharynx_highlights66en67.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 voor de ademhaling:</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Uitzuigen </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toedienen</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Verzorgen van een Tracheo stomie</a:t>
            </a:r>
            <a:endParaRPr b="0" lang="en-US" sz="22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loed wordt onvoldoende rond gepompt: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Decompensatio Cordis/ vocht achter het hart</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Hartinfarct, hartziek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Niet goed werkende hartkleppen</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uurstoftekort door hartproblem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4360" y="1773000"/>
            <a:ext cx="759600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Hoe reageert de ZV?</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ngstig, verward, suf, helder…</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ouding van een ZV: rechtop, liggend, op zij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leur: Cyanose, bleek, rood</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ademhaling zelf: frequentie, wijze van AH: diep, ondiep, geluid: rochelend, piepend, snurk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sputum? : kleur, consistentie, taaiheid,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Pij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 Bloeddruk , AH, HF, SP O2</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apportage collega, art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dacht voor houding in bed:  vb drainage houding</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 grond van deze observaties: besluit O2 toedien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amengeperste O2 via de muurklok of via een cilind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anaf 5 liter/ minuut: O2 met watergeleiding(aqua pakk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e O2 toedien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wordt gebruikt als medicijn. De hoeveelheid wordt afgestemd op wat de zorgvrager in rust nodig heeft. Bij inspanning kan er dan een tekort ontstaan. Dat betekent niet, dat je dan meer zuurstof mag gev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ordt ip voorgeschreven op de medicatie lijst</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Zuurstof als medicijn </a:t>
            </a:r>
            <a:br>
              <a:rPr sz="3200"/>
            </a:br>
            <a:endParaRPr b="0" lang="en-US" sz="3200" spc="-1" strike="noStrike">
              <a:solidFill>
                <a:srgbClr val="ffffff"/>
              </a:solidFill>
              <a:latin typeface="Candar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epe neusslang/nasopahryngeale katheter (naso = neus,   pharynx = keelhol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pervlakkige neusslang/vestibulair katheter; een slang met een schuimstuk op de punt (vestibulum = hal / voorportaal)</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ten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kan op verschillende manieren worden toegediend, o.a. met:</a:t>
            </a:r>
            <a:br>
              <a:rPr sz="2200"/>
            </a:br>
            <a:r>
              <a:rPr b="0" lang="nl-NL" sz="2200" spc="-1" strike="noStrike">
                <a:solidFill>
                  <a:srgbClr val="ffffff"/>
                </a:solidFill>
                <a:latin typeface="Candara"/>
              </a:rPr>
              <a:t> </a:t>
            </a:r>
            <a:br>
              <a:rPr sz="2200"/>
            </a:br>
            <a:endParaRPr b="0"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oor de neusbril gelden dezelfde voordelen als voor het vestibulair: het zit voor in de neus, het is redelijk makkelijk in te brengen en hoeft in principe niet op de neus zelf vastgemaakt te worde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Zuurstof kan ook op verschillende manieren worden toegediend, o.a. met: de neusbril en met het zuurstofmasker.</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971640" y="2781000"/>
            <a:ext cx="7726320" cy="3343320"/>
          </a:xfrm>
          <a:prstGeom prst="rect">
            <a:avLst/>
          </a:prstGeom>
          <a:noFill/>
          <a:ln w="0">
            <a:noFill/>
          </a:ln>
        </p:spPr>
        <p:txBody>
          <a:bodyPr anchor="t">
            <a:normAutofit fontScale="96000"/>
          </a:bodyPr>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er altijd goed op lekkages.</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een naso- pharyngeale katheter: afmeten </a:t>
            </a:r>
            <a:r>
              <a:rPr b="0" lang="nl-NL" sz="2400" spc="-1" strike="noStrike" u="sng">
                <a:solidFill>
                  <a:srgbClr val="0080ff"/>
                </a:solidFill>
                <a:uFillTx/>
                <a:latin typeface="Candara"/>
                <a:hlinkClick r:id="rId1"/>
              </a:rPr>
              <a:t>van</a:t>
            </a:r>
            <a:r>
              <a:rPr b="0" lang="nl-NL" sz="2400" spc="-1" strike="noStrike">
                <a:solidFill>
                  <a:srgbClr val="073e87"/>
                </a:solidFill>
                <a:latin typeface="Candara"/>
              </a:rPr>
              <a:t> neusvleugel tot oorlel</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nijp voor het inbrengen van het vestibulair het spons- gedeelte same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el het gewenste aantal liters per minuut i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vochtiging</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ilige opbergplaats van de cilinder</a:t>
            </a:r>
            <a:endParaRPr b="0" lang="en-US" sz="24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Aandachtspunten bij zuurstof:</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rootte van de cilinder X druk op de manometer+ aantal  liters samengeperste zuursto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Uitrekenen hoeveel uur je met een zuurstofcilinder kunt doen</a:t>
            </a: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Berekenen va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39" name="Picture 5" descr="lgn01"/>
          <p:cNvPicPr/>
          <p:nvPr/>
        </p:nvPicPr>
        <p:blipFill>
          <a:blip r:embed="rId1"/>
          <a:stretch/>
        </p:blipFill>
        <p:spPr>
          <a:xfrm>
            <a:off x="1763640" y="1413000"/>
            <a:ext cx="5327640" cy="442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42" name="Picture 5" descr="external image tekening_longinhoud3.jpg"/>
          <p:cNvPicPr/>
          <p:nvPr/>
        </p:nvPicPr>
        <p:blipFill>
          <a:blip r:embed="rId1"/>
          <a:stretch/>
        </p:blipFill>
        <p:spPr>
          <a:xfrm>
            <a:off x="2771640" y="1413000"/>
            <a:ext cx="3459240" cy="37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4360" y="2205000"/>
            <a:ext cx="7596000" cy="39211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Buitenlucht beva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20,9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1</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0,03%</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Uitgeademde lucht beva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17,0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 2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4,3 %</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etenswaardighede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68320" y="2491920"/>
            <a:ext cx="740736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tingen van CO2 (kooldioxide) en O2(zuurstof)</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n het bloed doo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O2 saturatie</a:t>
            </a:r>
            <a:r>
              <a:rPr b="0" lang="nl-NL" sz="2400" spc="-1" strike="noStrike">
                <a:solidFill>
                  <a:srgbClr val="073e87"/>
                </a:solidFill>
                <a:latin typeface="Candara"/>
              </a:rPr>
              <a:t>, O2sp: verzadiging van de erytrocyten met O2( “knijpe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Arteriële astrup</a:t>
            </a:r>
            <a:r>
              <a:rPr b="0" lang="nl-NL" sz="2400" spc="-1" strike="noStrike">
                <a:solidFill>
                  <a:srgbClr val="073e87"/>
                </a:solidFill>
                <a:latin typeface="Candara"/>
              </a:rPr>
              <a:t>: verhoudingen O2 en CO2 in het bloed</a:t>
            </a: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ting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yperventilat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nauwdhei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snelde hartactie ook in ru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art ritme stoorniss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hoogde bloeddruk (ang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wardheid door hypox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laperigheid: direct actie gebo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van O2 tekor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ijn redenen om zuurstof te gev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een risicovolle handeling, waarom?</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voldoende lucht in de longen: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umor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iet open staan van een long: pneumothorax</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fknelling Trachea</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niet goed kunnen gebruiken van de ademhaling door: operatie, pijn, COPD of neurologisch letse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edenen voor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is ziek: bijv bij Cystic Fibros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rekt niet mee: Longemfyseem</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stroomt geen bloed langs de alveoli: trombose of vaatafsluit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ruk in het bloed is te hoog: geen opn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zit vocht op plaatsen waar lucht moet zijn: longontsteking</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en O2 vanuit alveoli naar de bloedbaa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13:27:49Z</dcterms:created>
  <dc:creator>Rina</dc:creator>
  <dc:description/>
  <dc:language>en-US</dc:language>
  <cp:lastModifiedBy>Rina Niemeijer</cp:lastModifiedBy>
  <dcterms:modified xsi:type="dcterms:W3CDTF">2018-04-08T08:06:23Z</dcterms:modified>
  <cp:revision>20</cp:revision>
  <dc:subject/>
  <dc:title>De ademhaling:</dc:title>
</cp:coreProperties>
</file>