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DA9B-1D5A-4C4C-96B1-427A22CEC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BA81-47A5-4FD6-B50F-91C3CA7E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C95A-2ED7-498D-856E-3E9F33C55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99D5-A35E-4577-B219-9AE04A12D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906C5-DDA7-49A6-9BA6-EBDB604BA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1FC1-2004-4719-A2D8-55B81FB5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9E78-448D-4E6B-A6FA-33ED4DD2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BD7D-72FD-464B-B774-48F9CF1C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7640-6467-4660-904E-F8C54D22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891D-98DA-4628-A15B-62D80647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C8FF-7D41-480B-970E-4D378B2B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2125-29AC-414A-88C3-CCA34813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EE18-73E4-4CAA-9EC2-0F6A1BC6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9385-358F-41FD-BD1E-FF8B3AD8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E53E-DC89-4A18-9EFF-EBE1FBAF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F48BC-0EA7-4667-9C47-385A47ABB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300F-ADA4-4A61-8499-6BB4C3CE8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EC3F-1AC8-4866-85D0-B8FD6792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A2E2-7627-4B4A-83AF-4A88F9DA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E944-7A8D-4FC8-8B11-2029AEF0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FDA4-D07E-469C-8058-E600947E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4A11-D692-4F01-BA21-131F61B6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DD0F-11B9-4927-90B2-A965605A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A0A9-2C0F-4A79-9CB7-8AD4A08F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0046-9143-40D5-BB5A-795D5E49F75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4534-2649-4368-BEB6-CAFCD3B25BE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258560" y="1844640"/>
            <a:ext cx="60418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theterise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6" descr="Plaatsten_catheter_a_demeure"/>
          <p:cNvPicPr/>
          <p:nvPr/>
        </p:nvPicPr>
        <p:blipFill>
          <a:blip r:embed="rId1"/>
          <a:stretch/>
        </p:blipFill>
        <p:spPr>
          <a:xfrm>
            <a:off x="2050920" y="2492280"/>
            <a:ext cx="5326200" cy="3475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880560" y="188640"/>
            <a:ext cx="651852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6666"/>
                </a:solidFill>
                <a:latin typeface="Arial"/>
              </a:rPr>
              <a:t>Made by : Rina Niemeijer</a:t>
            </a:r>
            <a:endParaRPr b="0" lang="en-US" sz="1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bij het hebb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Is een voorbehouden hande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eft invloed op de seksualiteit van de zorgvrag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ldoende privac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n pijnlijk zij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Tekenen van infectie: koor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Picture 6" descr="Urineweginfectie"/>
          <p:cNvPicPr/>
          <p:nvPr/>
        </p:nvPicPr>
        <p:blipFill>
          <a:blip r:embed="rId1"/>
          <a:stretch/>
        </p:blipFill>
        <p:spPr>
          <a:xfrm>
            <a:off x="1763640" y="1052640"/>
            <a:ext cx="40086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bservatiepunt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ymptomen urineweginfec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oede doorstro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anwezigheid lekk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veelheid, kleur, geur en asp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5" descr="1082_la"/>
          <p:cNvPicPr/>
          <p:nvPr/>
        </p:nvPicPr>
        <p:blipFill>
          <a:blip r:embed="rId1"/>
          <a:stretch/>
        </p:blipFill>
        <p:spPr>
          <a:xfrm>
            <a:off x="5292720" y="3500280"/>
            <a:ext cx="2619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inbreng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ygië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Pijn tijdens het inbrengen van de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iet meer dan 500 ml urine laten afvloei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m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vrouw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Kenmerk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ia opening in buik, boven schaambeen in blaas gebrach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oorkeur silicone catheter ( kan langere tijd zitten, minder gauw irritaties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Indicatie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andoening of operatie urinebui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dwarslaes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incontin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Afbeelding 3" descr="suprapubis.jpg"/>
          <p:cNvPicPr/>
          <p:nvPr/>
        </p:nvPicPr>
        <p:blipFill>
          <a:blip r:embed="rId1"/>
          <a:stretch/>
        </p:blipFill>
        <p:spPr>
          <a:xfrm>
            <a:off x="5219640" y="4005360"/>
            <a:ext cx="3597480" cy="26002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pubisch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 Pubis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06600" y="1852200"/>
            <a:ext cx="704376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5" descr="f47mszien4hulpmiddelenkatheter"/>
          <p:cNvPicPr/>
          <p:nvPr/>
        </p:nvPicPr>
        <p:blipFill>
          <a:blip r:embed="rId1"/>
          <a:stretch/>
        </p:blipFill>
        <p:spPr>
          <a:xfrm>
            <a:off x="1835280" y="1392120"/>
            <a:ext cx="496872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Verzorgen van een supra pubis c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zorgvrager met een supra-pubische katheter heeft dus een niet-natuurlijke verbinding tussen de blaas en de buitenwereld (een fistel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a fistelvorming is de verzorging een niet-complexe handeling, die veel zorgvragers   zelf kunnen uitvoer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Blaasspoel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4" descr="7"/>
          <p:cNvPicPr/>
          <p:nvPr/>
        </p:nvPicPr>
        <p:blipFill>
          <a:blip r:embed="rId1"/>
          <a:stretch/>
        </p:blipFill>
        <p:spPr>
          <a:xfrm>
            <a:off x="2268360" y="1628640"/>
            <a:ext cx="605016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Verdana"/>
              </a:rPr>
              <a:t>Redenen hiervoor kunnen zijn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infec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lokaal toedienen van medicatie, bijvoorbeeld cytostatic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en verstopte of bijna verstopte blaaskathet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bloedstolsels na een oper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laasspoelen kan plaatsvinden met de hand ofwel met een open systeem (uro tainer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or het spoelen met een gesloten systeem is een driewegkatheter nodi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et kunstmatig af laten lopen van urine u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laas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iertoe wordt een steriele catheter, do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uis( urethra) in de urinebla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ebracht, zodat ontlediging kan plaatsvinde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Katheteriseren is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 spoelen met een open systeem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Doel: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doorgang van de verblijfskatheter open houden / toedienen medic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Bij wie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: Zorgvragers bij wie de blaas met een zakje moet worden gespoel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Verschillende redenen om de blaas te spoelen met zakjes: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Om de afvoer van urine in stand te houden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zichtbare hematurie in d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geproduceerde urine (met stolsel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gruis / afval in de blaas e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de katheter, die dan verstopt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n raken.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spoelen om  medicatie toe te dien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cytostaticakuren met lokale werking bijv. bij blaastumo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reinigen van de blaas vanwege een zeer ernstige urineweginfectie, een pyur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4" descr="2086"/>
          <p:cNvPicPr/>
          <p:nvPr/>
        </p:nvPicPr>
        <p:blipFill>
          <a:blip r:embed="rId1"/>
          <a:stretch/>
        </p:blipFill>
        <p:spPr>
          <a:xfrm>
            <a:off x="5580000" y="3860640"/>
            <a:ext cx="2808360" cy="25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5" descr="zz09werkbladsupra"/>
          <p:cNvPicPr/>
          <p:nvPr/>
        </p:nvPicPr>
        <p:blipFill>
          <a:blip r:embed="rId1"/>
          <a:stretch/>
        </p:blipFill>
        <p:spPr>
          <a:xfrm>
            <a:off x="1187280" y="900000"/>
            <a:ext cx="662472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Katheter is een buis of canule met een ro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uiteinde, om kans op beschadig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an weefsel te verkleinen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Zijdelingse openingen &gt; afloop uri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 in verschillende soorten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maten en  materiale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oorten Kathe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om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èè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malig te katheteriser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erblijfskathete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om blaas continue mee te spoelen ( 3 lume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iemann katheter: alleen bij mannen met prostaat hypertrof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uprapubis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Afbeelding 4" descr="nelatoncatheter-250x250.jpg"/>
          <p:cNvPicPr/>
          <p:nvPr/>
        </p:nvPicPr>
        <p:blipFill>
          <a:blip r:embed="rId1"/>
          <a:stretch/>
        </p:blipFill>
        <p:spPr>
          <a:xfrm>
            <a:off x="6012000" y="393372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Kenmerken verblijfskatheter: 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lijft na inbrengen 4-8 weken zitten, Bij een silliconen Kad: 3 maanden intramuraal, 6 maanden extramura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allon gevuld met steriel water of glycerine, ter fixa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2 lumen catheter:  1 voor afvoer urine en 1 om ballon te vull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overdag aangesloten aan been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n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 nachts aan urine nacht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stop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nneer breng je een verblijfskatheter in en waarom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Wanneer/waarom verblijfs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raamvrouwen(moeilijk plassen na bevall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riatrische zorgvra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ronische zieken: MS, reuma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andelijke en lichamelijke gehandicapten(spasticiteit, misvorm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kken, dwarslaes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irurgische zorgvrager(buik, hart long oper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Eenmalige katheterisatie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Post-operatief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ermoeden van urinereten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Neurologische afwijkingen (zelf katheterisatie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Urinekwee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t zijn belangrijke aandachtspunten bij het hebben van en Katheter(denk aan Gordon!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9:34:53Z</dcterms:created>
  <dc:creator>Rina</dc:creator>
  <dc:description/>
  <dc:language>en-US</dc:language>
  <cp:lastModifiedBy>A.R. Niemeijer</cp:lastModifiedBy>
  <dcterms:modified xsi:type="dcterms:W3CDTF">2016-12-14T09:22:39Z</dcterms:modified>
  <cp:revision>33</cp:revision>
  <dc:subject/>
  <dc:title>Indeling WCS=</dc:title>
</cp:coreProperties>
</file>