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19AFB6-42D0-4B6B-9CD6-ADAF960353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6C77F-EE89-44E6-AFD6-869891423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0D9372-8666-4AE4-89E1-8C1741E7AC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2BA81E-A08D-4624-84E5-C75AA82473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DBA72C-9073-455A-8567-00864DDBD3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6DC17F-5BA3-420C-842F-D3DAD22ED9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B49CBA-9ACD-4ADE-86F6-3893F65696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EF3AA3-5F87-48B2-A1D2-C48590AE7A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EB0954-7FAC-4B65-9AC3-2DB4914DFE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248691-816B-46BB-8715-DE8A0A733C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553D41-1D9E-4FEF-AFCE-20DDF5147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727A1-9B6C-40A0-995D-59B0DB152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023360-0439-4DC2-9545-AB1C39020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86338F-2EE2-471A-93AE-2DE66D8CFA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4F79FD-0ACF-4861-AD50-8480CF0D89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D7BB4D-1E0B-487E-A2F5-02B4D01030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40CE10-4176-4667-8ECF-8E206296A7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5B25E-5E3C-4ED6-9E78-7D683695E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46B75-E3FA-45E1-81FA-06A9FDDC7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CD80A-C859-4034-9A74-99DF7608E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71193-05D0-4228-9DFF-A7482AAC5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6025D-DC5D-41D9-95BD-CE8288FFF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15B2D-D9A5-4373-959D-1C6898488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1A6B2-D2D0-4F8E-BB61-661C1A07C9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343F1-F3A1-42A0-B798-E537181D4D11}"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851DE-E1FC-4850-8AD2-2A76C854CA1E}"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Arial"/>
              </a:rPr>
              <a:t>De chirurgische client</a:t>
            </a:r>
            <a:endParaRPr b="1" lang="en-US" sz="3600" spc="-1" strike="noStrike">
              <a:solidFill>
                <a:srgbClr val="006666"/>
              </a:solidFill>
              <a:latin typeface="Arial"/>
            </a:endParaRPr>
          </a:p>
        </p:txBody>
      </p:sp>
      <p:sp>
        <p:nvSpPr>
          <p:cNvPr id="96" name="PlaceHolder 1"/>
          <p:cNvSpPr>
            <a:spLocks noGrp="1"/>
          </p:cNvSpPr>
          <p:nvPr>
            <p:ph type="subTitle"/>
          </p:nvPr>
        </p:nvSpPr>
        <p:spPr>
          <a:xfrm>
            <a:off x="4986360" y="7276680"/>
            <a:ext cx="782640" cy="1706760"/>
          </a:xfrm>
          <a:prstGeom prst="rect">
            <a:avLst/>
          </a:prstGeom>
          <a:noFill/>
          <a:ln w="0">
            <a:noFill/>
          </a:ln>
        </p:spPr>
        <p:txBody>
          <a:bodyPr lIns="0" rIns="0" tIns="0" bIns="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800" spc="-1" strike="noStrike">
              <a:solidFill>
                <a:srgbClr val="006666"/>
              </a:solidFill>
              <a:latin typeface="Arial"/>
            </a:endParaRPr>
          </a:p>
        </p:txBody>
      </p:sp>
      <p:pic>
        <p:nvPicPr>
          <p:cNvPr id="97" name="Picture 5" descr="Afbeeldingsresultaat voor de chirurgische client"/>
          <p:cNvPicPr/>
          <p:nvPr/>
        </p:nvPicPr>
        <p:blipFill>
          <a:blip r:embed="rId1"/>
          <a:stretch/>
        </p:blipFill>
        <p:spPr>
          <a:xfrm>
            <a:off x="468360" y="3573360"/>
            <a:ext cx="3635280" cy="2421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6666"/>
                </a:solidFill>
                <a:latin typeface="Arial"/>
              </a:rPr>
              <a:t>Hechtingen verwijderen:</a:t>
            </a:r>
            <a:endParaRPr b="1" lang="en-US" sz="28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Wondhechtingen worden aangebracht om er voor te zorgen d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de wond sneller genees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er zo min mogelijk vorming van littekenweefsel optreedt</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m.v. de hechtingen worden de wondranden bijeengebracht. Om voor hechtingen in aanmerking te komen, moet de wond schoon zijn en rechte wondranden hebbe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fhankelijk van de genezing van de wond, worden ze doorgaans na 8-10 dagen weer verwijder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Fil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https://www.rijnmond.nl/nieuws/155639/Een-verkeerd-sneetje-en-de-patient-zal-nooit-meer-hetzelfde-zijn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Afhankelijk van de operatie:</a:t>
            </a:r>
            <a:endParaRPr b="1" lang="en-US" sz="3600" spc="-1" strike="noStrike">
              <a:solidFill>
                <a:srgbClr val="006666"/>
              </a:solidFill>
              <a:latin typeface="Arial"/>
            </a:endParaRPr>
          </a:p>
        </p:txBody>
      </p:sp>
      <p:sp>
        <p:nvSpPr>
          <p:cNvPr id="9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Katheterzor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Maag-zuig draina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Infuus met toebehor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Vitale functies/ monitor bewak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Drains(Redon, thorax)</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Operatiewond</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Drains:</a:t>
            </a:r>
            <a:endParaRPr b="1" lang="en-US" sz="3600" spc="-1" strike="noStrike">
              <a:solidFill>
                <a:srgbClr val="006666"/>
              </a:solidFill>
              <a:latin typeface="Arial"/>
            </a:endParaRPr>
          </a:p>
        </p:txBody>
      </p:sp>
      <p:sp>
        <p:nvSpPr>
          <p:cNvPr id="10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Controle post operatief</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Meestal na 1- 3 dagen verwijder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Vast met een Hecht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Drains:</a:t>
            </a:r>
            <a:endParaRPr b="1" lang="en-US" sz="3600" spc="-1" strike="noStrike">
              <a:solidFill>
                <a:srgbClr val="006666"/>
              </a:solidFill>
              <a:latin typeface="Arial"/>
            </a:endParaRPr>
          </a:p>
        </p:txBody>
      </p:sp>
      <p:sp>
        <p:nvSpPr>
          <p:cNvPr id="10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Opheffen van drainage van het wondvocht en de wond ontdoen van de drai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Bij wie: </a:t>
            </a:r>
            <a:r>
              <a:rPr b="0" lang="nl-NL" sz="2800" spc="-1" strike="noStrike">
                <a:solidFill>
                  <a:srgbClr val="003366"/>
                </a:solidFill>
                <a:latin typeface="Arial"/>
              </a:rPr>
              <a:t>  Zorgvragers met een wond met vacuümdrainage, bijv heupoperaties, maag-darm kanaal etc.</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Soorten drains:</a:t>
            </a:r>
            <a:endParaRPr b="1" lang="en-US" sz="3600" spc="-1" strike="noStrike">
              <a:solidFill>
                <a:srgbClr val="006666"/>
              </a:solidFill>
              <a:latin typeface="Arial"/>
            </a:endParaRPr>
          </a:p>
        </p:txBody>
      </p:sp>
      <p:sp>
        <p:nvSpPr>
          <p:cNvPr id="105" name="PlaceHolder 1"/>
          <p:cNvSpPr>
            <a:spLocks noGrp="1"/>
          </p:cNvSpPr>
          <p:nvPr>
            <p:ph/>
          </p:nvPr>
        </p:nvSpPr>
        <p:spPr>
          <a:xfrm>
            <a:off x="826560" y="2205000"/>
            <a:ext cx="7704360" cy="3881520"/>
          </a:xfrm>
          <a:prstGeom prst="rect">
            <a:avLst/>
          </a:prstGeom>
          <a:noFill/>
          <a:ln w="0">
            <a:noFill/>
          </a:ln>
        </p:spPr>
        <p:txBody>
          <a:bodyPr anchor="t">
            <a:normAutofit fontScale="98000"/>
          </a:bodyPr>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Redon drain en Thorax drain</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Redondrain is een drain die wondvocht afvoert</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Een thorax drain is een transparante kunststof slang en wordt ingebracht om:</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de aanzuiging tussen de pleura bladen te herstellen door lucht af te voeren (luchtdrain)</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overtollig vocht en/of bloed uit de thoraxholte te verwijderen (vochtdrai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6666"/>
                </a:solidFill>
                <a:latin typeface="Arial"/>
              </a:rPr>
              <a:t>Het verwijderen van een thoraxdrain</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Het verwijderen van een thoraxdrain wordt door een arts of door een geautoriseerde verpleegkundige uitgevoerd.</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Vlak voor het verwijderen moeten er controles worden gedaan. Deze bestaan uit: pols, bloeddruk, ademhaling.</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Verwijderen van een wonddrain:</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Als de wond drain niet meer nodig is wordt deze verwijderd door de VPK.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e beslissing of de drain kan worden verwijderd is vooral afhankelijk van de hoeveelheid wondvocht. Meer dan 50 ml wondvocht per 24 uur is teveel voor natuurlijke resorpti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6666"/>
                </a:solidFill>
                <a:latin typeface="Arial"/>
              </a:rPr>
              <a:t>Bij het verwijderen kunnen zich de volgende complicaties voordoen</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a:t>
            </a:r>
            <a:r>
              <a:rPr b="0" lang="nl-NL" sz="2400" spc="-1" strike="noStrike">
                <a:solidFill>
                  <a:srgbClr val="003366"/>
                </a:solidFill>
                <a:latin typeface="Arial"/>
              </a:rPr>
              <a:t>ontstaan van een bloeding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huid/weefselbeschadigi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flinke lekkage van wondvoch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infecti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Het infectiegevaar is het grootst bij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r>
              <a:rPr b="0" lang="nl-NL" sz="2400" spc="-1" strike="noStrike">
                <a:solidFill>
                  <a:srgbClr val="003366"/>
                </a:solidFill>
                <a:latin typeface="Arial"/>
              </a:rPr>
              <a:t>de insteekopening van de drain.</a:t>
            </a:r>
            <a:endParaRPr b="0" lang="en-US" sz="2400" spc="-1" strike="noStrike">
              <a:solidFill>
                <a:srgbClr val="003366"/>
              </a:solidFill>
              <a:latin typeface="Arial"/>
            </a:endParaRPr>
          </a:p>
        </p:txBody>
      </p:sp>
      <p:sp>
        <p:nvSpPr>
          <p:cNvPr id="112"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3"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Tipkweek</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Het kan zijn dat er na het verwijderen van  drains ook een tipkweek gedaan moet worden. Dit gebeurt direct na het verwijderen door het uiteinde van de drain af te knippen met een steriele schaar of stitchcutter en dit in een kweekpotje te do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6T15:36:46Z</dcterms:created>
  <dc:creator>Rina</dc:creator>
  <dc:description/>
  <dc:language>en-US</dc:language>
  <cp:lastModifiedBy>Rina Niemeijer</cp:lastModifiedBy>
  <dcterms:modified xsi:type="dcterms:W3CDTF">2018-06-03T15:04:27Z</dcterms:modified>
  <cp:revision>9</cp:revision>
  <dc:subject/>
  <dc:title>De postoperatieve patient</dc:title>
</cp:coreProperties>
</file>