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955B-6179-4569-A33B-42A273DD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1E39-7FE1-4E6A-839C-1625D7C7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6970-3D43-478D-9DA9-FD40FD70F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1EF2-21EA-453B-8313-DE4249BA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4052-6098-4F52-A027-458E0A51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204D-D03C-4889-9706-A21823C4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F5F0-DF7D-49E1-BACD-9B96ECC6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B203-E1E7-4A87-A9BB-BFD88F57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8AE6-D39B-48B2-8BDE-044DCA03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A8CE-557A-4455-B657-37E60C38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F66E-47B0-4391-B69A-1E04989E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83DA-757A-4041-91E0-3DA6EFBD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12ED-0214-4D9C-A08E-D38A7326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9957-0801-417A-9B1B-1C717A90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C881-16EF-4233-8024-A76E3D8E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7827-0575-45B1-9E8D-82F7D978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39FB-F066-4107-9A93-ED5DF5AF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D96A-5937-4039-89E8-78731E5B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B5AB-7F51-4B37-A3BE-082868CC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8C9C-E24D-46C9-AA25-02587B34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5732-F48E-4723-800A-1EF20368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9535-5311-4489-AE8B-94188B0E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2999-1AEE-49EF-9AB2-444A88D0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D862-E722-4CA2-BE2A-33694710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DCA3-AF8E-4404-B0B5-77221FA5FA8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3906-F092-4E74-8AA6-DC2E5C8EEB0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 in buik, boven schaambeen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c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Afbeelding 3" descr="suprapubis.jpg"/>
          <p:cNvPicPr/>
          <p:nvPr/>
        </p:nvPicPr>
        <p:blipFill>
          <a:blip r:embed="rId1"/>
          <a:stretch/>
        </p:blipFill>
        <p:spPr>
          <a:xfrm>
            <a:off x="5219640" y="400536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Katheteriseren 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katheter, die dan verstop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zz09werkbladsupra"/>
          <p:cNvPicPr/>
          <p:nvPr/>
        </p:nvPicPr>
        <p:blipFill>
          <a:blip r:embed="rId1"/>
          <a:stretch/>
        </p:blipFill>
        <p:spPr>
          <a:xfrm>
            <a:off x="1187280" y="900000"/>
            <a:ext cx="66247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Kenmerken verblijfskatheter: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ijft na inbrengen 4-8 weken zitten, Bij een silliconen Kad: 3 maanden intramuraal, 6 maanden extramura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c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nneer breng je een verblijfskatheter in en waaro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/waarom verblijf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ost-operat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12-14T09:22:39Z</dcterms:modified>
  <cp:revision>33</cp:revision>
  <dc:subject/>
  <dc:title>Indeling WCS=</dc:title>
</cp:coreProperties>
</file>