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B30141-FF82-417B-9FFE-1B05CF6ABF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555933-95DD-4234-9491-804900FD44EB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58C841-157B-42E2-8726-380DCB0FECD0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602E99-C434-467B-8BC1-B2758033E828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02784A-B1AC-4746-971B-F5F76C2A8D8C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5E5728-080C-4CDB-AC0A-2DE75744BDE4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47FD1A-40F9-4082-AB42-2028E61C86DD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7D54D3-8244-42E2-A993-F89CAC834074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3BC588-8D43-4E44-A884-F5FAF8B44EA5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13BCCC-C0BE-40A5-901B-034E3ADF86D3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6A70-DF42-41D5-9049-988AD2090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D4BA-03FC-470B-AA54-41F3F22D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BBF3-0B8F-49B9-8D84-C625044EA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85A9-1AD2-431F-8D56-AFCB88B1F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3015-7A64-4B49-9CC2-27B9075A8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06A4-5755-4BC6-B3A9-3DEBD9E7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4D42-A3FC-4A81-A54A-78A159EF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54A9-362B-4587-9BF5-B1D5D2DF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ACF9-4EC8-43E2-9EE0-A5D34D62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7C2F-666C-4232-9F7A-AC109A63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9891-E5B9-4641-9F05-C9FB606F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A3F4-B6A7-4DA9-A3F5-6E530982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E3D1-877C-4956-9B3D-D1B6CA54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A49A-152B-4329-A8D3-5CBD7953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8316-3673-4DEF-AB89-DB02EBE0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73B4-831B-4A92-9A7F-179ECB7B2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ACF3-371F-472A-B0AC-6FF71607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11B01-ABB8-4731-AC28-FA933137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8A1FB-B956-4A36-B2C5-E5B89DAB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5C6B5-ABF2-4F9C-B444-6EBFB477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0D5A4-6DFF-4425-82A0-F2D82D16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46830-80AB-483E-986D-0E135CC3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84B3-A725-471D-9A6E-83E6E7C5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FA35B-EFA7-45B7-ACCD-245D3C82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8AC0F-D7AC-45D6-976F-833BA012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1DF97-5BF3-4781-B057-ECC703E1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82720-0AFA-4230-9E6B-74BDEB29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9420B-2582-46C9-9EA9-1FDBC62F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56F42-9CC6-4162-8230-AF1914BF9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DBD39-FDCC-407E-BEEB-1997E7CE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21683-F2C2-4CB2-BCCD-B1A5F29B8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FBB8D-C612-44D7-A48D-468FC397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06FC3-BFB5-415F-98A2-FD474CFD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5D6F-590F-43EF-8B24-CD06A778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C37B9-8DEC-41C3-9609-A20B2DAF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6249F-9159-4DA9-A3AE-8B3C749B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D45A8-8ACB-4A53-83DF-B4D29172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49D0E-A221-4BCC-B8A2-9D57DACC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3B456-D4B8-4330-A4BB-41643C9F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7ECAF-516A-4AB9-824C-386B1F75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9B161-5454-48E2-9B32-6D17C81D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3FB7A-0D49-47D3-BF80-21B8BFE9E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F67FF-3C48-4B4B-9BBF-9A730B8A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7FC7-9287-4B2B-8B31-0C3D9BFC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EC05-9D7F-45E5-A514-D982130D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0D6C-1659-4BFE-9075-1BB8B866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4C38-9F60-498C-AD8C-A45CF3DF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14E3-020D-478B-B5C3-BA12694C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64CFD3-D78E-4BE0-B1DA-9A4E06BE7E96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1A7648-E03B-4890-9F93-1B87C8F1A757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0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92B165-F3F0-4280-A2CB-D988AFB7FBFB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9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884D29-1FF1-4112-AD75-94C86A444BED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entury Gothic"/>
              </a:rPr>
              <a:t>INTRAMUSCULAIR INJECTEREN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33520" y="3843360"/>
            <a:ext cx="4954320" cy="19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CONTRA INDICATI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eschadigde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ntstoken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matoo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hu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mma amputatie met okselklier verwijder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REGEL VAN 5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835280" y="1599840"/>
            <a:ext cx="6394320" cy="341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naam en geboortedatu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medicijn ( let op vervaldatum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dos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toedieningsvor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tijd en aantal k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TECHNIEK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124000" y="1600200"/>
            <a:ext cx="610560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laats desinfect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k met volle hand spierbund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pier laten ontspan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lot loodrecht inject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ontrole of je niet in bloedvat zit bij I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angzaam in spui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aald vlot erui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PRIKACCIDENT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76000" y="1773360"/>
            <a:ext cx="57596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ooit huls terug op de naal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bruik naaldencontain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tel jezelf op de hoogte, bij de instelling waar je werkt, hoe om te gaan met prikacciden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BEREKENINGEN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1 ml =10 mg Phenerga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7 m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geef je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2 ml = 15 mg Hald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10 m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zuig je op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 1 ml= 5 mg Morfi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12,5 m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zuig je op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187280" y="1600200"/>
            <a:ext cx="704232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=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parenteraal toedienen medicijn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(buiten spijsverteringskanaal om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4" name="Afbeelding 3" descr="injectie.jpg"/>
          <p:cNvPicPr/>
          <p:nvPr/>
        </p:nvPicPr>
        <p:blipFill>
          <a:blip r:embed="rId1"/>
          <a:stretch/>
        </p:blipFill>
        <p:spPr>
          <a:xfrm>
            <a:off x="5867280" y="1125360"/>
            <a:ext cx="214308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00000" y="1600200"/>
            <a:ext cx="7329600" cy="398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Wet BIG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jecteren is een voorbehouden handeling…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Wat houdt dit in?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an welke 4 voorwaarden moet voldaan worden als verpleegkundige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Deskundigheid: voldoende schol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Bekwaamheid: ervar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Opdrach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Mogelijke tussenkomst van huisarts/ar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REDENEN OM TE 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11280" y="1599840"/>
            <a:ext cx="7618320" cy="31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nel (meteen) resulta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ijn onwerkzaam wordt gemaakt door één van de spijsverteringssapp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rale medicatie niet kan worden in genom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tiënt geen orale medicatie wil innem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atie alleen in injectievorm verkrijgbaa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277560"/>
            <a:ext cx="7834320" cy="53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4 verschillende manieren van injecteren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cutaan (i.c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ubcutaan (s.c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musculair (i.m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veneus (i.v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3" name="Picture 8" descr="SC_45_90_graden"/>
          <p:cNvPicPr/>
          <p:nvPr/>
        </p:nvPicPr>
        <p:blipFill>
          <a:blip r:embed="rId1"/>
          <a:stretch/>
        </p:blipFill>
        <p:spPr>
          <a:xfrm>
            <a:off x="4114800" y="2637000"/>
            <a:ext cx="43210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IE PLAATS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5280" y="279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te bilspier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glutaeus maxim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ot, goed doorbloed, grote hoeveelheid toedie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ovenste, buitenste bilkwadra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mzeilt zenuwba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5796000" y="7556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DIJBEEN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rectus femor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ovenbeen in 3-en verdelen: middelste deel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ie Vilans protoc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BOVENARM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deltoïde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oor kleinere hv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v. Griepprik, vaccinat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5364000" y="981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Rina Niemeijer</cp:lastModifiedBy>
  <dcterms:modified xsi:type="dcterms:W3CDTF">2018-02-13T07:29:54Z</dcterms:modified>
  <cp:revision>26</cp:revision>
  <dc:subject/>
  <dc:title>Wet BIG</dc:title>
</cp:coreProperties>
</file>