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E367-74C5-49AC-B25F-A17A62AA7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503A-CA07-4E4C-AADF-38BA294C6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9365-E54B-4C71-8C10-50EAA0EBD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33D7-FF19-485B-83F3-A9C885159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10D2F-E3F8-45C6-8040-8BB315191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A8CC6-2CFD-4AFD-BCF3-D9B4B9702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EF2C3-351E-4386-AEE8-8270D5958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FF355-C087-4762-A6D9-FD669C350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08272-9985-4A04-9774-39A95CF6B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5D984-2885-4509-A0B6-A318D7083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B2D97-D193-431D-9241-487E35582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2062-9340-40CA-94BE-28C0D21F1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F0683-0519-4BD8-8680-5B3692437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575CD-C5B2-4605-B0D5-EB1A9AE1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1B1D8-4B08-4024-BFDF-976CE9235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04DF1-C9EB-4738-9925-B95D119C0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ABDD0-6708-4A76-AAC0-A39361F71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8D40A-4BE8-46B3-A7CD-B007FA47F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337CF-4109-4A1E-9471-BF7E01D02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55B7F-C03F-4B58-9F89-49F26428B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3E281-3A8A-48F3-B10A-14DCF4DCB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BBBED-1032-4E86-9BD3-36B4E2060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3B8B-8AC6-426C-A59D-8F5A929CE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FA687-0507-43B3-A97D-89BE62E6E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68078-9C3F-49E6-AA6E-DF03342C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6340E-8B24-4ACA-ACA4-D48C0C2A6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9E827-168A-4E38-A972-8E43909D7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227B2-DB78-4FDD-A6EB-757C787AF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CF60F-17BD-40A8-A205-F07CE49AB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72D34-3BD5-4DF3-B533-77DB7F873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01879-7E19-400F-BF15-E539790E3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7613E-EE02-40DB-AC32-34FEE6AA1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3173B-E024-4272-8460-3FB272F21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400F-C521-4278-8000-A9BA989EC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A3C2E-3677-438B-8E74-DC42F2B7F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DB74E-71C2-4990-AF5C-B4FAD5E04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46C98-9EAB-4D94-9549-51EBE06C8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AADFF-FF27-46EE-A0C8-36058D31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297B5-0CFC-47EC-9E62-88EAF644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C2566-5F70-4AFB-BE6A-37DFC2A6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3454F-8962-44A1-B2A3-AB1E7A847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421C3-0B66-4C4B-87D8-4246A6844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248D5-6252-4EAC-968B-9F1D56BF2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0C75-5A94-4DF8-BFA2-32B067290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D702-08C4-4841-9D6E-21899A6FE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E7AC-D75B-41DC-83D6-A7474C2A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2D5D-8BDC-4D87-87F3-64A1F8811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6029-F853-4A0B-AD6B-4E07DD65E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F35347-E1B4-4819-BB16-79BA8D92F477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eb3d9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05730F-D4FF-48A1-8795-01F7AA7183D1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FC22CD-8038-442E-BC1D-DD4BFDE6FCA1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4030C1-F5D4-4AFA-A3C8-854D8C4E9CFB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30400" y="2404800"/>
            <a:ext cx="582768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eb3d9f"/>
                </a:solidFill>
                <a:latin typeface="Trebuchet MS"/>
              </a:rPr>
              <a:t>Sonde inbrengen </a:t>
            </a:r>
            <a:endParaRPr b="0" lang="en-US" sz="54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130400" y="4051080"/>
            <a:ext cx="582768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1800" spc="-1" strike="noStrike">
              <a:solidFill>
                <a:srgbClr val="7f7f7f"/>
              </a:solidFill>
              <a:latin typeface="Trebuchet MS"/>
            </a:endParaRPr>
          </a:p>
        </p:txBody>
      </p:sp>
      <p:pic>
        <p:nvPicPr>
          <p:cNvPr id="214" name="Picture 4" descr=""/>
          <p:cNvPicPr/>
          <p:nvPr/>
        </p:nvPicPr>
        <p:blipFill>
          <a:blip r:embed="rId1"/>
          <a:stretch/>
        </p:blipFill>
        <p:spPr>
          <a:xfrm>
            <a:off x="5364000" y="330120"/>
            <a:ext cx="142416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Kans dat sonde niet op juiste plaats zit of blijft zitten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oor opboeren, braken, hoesten kan sonde verplaats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404040"/>
                </a:solidFill>
                <a:uFillTx/>
                <a:latin typeface="Trebuchet MS"/>
              </a:rPr>
              <a:t>Actie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oor elke voeding aansluiting sonde control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-   Lucht in maag spui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Lakmoespapiertje(PH meting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Actieknop: Terug of Vorige 3">
            <a:hlinkClick r:id="rId1" action="ppaction://hlinksldjump"/>
          </p:cNvPr>
          <p:cNvSpPr/>
          <p:nvPr/>
        </p:nvSpPr>
        <p:spPr>
          <a:xfrm>
            <a:off x="1187280" y="5732640"/>
            <a:ext cx="682920" cy="504720"/>
          </a:xfrm>
          <a:custGeom>
            <a:avLst/>
            <a:gdLst>
              <a:gd name="textAreaLeft" fmla="*/ 32400 w 682920"/>
              <a:gd name="textAreaRight" fmla="*/ 650520 w 6829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9221" h="21600">
                <a:moveTo>
                  <a:pt x="0" y="0"/>
                </a:moveTo>
                <a:lnTo>
                  <a:pt x="29221" y="0"/>
                </a:lnTo>
                <a:lnTo>
                  <a:pt x="29221" y="21600"/>
                </a:lnTo>
                <a:lnTo>
                  <a:pt x="0" y="21600"/>
                </a:lnTo>
                <a:close/>
              </a:path>
              <a:path fill="lightenLess" w="29221" h="21600">
                <a:moveTo>
                  <a:pt x="0" y="0"/>
                </a:moveTo>
                <a:lnTo>
                  <a:pt x="29221" y="0"/>
                </a:lnTo>
                <a:lnTo>
                  <a:pt x="27821" y="1400"/>
                </a:lnTo>
                <a:lnTo>
                  <a:pt x="1400" y="1400"/>
                </a:lnTo>
                <a:close/>
              </a:path>
              <a:path fill="darken" w="29221" h="21600">
                <a:moveTo>
                  <a:pt x="29221" y="0"/>
                </a:moveTo>
                <a:lnTo>
                  <a:pt x="29221" y="21600"/>
                </a:lnTo>
                <a:lnTo>
                  <a:pt x="27821" y="20200"/>
                </a:lnTo>
                <a:lnTo>
                  <a:pt x="27821" y="1400"/>
                </a:lnTo>
                <a:close/>
              </a:path>
              <a:path fill="darkenLess" w="29221" h="21600">
                <a:moveTo>
                  <a:pt x="292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21" y="20200"/>
                </a:lnTo>
                <a:close/>
              </a:path>
              <a:path fill="lighten" w="292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21" h="21600">
                <a:moveTo>
                  <a:pt x="7604" y="10800"/>
                </a:moveTo>
                <a:lnTo>
                  <a:pt x="21617" y="3794"/>
                </a:lnTo>
                <a:lnTo>
                  <a:pt x="21617" y="17806"/>
                </a:lnTo>
                <a:close/>
              </a:path>
            </a:pathLst>
          </a:custGeom>
          <a:solidFill>
            <a:srgbClr val="f496cb"/>
          </a:solidFill>
          <a:ln cap="rnd" w="19080">
            <a:solidFill>
              <a:srgbClr val="b36d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Kans op verstopping van sonde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oeding koekt aan in de son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404040"/>
                </a:solidFill>
                <a:uFillTx/>
                <a:latin typeface="Trebuchet MS"/>
              </a:rPr>
              <a:t>Actie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tart en eindigen met 20 ml lauw wat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inimaal 6x per dag sonde doorspoel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" name="Actieknop: Terug of Vorige 3">
            <a:hlinkClick r:id="rId1" action="ppaction://hlinksldjump"/>
          </p:cNvPr>
          <p:cNvSpPr/>
          <p:nvPr/>
        </p:nvSpPr>
        <p:spPr>
          <a:xfrm>
            <a:off x="971640" y="4221000"/>
            <a:ext cx="610920" cy="503280"/>
          </a:xfrm>
          <a:custGeom>
            <a:avLst/>
            <a:gdLst>
              <a:gd name="textAreaLeft" fmla="*/ 32400 w 610920"/>
              <a:gd name="textAreaRight" fmla="*/ 578520 w 61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6216" h="21600">
                <a:moveTo>
                  <a:pt x="0" y="0"/>
                </a:moveTo>
                <a:lnTo>
                  <a:pt x="26216" y="0"/>
                </a:lnTo>
                <a:lnTo>
                  <a:pt x="26216" y="21600"/>
                </a:lnTo>
                <a:lnTo>
                  <a:pt x="0" y="21600"/>
                </a:lnTo>
                <a:close/>
              </a:path>
              <a:path fill="lightenLess" w="26216" h="21600">
                <a:moveTo>
                  <a:pt x="0" y="0"/>
                </a:moveTo>
                <a:lnTo>
                  <a:pt x="26216" y="0"/>
                </a:lnTo>
                <a:lnTo>
                  <a:pt x="24816" y="1400"/>
                </a:lnTo>
                <a:lnTo>
                  <a:pt x="1400" y="1400"/>
                </a:lnTo>
                <a:close/>
              </a:path>
              <a:path fill="darken" w="26216" h="21600">
                <a:moveTo>
                  <a:pt x="26216" y="0"/>
                </a:moveTo>
                <a:lnTo>
                  <a:pt x="26216" y="21600"/>
                </a:lnTo>
                <a:lnTo>
                  <a:pt x="24816" y="20200"/>
                </a:lnTo>
                <a:lnTo>
                  <a:pt x="24816" y="1400"/>
                </a:lnTo>
                <a:close/>
              </a:path>
              <a:path fill="darkenLess" w="26216" h="21600">
                <a:moveTo>
                  <a:pt x="262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16" y="20200"/>
                </a:lnTo>
                <a:close/>
              </a:path>
              <a:path fill="lighten" w="262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16" h="21600">
                <a:moveTo>
                  <a:pt x="6102" y="10800"/>
                </a:moveTo>
                <a:lnTo>
                  <a:pt x="20115" y="3794"/>
                </a:lnTo>
                <a:lnTo>
                  <a:pt x="20115" y="17806"/>
                </a:lnTo>
                <a:close/>
              </a:path>
            </a:pathLst>
          </a:custGeom>
          <a:solidFill>
            <a:srgbClr val="f496cb"/>
          </a:solidFill>
          <a:ln cap="rnd" w="19080">
            <a:solidFill>
              <a:srgbClr val="b36d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Verzorgen van PEG/PEJ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404040"/>
                </a:solidFill>
                <a:uFillTx/>
                <a:latin typeface="Trebuchet MS"/>
              </a:rPr>
              <a:t>Pas aangelegd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: extra hygiën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Randen fistel genez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esinfect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x per dag draai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tadine jodiu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teriele splitgaa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404040"/>
                </a:solidFill>
                <a:uFillTx/>
                <a:latin typeface="Trebuchet MS"/>
              </a:rPr>
              <a:t>Na 6 weken: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Reinigen water zeep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teriele splitgaa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x per dag draai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0" name="Afbeelding 3" descr="PEG.bmp"/>
          <p:cNvPicPr/>
          <p:nvPr/>
        </p:nvPicPr>
        <p:blipFill>
          <a:blip r:embed="rId1"/>
          <a:stretch/>
        </p:blipFill>
        <p:spPr>
          <a:xfrm>
            <a:off x="6084720" y="1052640"/>
            <a:ext cx="2735280" cy="2523960"/>
          </a:xfrm>
          <a:prstGeom prst="rect">
            <a:avLst/>
          </a:prstGeom>
          <a:ln w="0">
            <a:noFill/>
          </a:ln>
        </p:spPr>
      </p:pic>
      <p:pic>
        <p:nvPicPr>
          <p:cNvPr id="241" name="Afbeelding 6" descr="peg 2.jpg"/>
          <p:cNvPicPr/>
          <p:nvPr/>
        </p:nvPicPr>
        <p:blipFill>
          <a:blip r:embed="rId2"/>
          <a:stretch/>
        </p:blipFill>
        <p:spPr>
          <a:xfrm>
            <a:off x="5651640" y="3789360"/>
            <a:ext cx="321444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Mickey button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pic>
        <p:nvPicPr>
          <p:cNvPr id="243" name="Tijdelijke aanduiding voor inhoud 3" descr="Mickey sonde.bmp"/>
          <p:cNvPicPr/>
          <p:nvPr/>
        </p:nvPicPr>
        <p:blipFill>
          <a:blip r:embed="rId1"/>
          <a:stretch/>
        </p:blipFill>
        <p:spPr>
          <a:xfrm>
            <a:off x="611280" y="1341360"/>
            <a:ext cx="4330440" cy="3241800"/>
          </a:xfrm>
          <a:prstGeom prst="rect">
            <a:avLst/>
          </a:prstGeom>
          <a:ln w="0">
            <a:noFill/>
          </a:ln>
        </p:spPr>
      </p:pic>
      <p:pic>
        <p:nvPicPr>
          <p:cNvPr id="244" name="Afbeelding 4" descr="mickey sonde 1.bmp"/>
          <p:cNvPicPr/>
          <p:nvPr/>
        </p:nvPicPr>
        <p:blipFill>
          <a:blip r:embed="rId2"/>
          <a:stretch/>
        </p:blipFill>
        <p:spPr>
          <a:xfrm>
            <a:off x="5292720" y="3444840"/>
            <a:ext cx="3643200" cy="3218040"/>
          </a:xfrm>
          <a:prstGeom prst="rect">
            <a:avLst/>
          </a:prstGeom>
          <a:ln w="0">
            <a:noFill/>
          </a:ln>
        </p:spPr>
      </p:pic>
      <p:pic>
        <p:nvPicPr>
          <p:cNvPr id="245" name="Afbeelding 5" descr="mickey sonde 2.jpg"/>
          <p:cNvPicPr/>
          <p:nvPr/>
        </p:nvPicPr>
        <p:blipFill>
          <a:blip r:embed="rId3"/>
          <a:stretch/>
        </p:blipFill>
        <p:spPr>
          <a:xfrm>
            <a:off x="5796000" y="1268280"/>
            <a:ext cx="213372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Berekenen hoeveelheid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 ml = 20 druppel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hoeveelheid ml SV x druppels per ml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------------------------------------------= aantal druppels/mi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aantal uren SV gegeven x 60 min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Opdracht: arts spreekt af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2 liter sondevoeding per 24 uu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Wat is de druppelsnelheid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2 lt = 2000  m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 ml = 20 druppel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 u="sng">
                <a:solidFill>
                  <a:srgbClr val="404040"/>
                </a:solidFill>
                <a:uFillTx/>
                <a:latin typeface="Trebuchet MS"/>
              </a:rPr>
              <a:t>2000 x 20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= </a:t>
            </a:r>
            <a:r>
              <a:rPr b="0" lang="nl-NL" sz="2400" spc="-1" strike="noStrike" u="sng">
                <a:solidFill>
                  <a:srgbClr val="404040"/>
                </a:solidFill>
                <a:uFillTx/>
                <a:latin typeface="Trebuchet MS"/>
              </a:rPr>
              <a:t>40000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= 28 druppels per minuut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24 x 60            1440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Arts spreekt af: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 liter in 8 uur (alleen ‘s nachts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 lt = 1000 m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 ml = 20 druppel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 u="sng">
                <a:solidFill>
                  <a:srgbClr val="404040"/>
                </a:solidFill>
                <a:uFillTx/>
                <a:latin typeface="Trebuchet MS"/>
              </a:rPr>
              <a:t>1000 x 20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= </a:t>
            </a:r>
            <a:r>
              <a:rPr b="0" lang="nl-NL" sz="2400" spc="-1" strike="noStrike" u="sng">
                <a:solidFill>
                  <a:srgbClr val="404040"/>
                </a:solidFill>
                <a:uFillTx/>
                <a:latin typeface="Trebuchet MS"/>
              </a:rPr>
              <a:t>20000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= 41 druppels per minuu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8 x 60           480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Opdracht: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120" y="1700280"/>
            <a:ext cx="6626520" cy="43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Zoek een filmpje op het internet waar een sonde wordt ingebrach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kijk dit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Pak nu het protocol van Vilans erbij en leg dit ernaa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Wordt het protocol nauwgezet gevolgd? Zoek de overeenkomsten en de verschillen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Vragen?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Wat is sondevoeding?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loeibare voeding die geven wordt via kunstmatige verbinding met de maag/duodenum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- voed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- voch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- medicijn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Manieren van sondevoeding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Neus maagsonde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PEG (percutane endoscopische gastrostomie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PEJ (percutane endoscopische jejunostomie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olus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Continue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pui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ysteem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500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500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Wanneer sondevoeding geven?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26920" y="2276280"/>
            <a:ext cx="806616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reigende ondervoeding met een goed functionerend maagdarmkanaa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anvulling op diee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andoeningen: slikken/kauwen, slokdarm, maag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erminderde eetlu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lechte lichamelijke condi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Langdurig voedselweigering (kind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Het inbrengen van een voedingssonde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eest gebruikte: neus-maagson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oor behouden handel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ij langdurige sonde voeding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PEG= Percutane Endoscopische Gastronom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   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oor medische ingreep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erwisseling mag door Verpleegkundig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Neus-maag sonde inbrengen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ikte van de sonde: Uitgedrukt in: charriere= CH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Comfort ZV&gt; zo dun mogelijke son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Lengte van de sonde bepalen(neus-maag): volgens NEX Methode(pg 205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eb3d9f"/>
                </a:solidFill>
                <a:latin typeface="Trebuchet MS"/>
              </a:rPr>
              <a:t>Aandachtspunten: voorbereiding en werkwijze ZV</a:t>
            </a:r>
            <a:endParaRPr b="0" lang="en-US" sz="32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Zorgvrager informeren over waarom en de werkwijze inbrengen van de son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andacht voor ang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ttentie hou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nde nat (warm water)inbren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nde controleren op maagreten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nde bevesti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Nazorg ZV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Gegevens vastleg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eb3d9f"/>
                </a:solidFill>
                <a:latin typeface="Trebuchet MS"/>
              </a:rPr>
              <a:t>Observatiepunten (tijdens inbrengen)</a:t>
            </a:r>
            <a:endParaRPr b="0" lang="en-US" sz="24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nauwdheid en hoes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nde wil niet verd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Geen maagretentie krij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nde kan opgerold komen te liggen in de keel tijdens inbrengen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eb3d9f"/>
                </a:solidFill>
                <a:latin typeface="Trebuchet MS"/>
              </a:rPr>
              <a:t>Complicatie: Kans op decubitus</a:t>
            </a:r>
            <a:endParaRPr b="0" lang="en-US" sz="28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nde zit te strak tegen neusvleug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404040"/>
                </a:solidFill>
                <a:uFillTx/>
                <a:latin typeface="Trebuchet MS"/>
              </a:rPr>
              <a:t>Actie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Elke dag controle/ observa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Elke dag pleister verschon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Pleister op juiste wijze plakk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Actieknop: Terug of Vorige 3">
            <a:hlinkClick r:id="rId1" action="ppaction://hlinksldjump"/>
          </p:cNvPr>
          <p:cNvSpPr/>
          <p:nvPr/>
        </p:nvSpPr>
        <p:spPr>
          <a:xfrm>
            <a:off x="1258920" y="4941720"/>
            <a:ext cx="611280" cy="503280"/>
          </a:xfrm>
          <a:custGeom>
            <a:avLst/>
            <a:gdLst>
              <a:gd name="textAreaLeft" fmla="*/ 32400 w 611280"/>
              <a:gd name="textAreaRight" fmla="*/ 578880 w 611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6232" h="21600">
                <a:moveTo>
                  <a:pt x="0" y="0"/>
                </a:moveTo>
                <a:lnTo>
                  <a:pt x="26232" y="0"/>
                </a:lnTo>
                <a:lnTo>
                  <a:pt x="26232" y="21600"/>
                </a:lnTo>
                <a:lnTo>
                  <a:pt x="0" y="21600"/>
                </a:lnTo>
                <a:close/>
              </a:path>
              <a:path fill="lightenLess" w="26232" h="21600">
                <a:moveTo>
                  <a:pt x="0" y="0"/>
                </a:moveTo>
                <a:lnTo>
                  <a:pt x="26232" y="0"/>
                </a:lnTo>
                <a:lnTo>
                  <a:pt x="24832" y="1400"/>
                </a:lnTo>
                <a:lnTo>
                  <a:pt x="1400" y="1400"/>
                </a:lnTo>
                <a:close/>
              </a:path>
              <a:path fill="darken" w="26232" h="21600">
                <a:moveTo>
                  <a:pt x="26232" y="0"/>
                </a:moveTo>
                <a:lnTo>
                  <a:pt x="26232" y="21600"/>
                </a:lnTo>
                <a:lnTo>
                  <a:pt x="24832" y="20200"/>
                </a:lnTo>
                <a:lnTo>
                  <a:pt x="24832" y="1400"/>
                </a:lnTo>
                <a:close/>
              </a:path>
              <a:path fill="darkenLess" w="26232" h="21600">
                <a:moveTo>
                  <a:pt x="262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32" y="20200"/>
                </a:lnTo>
                <a:close/>
              </a:path>
              <a:path fill="lighten" w="262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32" h="21600">
                <a:moveTo>
                  <a:pt x="6109" y="10800"/>
                </a:moveTo>
                <a:lnTo>
                  <a:pt x="20122" y="3794"/>
                </a:lnTo>
                <a:lnTo>
                  <a:pt x="20122" y="17806"/>
                </a:lnTo>
                <a:close/>
              </a:path>
            </a:pathLst>
          </a:custGeom>
          <a:solidFill>
            <a:srgbClr val="f496cb"/>
          </a:solidFill>
          <a:ln cap="rnd" w="19080">
            <a:solidFill>
              <a:srgbClr val="b36d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" dur="5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. Scheltens-Flink</dc:creator>
  <dc:description/>
  <dc:language>en-US</dc:language>
  <cp:lastModifiedBy>Rina Niemeijer</cp:lastModifiedBy>
  <dcterms:modified xsi:type="dcterms:W3CDTF">2018-02-20T11:27:12Z</dcterms:modified>
  <cp:revision>23</cp:revision>
  <dc:subject/>
  <dc:title>Sondevoeding</dc:title>
</cp:coreProperties>
</file>