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B05D86-EB49-4613-B4E8-32ABA0FF13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485599-6E27-42C5-BACC-86FF727DC2A7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8E7D6A-6758-479D-8576-0BB414305617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6C47E5-A372-40DF-A1FC-351705C10023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1B78AB-E52E-4200-A103-409F32B370F8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762EFB-C1EA-41F8-88C8-B41A89F723F4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0116F0-7727-4658-8783-A211BBD00BA5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45D6DB-AFD3-4E41-B9D7-2C0A06E4A4A8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30147C-F8D6-447E-AF18-CE0D9DFFE79E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9F6928-7238-402E-A06F-A8214FD692F8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B4AE-FDEB-42CB-B26C-05904DC12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16E4-83BC-4562-95EA-EBE38EDB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8CA8-2698-4EFB-B737-3566C603F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F962-7B4D-4308-AD94-1CDDFCAE2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7FA4-1FCB-4B32-8373-CE008E85F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571C-FDD8-4B80-BA9A-FF1A350D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6619-2A5C-457B-BC68-74EAD08C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9DEC-03EB-4B8A-AC97-18A7E68F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5E8F-646D-4E48-82E6-215849F5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A3EB-B944-43B3-9A3F-207E0FBE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4B16-B8C6-4F81-9B85-D3729C27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0E8C-8DA2-4FAC-B646-EC301F4A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C087-0CC1-4D4D-BE5E-D18A4ACF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C00B-B600-4D07-A4E9-F692F9BD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F667-3AA8-4D58-833A-49C12BCA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872E-AC29-40AF-8DF6-AEFDAC3D9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575E-DC7D-4565-A464-284CBCCB2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1F4C3-5ED7-42F2-9119-BC6AE8493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F93C4-8AC7-4312-A092-078EBF15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3114B-7BE0-4F34-8AE5-B412D435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64F88-EC9E-45A4-AED2-8EAF0533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D5E61-079D-4E47-B06A-5962E408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B3C7-FA5E-4FEC-9B6E-85F22CE5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80CD3-1D6A-41CD-8311-B47851EF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F9503-0086-4A0D-B037-23E1FFF1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7431D-C52E-47A8-8020-9586695D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38547-2C08-40D4-A49C-E0BF90B9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CFF89-2F0F-4556-AC5D-D9F5E169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043BB-FB35-4F86-A6A7-56F1D0367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E75B1-733B-490F-9D2B-664A02609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5CB86-B1DD-4B9D-862B-A8FBD2CA9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A6326-4EA9-4F2D-B51A-0188F6C1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B748A-58D4-4F5C-ACDB-2EEC33EE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CCD0-4285-4A0A-BA3B-A5E3D059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EA6C9-5730-4912-97C8-BCA3B700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2D506-67FF-4A17-BF65-DA5C57EF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FCCF6-2909-445B-AAD2-8299E790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0B484-CC61-4B7A-B0B9-404E2FB4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952BB-8F1B-4A2D-A7F7-163F3984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C68F3-79DD-4253-AED2-473511EE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36C30-882B-4920-9AEC-45E3AD41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E807B-605F-46CF-B1F0-F118F573E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DD86E-1E1A-4755-A648-609F4871E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44A9-4FED-4436-9090-1765F754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5967-6AD0-4FB8-9672-FDE5D00E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38CB-4572-431D-B7A9-4748BF26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BB15-132C-4EFB-9569-51E5D517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EBF9-7E27-4C86-803D-ABFE9707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65FC57-39FF-4EA5-9352-7793862566C6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488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8920"/>
              <a:ext cx="4815000" cy="48153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160"/>
              <a:ext cx="3912480" cy="391248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9760" cy="383976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440" y="177012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4B640B-D8D1-4C09-8E99-EA10DD4BAE60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00" name="TextBox 13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TextBox 14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861574-A869-44EF-990D-C6CF602EB9EA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49" name="TextBox 13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TextBox 14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0F962D-8AA3-4EB7-A7A4-C6E36092B08B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entury Gothic"/>
              </a:rPr>
              <a:t>INTRAMUSCULAIR INJECTEREN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33520" y="3843360"/>
            <a:ext cx="4954320" cy="191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2225520" y="2968560"/>
            <a:ext cx="44197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CONTRA INDICATI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eschadigde hui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ntstoken hui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matoo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hu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amma amputatie met okselklier verwijder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REGEL VAN 5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835280" y="1599840"/>
            <a:ext cx="6394320" cy="341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naam en geboortedatu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medicijn ( let op vervaldatum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dos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toedieningsvor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tijd en aantal k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TECHNIEK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124000" y="1600200"/>
            <a:ext cx="6105600" cy="377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laats desinfect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ak met volle hand spierbund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pier laten ontspan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lot loodrecht inject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Controle of je niet in bloedvat zit bij I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angzaam in spui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aald vlot erui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PRIKACCIDENT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76000" y="1773360"/>
            <a:ext cx="57596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ooit huls terug op de naal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bruik naaldencontain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tel jezelf op de hoogte, bij de instelling waar je werkt, hoe om te gaan met prikacciden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BEREKENINGEN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1 ml =10 mg Phenerga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7 mg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geef je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2 ml = 15 mg Haldo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10 mg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zuig je op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 1 ml= 5 mg Morfin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12,5 m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zuig je op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187280" y="1600200"/>
            <a:ext cx="7042320" cy="377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= </a:t>
            </a: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parenteraal toedienen medicijn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(buiten spijsverteringskanaal om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4" name="Afbeelding 3" descr="injectie.jpg"/>
          <p:cNvPicPr/>
          <p:nvPr/>
        </p:nvPicPr>
        <p:blipFill>
          <a:blip r:embed="rId1"/>
          <a:stretch/>
        </p:blipFill>
        <p:spPr>
          <a:xfrm>
            <a:off x="5867280" y="1125360"/>
            <a:ext cx="2143080" cy="16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900000" y="1600200"/>
            <a:ext cx="7329600" cy="398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Wet BIG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jecteren is een voorbehouden handeling…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Wat houdt dit in?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an welke 4 voorwaarden moet voldaan worden als verpleegkundige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Deskundigheid: voldoende schol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Bekwaamheid: ervar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Opdrach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Mogelijke tussenkomst van huisarts/ar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REDENEN OM TE 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11280" y="1599840"/>
            <a:ext cx="7618320" cy="31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nel (meteen) resulta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dicijn onwerkzaam wordt gemaakt door één van de spijsverteringssapp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rale medicatie niet kan worden in genom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atiënt geen orale medicatie wil innem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dicatie alleen in injectievorm verkrijgbaa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277560"/>
            <a:ext cx="7834320" cy="538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4 verschillende manieren van injecteren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cutaan (i.c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ubcutaan (s.c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musculair (i.m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veneus (i.v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3" name="Picture 8" descr="SC_45_90_graden"/>
          <p:cNvPicPr/>
          <p:nvPr/>
        </p:nvPicPr>
        <p:blipFill>
          <a:blip r:embed="rId1"/>
          <a:stretch/>
        </p:blipFill>
        <p:spPr>
          <a:xfrm>
            <a:off x="4114800" y="2637000"/>
            <a:ext cx="43210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IE PLAATS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95280" y="279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rote bilspier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glutaeus maximu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root, goed doorbloed, grote hoeveelheid toedie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ovenste, buitenste bilkwadra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mzeilt zenuwba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5796000" y="755640"/>
            <a:ext cx="264780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DIJBEEN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rectus femor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ovenbeen in 3-en verdelen: middelste deel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Zie Vilans protoco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BOVENARM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deltoïdeu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oor kleinere hvh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v. Griepprik, vaccinati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5364000" y="981000"/>
            <a:ext cx="26575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5:47Z</dcterms:created>
  <dc:creator>Rhea</dc:creator>
  <dc:description/>
  <dc:language>en-US</dc:language>
  <cp:lastModifiedBy>Rina Niemeijer</cp:lastModifiedBy>
  <dcterms:modified xsi:type="dcterms:W3CDTF">2018-02-13T07:29:54Z</dcterms:modified>
  <cp:revision>26</cp:revision>
  <dc:subject/>
  <dc:title>Wet BIG</dc:title>
</cp:coreProperties>
</file>