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25CA6-0277-423A-8494-8C94A307F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D538B-EF61-434F-BBBD-C31F044DA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325B2-74FD-48B2-AFE6-31325045F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1EBE1-E02C-4EF4-8DF1-CF3166EFB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0CC3F-B600-470C-B8E7-C6610FA37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D4222-F7F9-4649-B8CE-72E127025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E2474-D4B3-44B0-A501-0DFE46F64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B842E-5929-4B66-AB54-6A5F8ED21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FE52E-E23A-4821-B76D-9268DCA52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BE442-4F31-4FF0-A9E9-15F753AB6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874FF-CF58-43B8-B155-EF13FFF1C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A0F39-519C-4810-9AFB-1FB4D5C71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774F6-6FA7-4B29-86F3-6635830A3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CE3EB-A1B1-46FE-A40A-9C408CF76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0BF01-71E8-42C7-8453-719E956C6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FBB71-0116-42EB-BCBD-4A07CD2E5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03903-C025-4C93-88E1-C92EF48D7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4F590A-F825-475A-98A6-3FEA31E06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C27891-AC95-4FAC-AB3F-3EBAA536F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BBAB93-A051-474C-814E-3A09AFB2F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886FB1-997A-4F6C-B951-B9F3656BE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D53537-36EC-4D33-BCA3-35D569DD6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035B3-9A78-48B6-A984-8AC7E32E3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E9B2E1-6834-461E-9CC7-E443B7703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504094-C843-4753-945C-45232E4BA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2C4C18-D72E-4F7D-8096-107E75F5F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FD2623-DB2F-4A6B-8739-1383F5CB2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E4171C-2C06-413D-AEC5-1A1C813FB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171A62-9F28-4CAE-BFB7-F1A1BD889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4DE693-8F76-4EAF-AF7E-A0DC2A99B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402844-421E-468C-8A6B-D86784451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25D0A3-C9FF-461C-903C-ED16B91A7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BF2734-06A5-49F5-A218-5E66EB57F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EF6EE-5C3E-4BAD-B96F-6F4C86E48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4FBBB5-890E-4C1F-A344-BA987BC52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6D1599-A56B-44FB-85BB-1BCF9A830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565007-381A-4414-ABD1-63FD1A750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DA8A7C-FE4D-4B09-A79D-9FB15D8EB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F07EB4-38A6-445E-90EA-E3AA51491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A19EB0-87AE-47A7-89E8-6856941AE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723E12-E4D9-4D64-B2E5-C2702F834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996EAE-5473-444E-807E-F2D55B06B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4FD0B4-784B-476F-AAD1-959640C6D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CB155-89ED-498F-975C-A779A08D8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EE6C5-D735-4A57-92D1-BA62E2959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9D79B-EEBC-4FE8-87F4-CEB63EEC9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226CC-BCE1-43BE-8D36-69B239121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5888F-49DF-446F-A024-E325ADC09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1" name="Straight Connector 6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" name="Freeform 8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b3d9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BDCA4B-59E4-4D9F-8C3D-A0578BA404E6}" type="slidenum">
              <a:rPr b="0" lang="nl-NL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53" name="Straight Connector 27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4" name="Straight Connector 28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5" name="Freeform 29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6" name="Freeform 30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7" name="Freeform 3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8" name="Freeform 3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9" name="Freeform 3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0" name="Freeform 34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1" name="Freeform 35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2" name="Freeform 17"/>
            <p:cNvSpPr/>
            <p:nvPr/>
          </p:nvSpPr>
          <p:spPr>
            <a:xfrm>
              <a:off x="-7920" y="-7920"/>
              <a:ext cx="863280" cy="569772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eb3d9f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50812A-5196-42A0-80CB-F95F186626DE}" type="slidenum">
              <a:rPr b="0" lang="nl-NL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105" name="Straight Connector 6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7" name="Freeform 8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b3d9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5" name="TextBox 23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496cb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TextBox 24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496cb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834A73-D87D-4F75-88D7-E86412287805}" type="slidenum">
              <a:rPr b="0" lang="nl-NL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159" name="Straight Connector 6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1" name="Freeform 8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b3d9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TextBox 23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496cb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TextBox 24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496cb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65066D9-0F35-402D-81D6-D0A8B43D7158}" type="slidenum">
              <a:rPr b="0" lang="nl-NL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30400" y="2404800"/>
            <a:ext cx="5827680" cy="164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5400" spc="-1" strike="noStrike">
                <a:solidFill>
                  <a:srgbClr val="eb3d9f"/>
                </a:solidFill>
                <a:latin typeface="Trebuchet MS"/>
              </a:rPr>
              <a:t>Sonde inbrengen </a:t>
            </a:r>
            <a:endParaRPr b="0" lang="en-US" sz="54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130400" y="4051080"/>
            <a:ext cx="582768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nl-NL" sz="1800" spc="-1" strike="noStrike">
              <a:solidFill>
                <a:srgbClr val="7f7f7f"/>
              </a:solidFill>
              <a:latin typeface="Trebuchet MS"/>
            </a:endParaRPr>
          </a:p>
        </p:txBody>
      </p:sp>
      <p:pic>
        <p:nvPicPr>
          <p:cNvPr id="214" name="Picture 4" descr=""/>
          <p:cNvPicPr/>
          <p:nvPr/>
        </p:nvPicPr>
        <p:blipFill>
          <a:blip r:embed="rId1"/>
          <a:stretch/>
        </p:blipFill>
        <p:spPr>
          <a:xfrm>
            <a:off x="5364000" y="330120"/>
            <a:ext cx="1424160" cy="25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Kans dat sonde niet op juiste plaats zit of blijft zitten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Door opboeren, braken, hoesten kan sonde verplaats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 u="sng">
                <a:solidFill>
                  <a:srgbClr val="404040"/>
                </a:solidFill>
                <a:uFillTx/>
                <a:latin typeface="Trebuchet MS"/>
              </a:rPr>
              <a:t>Actie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Trebuchet MS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Voor elke voeding aansluiting sonde controler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-   Lucht in maag spuit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Trebuchet MS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Lakmoespapiertje(PH meting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4" name="Actieknop: Terug of Vorige 3">
            <a:hlinkClick r:id="rId1" action="ppaction://hlinksldjump"/>
          </p:cNvPr>
          <p:cNvSpPr/>
          <p:nvPr/>
        </p:nvSpPr>
        <p:spPr>
          <a:xfrm>
            <a:off x="1187280" y="5732640"/>
            <a:ext cx="682920" cy="504720"/>
          </a:xfrm>
          <a:custGeom>
            <a:avLst/>
            <a:gdLst>
              <a:gd name="textAreaLeft" fmla="*/ 32400 w 682920"/>
              <a:gd name="textAreaRight" fmla="*/ 650520 w 6829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9221" h="21600">
                <a:moveTo>
                  <a:pt x="0" y="0"/>
                </a:moveTo>
                <a:lnTo>
                  <a:pt x="29221" y="0"/>
                </a:lnTo>
                <a:lnTo>
                  <a:pt x="29221" y="21600"/>
                </a:lnTo>
                <a:lnTo>
                  <a:pt x="0" y="21600"/>
                </a:lnTo>
                <a:close/>
              </a:path>
              <a:path fill="lightenLess" w="29221" h="21600">
                <a:moveTo>
                  <a:pt x="0" y="0"/>
                </a:moveTo>
                <a:lnTo>
                  <a:pt x="29221" y="0"/>
                </a:lnTo>
                <a:lnTo>
                  <a:pt x="27821" y="1400"/>
                </a:lnTo>
                <a:lnTo>
                  <a:pt x="1400" y="1400"/>
                </a:lnTo>
                <a:close/>
              </a:path>
              <a:path fill="darken" w="29221" h="21600">
                <a:moveTo>
                  <a:pt x="29221" y="0"/>
                </a:moveTo>
                <a:lnTo>
                  <a:pt x="29221" y="21600"/>
                </a:lnTo>
                <a:lnTo>
                  <a:pt x="27821" y="20200"/>
                </a:lnTo>
                <a:lnTo>
                  <a:pt x="27821" y="1400"/>
                </a:lnTo>
                <a:close/>
              </a:path>
              <a:path fill="darkenLess" w="29221" h="21600">
                <a:moveTo>
                  <a:pt x="292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821" y="20200"/>
                </a:lnTo>
                <a:close/>
              </a:path>
              <a:path fill="lighten" w="292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221" h="21600">
                <a:moveTo>
                  <a:pt x="7604" y="10800"/>
                </a:moveTo>
                <a:lnTo>
                  <a:pt x="21617" y="3794"/>
                </a:lnTo>
                <a:lnTo>
                  <a:pt x="21617" y="17806"/>
                </a:lnTo>
                <a:close/>
              </a:path>
            </a:pathLst>
          </a:custGeom>
          <a:solidFill>
            <a:srgbClr val="f496cb"/>
          </a:solidFill>
          <a:ln cap="rnd" w="19080">
            <a:solidFill>
              <a:srgbClr val="b36d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3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6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Kans op verstopping van sonde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Voeding koekt aan in de sond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 u="sng">
                <a:solidFill>
                  <a:srgbClr val="404040"/>
                </a:solidFill>
                <a:uFillTx/>
                <a:latin typeface="Trebuchet MS"/>
              </a:rPr>
              <a:t>Actie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Trebuchet MS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Start en eindigen met 20 ml lauw water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Trebuchet MS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Minimaal 6x per dag sonde doorspoel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7" name="Actieknop: Terug of Vorige 3">
            <a:hlinkClick r:id="rId1" action="ppaction://hlinksldjump"/>
          </p:cNvPr>
          <p:cNvSpPr/>
          <p:nvPr/>
        </p:nvSpPr>
        <p:spPr>
          <a:xfrm>
            <a:off x="971640" y="4221000"/>
            <a:ext cx="610920" cy="503280"/>
          </a:xfrm>
          <a:custGeom>
            <a:avLst/>
            <a:gdLst>
              <a:gd name="textAreaLeft" fmla="*/ 32400 w 610920"/>
              <a:gd name="textAreaRight" fmla="*/ 578520 w 6109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6216" h="21600">
                <a:moveTo>
                  <a:pt x="0" y="0"/>
                </a:moveTo>
                <a:lnTo>
                  <a:pt x="26216" y="0"/>
                </a:lnTo>
                <a:lnTo>
                  <a:pt x="26216" y="21600"/>
                </a:lnTo>
                <a:lnTo>
                  <a:pt x="0" y="21600"/>
                </a:lnTo>
                <a:close/>
              </a:path>
              <a:path fill="lightenLess" w="26216" h="21600">
                <a:moveTo>
                  <a:pt x="0" y="0"/>
                </a:moveTo>
                <a:lnTo>
                  <a:pt x="26216" y="0"/>
                </a:lnTo>
                <a:lnTo>
                  <a:pt x="24816" y="1400"/>
                </a:lnTo>
                <a:lnTo>
                  <a:pt x="1400" y="1400"/>
                </a:lnTo>
                <a:close/>
              </a:path>
              <a:path fill="darken" w="26216" h="21600">
                <a:moveTo>
                  <a:pt x="26216" y="0"/>
                </a:moveTo>
                <a:lnTo>
                  <a:pt x="26216" y="21600"/>
                </a:lnTo>
                <a:lnTo>
                  <a:pt x="24816" y="20200"/>
                </a:lnTo>
                <a:lnTo>
                  <a:pt x="24816" y="1400"/>
                </a:lnTo>
                <a:close/>
              </a:path>
              <a:path fill="darkenLess" w="26216" h="21600">
                <a:moveTo>
                  <a:pt x="262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16" y="20200"/>
                </a:lnTo>
                <a:close/>
              </a:path>
              <a:path fill="lighten" w="262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216" h="21600">
                <a:moveTo>
                  <a:pt x="6102" y="10800"/>
                </a:moveTo>
                <a:lnTo>
                  <a:pt x="20115" y="3794"/>
                </a:lnTo>
                <a:lnTo>
                  <a:pt x="20115" y="17806"/>
                </a:lnTo>
                <a:close/>
              </a:path>
            </a:pathLst>
          </a:custGeom>
          <a:solidFill>
            <a:srgbClr val="f496cb"/>
          </a:solidFill>
          <a:ln cap="rnd" w="19080">
            <a:solidFill>
              <a:srgbClr val="b36d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3" dur="500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6" dur="500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Verzorgen van PEG/PEJ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 u="sng">
                <a:solidFill>
                  <a:srgbClr val="404040"/>
                </a:solidFill>
                <a:uFillTx/>
                <a:latin typeface="Trebuchet MS"/>
              </a:rPr>
              <a:t>Pas aangelegd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: extra hygiën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Randen fistel genez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Trebuchet MS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Desinfecter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Trebuchet MS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1x per dag draai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Trebuchet MS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Betadine jodium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Trebuchet MS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Steriele splitgaa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 u="sng">
                <a:solidFill>
                  <a:srgbClr val="404040"/>
                </a:solidFill>
                <a:uFillTx/>
                <a:latin typeface="Trebuchet MS"/>
              </a:rPr>
              <a:t>Na 6 weken: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Trebuchet MS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Reinigen water zeep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Trebuchet MS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Steriele splitgaa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Trebuchet MS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1x per dag draai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40" name="Afbeelding 3" descr="PEG.bmp"/>
          <p:cNvPicPr/>
          <p:nvPr/>
        </p:nvPicPr>
        <p:blipFill>
          <a:blip r:embed="rId1"/>
          <a:stretch/>
        </p:blipFill>
        <p:spPr>
          <a:xfrm>
            <a:off x="6084720" y="1052640"/>
            <a:ext cx="2735280" cy="2523960"/>
          </a:xfrm>
          <a:prstGeom prst="rect">
            <a:avLst/>
          </a:prstGeom>
          <a:ln w="0">
            <a:noFill/>
          </a:ln>
        </p:spPr>
      </p:pic>
      <p:pic>
        <p:nvPicPr>
          <p:cNvPr id="241" name="Afbeelding 6" descr="peg 2.jpg"/>
          <p:cNvPicPr/>
          <p:nvPr/>
        </p:nvPicPr>
        <p:blipFill>
          <a:blip r:embed="rId2"/>
          <a:stretch/>
        </p:blipFill>
        <p:spPr>
          <a:xfrm>
            <a:off x="5651640" y="3789360"/>
            <a:ext cx="3214440" cy="22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3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Mickey button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pic>
        <p:nvPicPr>
          <p:cNvPr id="243" name="Tijdelijke aanduiding voor inhoud 3" descr="Mickey sonde.bmp"/>
          <p:cNvPicPr/>
          <p:nvPr/>
        </p:nvPicPr>
        <p:blipFill>
          <a:blip r:embed="rId1"/>
          <a:stretch/>
        </p:blipFill>
        <p:spPr>
          <a:xfrm>
            <a:off x="611280" y="1341360"/>
            <a:ext cx="4330440" cy="3241800"/>
          </a:xfrm>
          <a:prstGeom prst="rect">
            <a:avLst/>
          </a:prstGeom>
          <a:ln w="0">
            <a:noFill/>
          </a:ln>
        </p:spPr>
      </p:pic>
      <p:pic>
        <p:nvPicPr>
          <p:cNvPr id="244" name="Afbeelding 4" descr="mickey sonde 1.bmp"/>
          <p:cNvPicPr/>
          <p:nvPr/>
        </p:nvPicPr>
        <p:blipFill>
          <a:blip r:embed="rId2"/>
          <a:stretch/>
        </p:blipFill>
        <p:spPr>
          <a:xfrm>
            <a:off x="5292720" y="3444840"/>
            <a:ext cx="3643200" cy="3218040"/>
          </a:xfrm>
          <a:prstGeom prst="rect">
            <a:avLst/>
          </a:prstGeom>
          <a:ln w="0">
            <a:noFill/>
          </a:ln>
        </p:spPr>
      </p:pic>
      <p:pic>
        <p:nvPicPr>
          <p:cNvPr id="245" name="Afbeelding 5" descr="mickey sonde 2.jpg"/>
          <p:cNvPicPr/>
          <p:nvPr/>
        </p:nvPicPr>
        <p:blipFill>
          <a:blip r:embed="rId3"/>
          <a:stretch/>
        </p:blipFill>
        <p:spPr>
          <a:xfrm>
            <a:off x="5796000" y="1268280"/>
            <a:ext cx="2133720" cy="20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Berekenen hoeveelheid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1 ml = 20 druppel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hoeveelheid ml SV x druppels per ml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------------------------------------------= aantal druppels/min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aantal uren SV gegeven x 60 min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Opdracht: arts spreekt af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2 liter sondevoeding per 24 uur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Wat is de druppelsnelheid?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2 lt = 2000  m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1 ml = 20 druppel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 u="sng">
                <a:solidFill>
                  <a:srgbClr val="404040"/>
                </a:solidFill>
                <a:uFillTx/>
                <a:latin typeface="Trebuchet MS"/>
              </a:rPr>
              <a:t>2000 x 20 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 = </a:t>
            </a:r>
            <a:r>
              <a:rPr b="0" lang="nl-NL" sz="2400" spc="-1" strike="noStrike" u="sng">
                <a:solidFill>
                  <a:srgbClr val="404040"/>
                </a:solidFill>
                <a:uFillTx/>
                <a:latin typeface="Trebuchet MS"/>
              </a:rPr>
              <a:t>40000 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= 28 druppels per minuut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24 x 60            1440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Arts spreekt af: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1 liter in 8 uur (alleen ‘s nachts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1 lt = 1000 m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1 ml = 20 druppels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 u="sng">
                <a:solidFill>
                  <a:srgbClr val="404040"/>
                </a:solidFill>
                <a:uFillTx/>
                <a:latin typeface="Trebuchet MS"/>
              </a:rPr>
              <a:t>1000 x 20 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= </a:t>
            </a:r>
            <a:r>
              <a:rPr b="0" lang="nl-NL" sz="2400" spc="-1" strike="noStrike" u="sng">
                <a:solidFill>
                  <a:srgbClr val="404040"/>
                </a:solidFill>
                <a:uFillTx/>
                <a:latin typeface="Trebuchet MS"/>
              </a:rPr>
              <a:t>20000 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= 41 druppels per minuut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8 x 60           480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Opdracht: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09120" y="1700280"/>
            <a:ext cx="6626520" cy="434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Zoek een filmpje op het internet waar een sonde wordt ingebrach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Bekijk dit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Pak nu het protocol van Vilans erbij en leg dit ernaas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Wordt het protocol nauwgezet gevolgd? Zoek de overeenkomsten en de verschillen!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Vragen? 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Wat is sondevoeding?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Vloeibare voeding die geven wordt via kunstmatige verbinding met de maag/duodenum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- voeding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- voch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- medicijn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Manieren van sondevoeding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Neus maagsonde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PEG (percutane endoscopische gastrostomie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PEJ (percutane endoscopische jejunostomie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Bolus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Continue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Spui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Systeem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" dur="500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" dur="500"/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" dur="500"/>
                                        <p:tgtEl>
                                          <p:spTgt spid="2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" dur="500"/>
                                        <p:tgtEl>
                                          <p:spTgt spid="2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Wanneer sondevoeding geven?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26920" y="2276280"/>
            <a:ext cx="8066160" cy="384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Dreigende ondervoeding met een goed functionerend maagdarmkanaa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Aanvulling op diee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Aandoeningen: slikken/kauwen, slokdarm, maag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Verminderde eetlus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Slechte lichamelijke conditi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Langdurig voedselweigering (kind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" dur="5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8" dur="50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1" dur="500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4" dur="500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7" dur="500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0" dur="500"/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Het inbrengen van een voedingssonde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Meest gebruikte: neus-maagsond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Voor behouden handeling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Bij langdurige sonde voeding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PEG= Percutane Endoscopische Gastronomi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     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Door medische ingreep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Verwisseling mag door Verpleegkundig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Neus-maag sonde inbrengen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Dikte van de sonde: Uitgedrukt in: charriere= CH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Comfort ZV&gt; zo dun mogelijke sond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Lengte van de sonde bepalen(neus-maag): volgens NEX Methode(pg 205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eb3d9f"/>
                </a:solidFill>
                <a:latin typeface="Trebuchet MS"/>
              </a:rPr>
              <a:t>Aandachtspunten: voorbereiding en werkwijze ZV</a:t>
            </a:r>
            <a:endParaRPr b="0" lang="en-US" sz="32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Zorgvrager informeren over waarom en de werkwijze inbrengen van de sond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Aandacht voor angs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Attentie houd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Sonde nat (warm water)inbreng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Sonde controleren op maagretenti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Sonde bevestig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Nazorg ZV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Gegevens vastlegg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eb3d9f"/>
                </a:solidFill>
                <a:latin typeface="Trebuchet MS"/>
              </a:rPr>
              <a:t>Observatiepunten (tijdens inbrengen)</a:t>
            </a:r>
            <a:endParaRPr b="0" lang="en-US" sz="24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Benauwdheid en hoest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Sonde wil niet verder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Geen maagretentie krijg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Sonde kan opgerold komen te liggen in de keel tijdens inbrengen!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eb3d9f"/>
                </a:solidFill>
                <a:latin typeface="Trebuchet MS"/>
              </a:rPr>
              <a:t>Complicatie: Kans op decubitus</a:t>
            </a:r>
            <a:endParaRPr b="0" lang="en-US" sz="28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Sonde zit te strak tegen neusvleug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 u="sng">
                <a:solidFill>
                  <a:srgbClr val="404040"/>
                </a:solidFill>
                <a:uFillTx/>
                <a:latin typeface="Trebuchet MS"/>
              </a:rPr>
              <a:t>Actie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Trebuchet MS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Elke dag controle/ observati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Trebuchet MS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Elke dag pleister verschon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Trebuchet MS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Pleister op juiste wijze plakk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1" name="Actieknop: Terug of Vorige 3">
            <a:hlinkClick r:id="rId1" action="ppaction://hlinksldjump"/>
          </p:cNvPr>
          <p:cNvSpPr/>
          <p:nvPr/>
        </p:nvSpPr>
        <p:spPr>
          <a:xfrm>
            <a:off x="1258920" y="4941720"/>
            <a:ext cx="611280" cy="503280"/>
          </a:xfrm>
          <a:custGeom>
            <a:avLst/>
            <a:gdLst>
              <a:gd name="textAreaLeft" fmla="*/ 32400 w 611280"/>
              <a:gd name="textAreaRight" fmla="*/ 578880 w 6112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6232" h="21600">
                <a:moveTo>
                  <a:pt x="0" y="0"/>
                </a:moveTo>
                <a:lnTo>
                  <a:pt x="26232" y="0"/>
                </a:lnTo>
                <a:lnTo>
                  <a:pt x="26232" y="21600"/>
                </a:lnTo>
                <a:lnTo>
                  <a:pt x="0" y="21600"/>
                </a:lnTo>
                <a:close/>
              </a:path>
              <a:path fill="lightenLess" w="26232" h="21600">
                <a:moveTo>
                  <a:pt x="0" y="0"/>
                </a:moveTo>
                <a:lnTo>
                  <a:pt x="26232" y="0"/>
                </a:lnTo>
                <a:lnTo>
                  <a:pt x="24832" y="1400"/>
                </a:lnTo>
                <a:lnTo>
                  <a:pt x="1400" y="1400"/>
                </a:lnTo>
                <a:close/>
              </a:path>
              <a:path fill="darken" w="26232" h="21600">
                <a:moveTo>
                  <a:pt x="26232" y="0"/>
                </a:moveTo>
                <a:lnTo>
                  <a:pt x="26232" y="21600"/>
                </a:lnTo>
                <a:lnTo>
                  <a:pt x="24832" y="20200"/>
                </a:lnTo>
                <a:lnTo>
                  <a:pt x="24832" y="1400"/>
                </a:lnTo>
                <a:close/>
              </a:path>
              <a:path fill="darkenLess" w="26232" h="21600">
                <a:moveTo>
                  <a:pt x="262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32" y="20200"/>
                </a:lnTo>
                <a:close/>
              </a:path>
              <a:path fill="lighten" w="262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232" h="21600">
                <a:moveTo>
                  <a:pt x="6109" y="10800"/>
                </a:moveTo>
                <a:lnTo>
                  <a:pt x="20122" y="3794"/>
                </a:lnTo>
                <a:lnTo>
                  <a:pt x="20122" y="17806"/>
                </a:lnTo>
                <a:close/>
              </a:path>
            </a:pathLst>
          </a:custGeom>
          <a:solidFill>
            <a:srgbClr val="f496cb"/>
          </a:solidFill>
          <a:ln cap="rnd" w="19080">
            <a:solidFill>
              <a:srgbClr val="b36d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7" dur="500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0" dur="500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3" dur="500"/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. Scheltens-Flink</dc:creator>
  <dc:description/>
  <dc:language>en-US</dc:language>
  <cp:lastModifiedBy>Rina Niemeijer</cp:lastModifiedBy>
  <dcterms:modified xsi:type="dcterms:W3CDTF">2018-02-20T11:27:12Z</dcterms:modified>
  <cp:revision>23</cp:revision>
  <dc:subject/>
  <dc:title>Sondevoeding</dc:title>
</cp:coreProperties>
</file>