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986C-DCAF-4866-9077-BDF2F3012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50A2-E832-4C48-B160-A87661B6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52E2-3E8F-4D48-BC98-757EFDAEA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A1E8-E863-4CBF-9973-010860D8C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65A4-FC99-446E-991E-4FDEB482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7E4E-8E74-4C7F-9DE6-95F0226C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CB8A-C1C1-46AF-86DA-141BE333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05A7-7A0C-439A-AD0C-5E19816D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29B3-1EF2-4B5E-B761-35DFBD58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051F-DEFC-4644-B026-5E793468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E4FF-DF60-4A5D-ABAE-6587E184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92B1-7A3C-45E8-8F88-3E00D6FB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A72F-A245-4984-8706-258EED25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A8EA-3FE0-49BE-AE26-CE96A672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5182-C714-4A9C-81D5-94D20B9D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6179-F23E-47AD-AB84-36FD16E73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8D10-03A7-4C1F-9D3E-2F17781AB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1E1F-878A-454A-B8EA-6A457441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525A-45C8-493E-99C7-5E53F1D8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31D4-A64F-4DEB-8C1A-3569FFDD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520C-8D85-4D42-8BB8-AEC4BA97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BAFA-E127-438C-931A-5A318D82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1E57-34F3-4493-B9DF-469CE8F9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8AD6-D42E-46B6-8672-2199C9DE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170B-E80C-4E0D-896F-EED0C6BEEF9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E053-ECC2-4767-8D09-EA755F37588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050920" y="249228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 in buik, boven schaambeen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c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Afbeelding 3" descr="suprapubis.jpg"/>
          <p:cNvPicPr/>
          <p:nvPr/>
        </p:nvPicPr>
        <p:blipFill>
          <a:blip r:embed="rId1"/>
          <a:stretch/>
        </p:blipFill>
        <p:spPr>
          <a:xfrm>
            <a:off x="5219640" y="400536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Blaasspoel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7"/>
          <p:cNvPicPr/>
          <p:nvPr/>
        </p:nvPicPr>
        <p:blipFill>
          <a:blip r:embed="rId1"/>
          <a:stretch/>
        </p:blipFill>
        <p:spPr>
          <a:xfrm>
            <a:off x="2268360" y="1628640"/>
            <a:ext cx="60501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Verdana"/>
              </a:rPr>
              <a:t>Redenen hiervoor kunnen zijn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infec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lokaal toedienen van medicatie, bijvoorbeeld cytostat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 verstopte of bijna verstopte blaaskathe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bloedstolsels na een oper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 kan plaatsvinden met de hand ofwel met een open systeem (uro tainer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or het spoelen met een gesloten systeem is een driewegkatheter nod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c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Katheteriseren 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 spoelen met een open systeem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Doel: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doorgang van de verblijfskatheter open houden / toedienen medic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Bij wi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: Zorgvragers bij wie de blaas met een zakje moet worden gespo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Verschillende redenen om de blaas te spoelen met zakjes: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Om de afvoer van urine in stand te houde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zichtbare hematurie in 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produceerde urine (met stolsel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gruis / afval in de blaas e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katheter, die dan verstop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raken.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spoelen om  medicatie toe te dien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cytostaticakuren met lokale werking bijv. bij blaastumo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reinigen van de blaas vanwege een zeer ernstige urineweginfectie, een pyur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4" descr="2086"/>
          <p:cNvPicPr/>
          <p:nvPr/>
        </p:nvPicPr>
        <p:blipFill>
          <a:blip r:embed="rId1"/>
          <a:stretch/>
        </p:blipFill>
        <p:spPr>
          <a:xfrm>
            <a:off x="5580000" y="3860640"/>
            <a:ext cx="280836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5" descr="zz09werkbladsupra"/>
          <p:cNvPicPr/>
          <p:nvPr/>
        </p:nvPicPr>
        <p:blipFill>
          <a:blip r:embed="rId1"/>
          <a:stretch/>
        </p:blipFill>
        <p:spPr>
          <a:xfrm>
            <a:off x="1187280" y="900000"/>
            <a:ext cx="662472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èè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malig te katheteriser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erblijfskathete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uprapubis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Kenmerken verblijfskatheter: 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lijft na inbrengen 4-8 weken zitten, Bij een silliconen Kad: 3 maanden intramuraal, 6 maanden extramura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c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nneer breng je een verblijfskatheter in en waarom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nneer/waarom verblijf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ost-operatie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A.R. Niemeijer</cp:lastModifiedBy>
  <dcterms:modified xsi:type="dcterms:W3CDTF">2016-12-14T09:22:39Z</dcterms:modified>
  <cp:revision>33</cp:revision>
  <dc:subject/>
  <dc:title>Indeling WCS=</dc:title>
</cp:coreProperties>
</file>