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6D0C-A29B-441E-861C-811B8590B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40B3-69A6-478D-9A93-4083EB79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B698-FE54-4D5E-8776-DA9BB5E9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DE66-B3C8-4858-827D-E3E84422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E87A-77C8-40D7-9386-F0CDBD99B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71F2-2E29-46F1-B98D-7BE7440F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2983-D0FA-42AA-913F-CCD95201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B305-C18D-453B-97B0-010FA68F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391A-100E-4637-B311-7D9168D6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36C8-54AE-4FDE-9C87-58DBE37B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1FB7-AA44-4005-96B1-A94A2414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C883-7B3C-4EA2-A4AC-E6E46A2B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F908-36CB-4367-ACA1-D779D01B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BEDB-9141-4AC3-9FD8-CFE19F0B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D241-29B9-4594-A443-0C1E74A9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9921-4C17-40B1-9D16-8A5FA29CE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05D3-8C2C-4453-BE5B-192853C8D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D8D6-2F6D-4E2C-93FA-1B671E95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01E1-2BFE-41A5-83F2-EB04B92B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92BB-D3CE-4EA9-A013-FD11C4FC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4F0E-FB2A-445A-811E-2159A566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46F4-9C49-4976-8FFF-F31BDCF7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0BC0-10E4-40C4-8A72-094653BC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3755-ACEB-445B-ADF0-9FF1C366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384B-4EB5-4870-9EEB-FEDFDBCDEB1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B966-1BE5-47D9-B0A4-F8EB40C077D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050920" y="249228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 in buik, boven schaambeen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c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Afbeelding 3" descr="suprapubis.jpg"/>
          <p:cNvPicPr/>
          <p:nvPr/>
        </p:nvPicPr>
        <p:blipFill>
          <a:blip r:embed="rId1"/>
          <a:stretch/>
        </p:blipFill>
        <p:spPr>
          <a:xfrm>
            <a:off x="5219640" y="400536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Blaasspoel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7"/>
          <p:cNvPicPr/>
          <p:nvPr/>
        </p:nvPicPr>
        <p:blipFill>
          <a:blip r:embed="rId1"/>
          <a:stretch/>
        </p:blipFill>
        <p:spPr>
          <a:xfrm>
            <a:off x="2268360" y="1628640"/>
            <a:ext cx="605016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Verdana"/>
              </a:rPr>
              <a:t>Redenen hiervoor kunnen zijn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infec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lokaal toedienen van medicatie, bijvoorbeeld cytostat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 verstopte of bijna verstopte blaaskathe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bloedstolsels na een oper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 kan plaatsvinden met de hand ofwel met een open systeem (uro tainer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or het spoelen met een gesloten systeem is een driewegkatheter nodi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c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Katheteriseren 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 spoelen met een open systeem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Doel: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doorgang van de verblijfskatheter open houden / toedienen medic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Bij wi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: Zorgvragers bij wie de blaas met een zakje moet worden gespo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Verschillende redenen om de blaas te spoelen met zakjes: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Om de afvoer van urine in stand te houde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zichtbare hematurie in 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produceerde urine (met stolsel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gruis / afval in de blaas e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katheter, die dan verstop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raken.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spoelen om  medicatie toe te dien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cytostaticakuren met lokale werking bijv. bij blaastumo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reinigen van de blaas vanwege een zeer ernstige urineweginfectie, een pyur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4" descr="2086"/>
          <p:cNvPicPr/>
          <p:nvPr/>
        </p:nvPicPr>
        <p:blipFill>
          <a:blip r:embed="rId1"/>
          <a:stretch/>
        </p:blipFill>
        <p:spPr>
          <a:xfrm>
            <a:off x="5580000" y="3860640"/>
            <a:ext cx="280836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5" descr="zz09werkbladsupra"/>
          <p:cNvPicPr/>
          <p:nvPr/>
        </p:nvPicPr>
        <p:blipFill>
          <a:blip r:embed="rId1"/>
          <a:stretch/>
        </p:blipFill>
        <p:spPr>
          <a:xfrm>
            <a:off x="1187280" y="900000"/>
            <a:ext cx="662472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èè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malig te katheteriser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erblijfskathete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uprapubis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Kenmerken verblijfskatheter: 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lijft na inbrengen 4-8 weken zitten, Bij een silliconen Kad: 3 maanden intramuraal, 6 maanden extramura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c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nneer breng je een verblijfskatheter in en waarom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nneer/waarom verblijf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ost-operatie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A.R. Niemeijer</cp:lastModifiedBy>
  <dcterms:modified xsi:type="dcterms:W3CDTF">2016-12-14T09:22:39Z</dcterms:modified>
  <cp:revision>33</cp:revision>
  <dc:subject/>
  <dc:title>Indeling WCS=</dc:title>
</cp:coreProperties>
</file>