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C75E9-1921-49B8-9A3E-0B94EDC28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44554-5A51-455B-8C8C-4A7D36172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B3B27-E928-4E94-A351-DBD7B6C99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68963-42D0-40CD-BCC4-2C03EAA16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1E5DDB-BB81-4B7A-B566-C1E915210C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02AE7-9872-49DC-82A6-78EF60622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EE53B-40B5-4822-BEF0-355252040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C13B3-7E99-461F-B914-377B16CE3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78667-0CCE-4E27-B9CA-201A3F8C1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ED4F6-315C-435F-BD77-8E63D0DD0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FC073-A940-4441-A25E-279BC4AF9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11D18-E988-49AF-B505-E0FE100FE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3FC5A-617A-4016-94C7-15A8B5AB7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58C12-3C67-45E6-A997-9BC1E82CD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48CF6-C630-46AA-8FB9-3AEF6671A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B15385-ACA7-491A-A016-08223CA578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C6332-11AC-4EF3-A558-8AC81CA0C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F66B69-2BF1-412A-8A73-E2A67D6410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0BD454-128E-4050-A75D-EAA7857F9C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777B00-94C8-4FF9-B421-BC7168FC33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199FDB-77BB-4E30-B546-5F58110DA6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63FD67-6B98-489B-8418-4256DAD5AE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FE99D-A2B4-4410-8510-4F7312A66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94AE05-658F-46E7-819B-BA407C1C14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1B411E-573F-465B-9352-0A1AA9A14A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7E9B83-1D0B-4E45-8B22-068693020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6244D2-55B8-4BA7-B2C8-D549675028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43AB83-583E-4D95-9C8A-0F8DA94D35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7BE27C-78A0-4DC7-8C54-56D75A8B97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3988C4-D359-41DE-8A22-BBAFC97F2E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B40DCD-E532-4192-BBDC-8D66D14787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3DD746-DF1A-4BD7-A7A6-6EAEE10D9F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845DA3-8E46-4814-9B50-53F960A7E6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4F502-1D8E-4900-AB81-CB07E0A90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1ADA30-3C6B-4794-84A7-4D0839FB2A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9CEF66-91A4-4D6D-81C4-CFD9ECF500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FB4337-FED0-4AC5-B9E0-5CC5772EDE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A0A03E-CF02-45DE-8F7E-8ABA20B887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3617BC-8E9D-42BF-B564-11F17C06F8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25E0FB-38E9-4F73-BF66-C1DB70C3BF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4DA82A-EEC5-479C-BC8C-1AF92E6FC7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15A6DC-0981-476E-A9EF-E68B60DCCD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8453FB-D90F-4BAA-B2E9-1855C8032B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F0700B-2B80-4DC6-AAA7-EF71FFC951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B46EE-8CA6-497F-9691-360C73B32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AEC8BC-8AAE-4134-AE7B-AFAD4FE12C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8FB13A-79C8-4DF5-A0DD-81665E5A62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28F581-FD47-47F3-8315-D8A5ABD452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48A8BB-3E50-4BA3-AC06-44263C0B5B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E8AB21-536A-4F38-B6D4-805CBA9C35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DD00F2-D4CF-4FD2-A922-3224BC025A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A58E27-5279-4961-A804-313F7F6355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8B28E3-E0E8-4742-BF31-B63943AD29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84DEB4-03D4-4E8C-90D3-655A32BC6C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CBC207-32B5-4481-9191-B8447003EE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55C7B-F43B-4322-A3B6-CE53419E5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DFFC1E-3FB4-48BC-A814-71D459F27D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6C27B0-E813-4118-9E80-AC17100828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192255-1B3D-45E5-868F-284BE86886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5A46F9-B27F-428F-B41F-10CC8BA6C9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6B2642-3BD9-4422-8890-AA90E1A66A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70F0E0-A289-4BC5-862C-249D33D3DF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A19DE9-45EB-4A9E-89DF-B31D1532DD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7D655B-2874-4D4A-A75F-37523E9533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F24424-72A9-44D7-9B52-24812C561D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2F0683-380F-4641-A3BF-55CDE7F6A0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FFE07-AC5A-4BA4-A7E0-12DC4CB74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23A41A-3592-407F-BA34-5592DCAD72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0B8867-EAFA-400A-8E24-3F507394F5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C38342-FC25-4E53-8F01-8C86FA0D5B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24AF3D-118D-4759-A459-796A76E3F4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CE2317-F2A7-43B5-A46E-272D5E74EF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507F0F-FF98-4FCC-B851-D98FE2FAD5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A164F6-EB1B-4016-B963-86EB40D368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FF8938-85B4-45BB-92CC-74A043F071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77C5F2-63C1-4A19-B7D1-C8AC7DFD66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19F5E0-F249-4FE7-A5A4-BD097C78BA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A403C-FB16-44CA-AE46-C232362F6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2DD6DC-748A-452E-AF43-3A82FFBA83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40EF5F-0CAA-4EEE-9CDF-2B210238E2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EF9513-8C74-497B-BCE2-AB5AABACAA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49F78D-9F98-4E96-8C32-BA6BDC62E9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6AA18F-116C-4748-AFF1-6A2C9D58CB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0D44E-7752-4A6E-9905-28B10F635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A14E-9297-4D93-ABE4-597AE71838F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09E76-F4BE-4E99-B74A-78C09B3D2C3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8CF9-7D6F-4E88-8A9A-466999CBBC5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C855-732B-4EA7-BA78-EE05F40C542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0695-F876-4BD2-AC7E-7B75C65C7DB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2B2A-7729-41F7-BF04-CC778BEFD77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A250-5936-440E-A81D-A6743FAB73F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loed wordt onvoldoende rond gepomp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Decompensatio Cordis/ vocht achter het har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Hartinfarct, hartziek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Niet goed werkende hartkleppe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uurstoftekort door hartprobl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Hoe reageert de ZV?</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gstig, verward, suf, helde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uding van een ZV: rechtop, liggend, op zij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leur: Cyanose, bleek, roo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ademhaling zelf: frequentie, wijze van AH: diep, ondiep, geluid: rochelend, piepend, snur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sputum? : kleur, consistentie, taaiheid,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P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 Bloeddruk , AH, HF, SP O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age collega, ar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 voor houding in bed:  vb drainage houdin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 grond van deze observaties: besluit O2 toedien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amengeperste O2 via de muurklok of via een cilin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af 5 liter/ minuut: O2 met watergeleiding(aqua pak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2 toedien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t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971640" y="2781000"/>
            <a:ext cx="7726320" cy="3343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er altijd goed op lekkage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naso- pharyngeale katheter: afmeten </a:t>
            </a:r>
            <a:r>
              <a:rPr b="0" lang="nl-NL" sz="2400" spc="-1" strike="noStrike" u="sng">
                <a:solidFill>
                  <a:srgbClr val="0080ff"/>
                </a:solidFill>
                <a:uFillTx/>
                <a:latin typeface="Candara"/>
                <a:hlinkClick r:id="rId1"/>
              </a:rPr>
              <a:t>van</a:t>
            </a:r>
            <a:r>
              <a:rPr b="0" lang="nl-NL" sz="2400" spc="-1" strike="noStrike">
                <a:solidFill>
                  <a:srgbClr val="073e87"/>
                </a:solidFill>
                <a:latin typeface="Candara"/>
              </a:rPr>
              <a:t> neusvleugel tot oorlel</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nijp voor het inbrengen van het vestibulair het spons- gedeelte same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el het gewenste aantal liters per minuut i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vochtiging</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ilige opbergplaats van de cilinder</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Berekenen va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4360" y="2205000"/>
            <a:ext cx="7596000" cy="39211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beva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1</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Uitgeademde lucht beva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17,0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 2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4,3 %</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tenswaardighede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68320" y="2491920"/>
            <a:ext cx="740736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ingen van CO2 (kooldioxide) en O2(zuurstof)</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 het bloed doo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O2 saturatie</a:t>
            </a:r>
            <a:r>
              <a:rPr b="0" lang="nl-NL" sz="2400" spc="-1" strike="noStrike">
                <a:solidFill>
                  <a:srgbClr val="073e87"/>
                </a:solidFill>
                <a:latin typeface="Candara"/>
              </a:rPr>
              <a:t>, O2sp: verzadiging van de erytrocyten met O2( “knijpe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Arteriële astrup</a:t>
            </a:r>
            <a:r>
              <a:rPr b="0" lang="nl-NL" sz="2400" spc="-1" strike="noStrike">
                <a:solidFill>
                  <a:srgbClr val="073e87"/>
                </a:solidFill>
                <a:latin typeface="Candara"/>
              </a:rPr>
              <a:t>: verhoudingen O2 en CO2 in het bloed</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in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yperventilat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nauwdhei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nelde hartactie ook in ru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art ritme stoorniss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hoogde bloeddruk (ang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ardheid door hypox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laperigheid: direct actie gebo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van O2 tek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voldoende lucht in de longe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umo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iet open staan van een long: pneumothorax</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knelling Trache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niet goed kunnen gebruiken van de ademhaling door: operatie, pijn, COPD of neurologisch letse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is ziek: bijv bij Cystic Fibro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rekt niet mee: Longemfysee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stroomt geen bloed langs de alveoli: trombose of vaatafsluit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ruk in het bloed is te hoog: geen opn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t vocht op plaatsen waar lucht moet zijn: longontsteking</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en O2 vanuit alveoli naar de bloedbaa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Rina Niemeijer</cp:lastModifiedBy>
  <dcterms:modified xsi:type="dcterms:W3CDTF">2018-04-08T08:06:23Z</dcterms:modified>
  <cp:revision>20</cp:revision>
  <dc:subject/>
  <dc:title>De ademhaling:</dc:title>
</cp:coreProperties>
</file>