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DEAD0-FA16-4111-951B-AFE83612E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454AC-7AE7-4F06-A24A-A22D38475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5144A-ADD2-4F17-BDD4-5DE31C5DF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B3B66-7291-470F-8B33-7A3634230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1635A-B906-49CE-900C-B26D3752B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AADD4-E416-4806-A485-8FCCF7602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28480-31F5-4D7E-A53F-46E4463F1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C1020-6CD7-4722-9128-FC66C4B14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07511-9622-4CB0-8037-54F09B89D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AC80A-2FBF-4BAB-9C5A-8D5F485AE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0580F-6219-4CA0-A0B3-9DDBADE52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65228-6DA0-42AB-B2E6-4F36620C7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0B930-4A46-4BBA-B7DB-486612B38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B9D4C-DF33-473A-BCA7-03A14A95C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00ECB-57EF-4E3C-A2F7-07E94C115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939AB-8A1E-45CE-BDF3-0C42F0CB6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3DB14-0266-4C55-A2A0-BE6F18007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B31C86-8A23-4FFF-ADDA-2CA756E8B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49FD77-2D53-4B8B-8DD0-B562A453D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FF5BF5-249D-468E-ADEF-20C53DA2A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972285-0CC0-4061-AC18-B7D0A3842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2E975E-454A-4145-9CA7-89A6708F4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8175B-6DEF-413D-96DC-BD3BC914C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DDCFF7-5F47-407E-B066-AC8DAF47E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564B02-6A7E-4B52-8C74-5021ED289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6661D6-CEFA-4C55-9E87-781E7667F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0C7B6D-91A6-4ABE-97F3-48EB973FC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926F02-5BC1-4C56-B7A8-3C629764A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7842BB-BCAB-4052-82E2-73ABD07ED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E3B560-9FB1-4678-93F9-DA2734159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39A7F2-D3C4-4EAB-B903-3F80FF2BE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6523C3-4F20-4175-862F-0ECB83FC7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D7369E-C4E6-4A06-B8CA-9C8D849A4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F7FB8-CB9A-47BE-96F0-CA3EDB262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441F0E-4027-4DE7-8801-BDC5E0A07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F1E469-E24A-46F2-AD72-63935A61A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743598-7ADE-41C3-AFE4-546474C57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99879C-4F37-4AF6-9161-22B115C78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4CB907-CD91-4AFC-B750-77508DDF1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2861ED-D0DB-4F9C-A82B-1C06FF277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FBAB7E-42D8-4E47-802F-40A2F058E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142CA7-7A2D-45D9-8E63-42C902BF3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DA306D-7065-4A32-9094-FD38F4830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C0186-0FB1-4535-B325-72E81FD37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04BDA-7BE1-4FA4-9749-D5027B85E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DFD83-73EC-41F3-BE2B-DC7252DAD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83396-4D49-4362-88C9-409BCE3F8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DA1D1-48F4-4BE3-883A-C44655F93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1" name="Straight Connector 6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" name="Freeform 8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f496cb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496c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496cb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3d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eb3d9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213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b2136d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eb3d9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eb3d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44F9E38-ABC7-4E59-9F27-9061F6EF0A3A}" type="slidenum">
              <a:rPr b="0" lang="nl-NL" sz="900" spc="-1" strike="noStrike">
                <a:solidFill>
                  <a:srgbClr val="eb3d9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53" name="Straight Connector 27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4" name="Straight Connector 28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5" name="Freeform 29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f496cb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6" name="Freeform 30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496c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7" name="Freeform 3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496cb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8" name="Freeform 3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3d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9" name="Freeform 3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eb3d9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0" name="Freeform 34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213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1" name="Freeform 35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b2136d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2" name="Freeform 17"/>
            <p:cNvSpPr/>
            <p:nvPr/>
          </p:nvSpPr>
          <p:spPr>
            <a:xfrm>
              <a:off x="-7920" y="-7920"/>
              <a:ext cx="863280" cy="569772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eb3d9f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eb3d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D58B8B0-3EC3-4FE4-83FF-BA017AFC4491}" type="slidenum">
              <a:rPr b="0" lang="nl-NL" sz="900" spc="-1" strike="noStrike">
                <a:solidFill>
                  <a:srgbClr val="eb3d9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105" name="Straight Connector 6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7" name="Freeform 8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f496cb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496c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496cb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3d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eb3d9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213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b2136d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eb3d9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5" name="TextBox 23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f496cb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TextBox 24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f496cb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eb3d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0CBD12A-A994-4D85-B164-BC63A537DDD2}" type="slidenum">
              <a:rPr b="0" lang="nl-NL" sz="900" spc="-1" strike="noStrike">
                <a:solidFill>
                  <a:srgbClr val="eb3d9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159" name="Straight Connector 6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1" name="Freeform 8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f496cb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496c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496cb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3d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eb3d9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213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b2136d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eb3d9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69" name="TextBox 23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f496cb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TextBox 24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f496cb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eb3d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5DD236C-02FF-4A79-AFDA-F000C2352F01}" type="slidenum">
              <a:rPr b="0" lang="nl-NL" sz="900" spc="-1" strike="noStrike">
                <a:solidFill>
                  <a:srgbClr val="eb3d9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30400" y="2404800"/>
            <a:ext cx="5827680" cy="164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5400" spc="-1" strike="noStrike">
                <a:solidFill>
                  <a:srgbClr val="eb3d9f"/>
                </a:solidFill>
                <a:latin typeface="Trebuchet MS"/>
              </a:rPr>
              <a:t>Sonde inbrengen </a:t>
            </a:r>
            <a:endParaRPr b="0" lang="en-US" sz="54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130400" y="4051080"/>
            <a:ext cx="582768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nl-NL" sz="1800" spc="-1" strike="noStrike">
              <a:solidFill>
                <a:srgbClr val="7f7f7f"/>
              </a:solidFill>
              <a:latin typeface="Trebuchet MS"/>
            </a:endParaRPr>
          </a:p>
        </p:txBody>
      </p:sp>
      <p:pic>
        <p:nvPicPr>
          <p:cNvPr id="214" name="Picture 4" descr=""/>
          <p:cNvPicPr/>
          <p:nvPr/>
        </p:nvPicPr>
        <p:blipFill>
          <a:blip r:embed="rId1"/>
          <a:stretch/>
        </p:blipFill>
        <p:spPr>
          <a:xfrm>
            <a:off x="5364000" y="330120"/>
            <a:ext cx="1424160" cy="25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eb3d9f"/>
                </a:solidFill>
                <a:latin typeface="Trebuchet MS"/>
              </a:rPr>
              <a:t>Kans dat sonde niet op juiste plaats zit of blijft zitten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Door opboeren, braken, hoesten kan sonde verplaats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 u="sng">
                <a:solidFill>
                  <a:srgbClr val="404040"/>
                </a:solidFill>
                <a:uFillTx/>
                <a:latin typeface="Trebuchet MS"/>
              </a:rPr>
              <a:t>Actie: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Trebuchet MS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Voor elke voeding aansluiting sonde controler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-   Lucht in maag spuit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Trebuchet MS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Lakmoespapiertje(PH meting)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4" name="Actieknop: Terug of Vorige 3">
            <a:hlinkClick r:id="rId1" action="ppaction://hlinksldjump"/>
          </p:cNvPr>
          <p:cNvSpPr/>
          <p:nvPr/>
        </p:nvSpPr>
        <p:spPr>
          <a:xfrm>
            <a:off x="1187280" y="5732640"/>
            <a:ext cx="682920" cy="504720"/>
          </a:xfrm>
          <a:custGeom>
            <a:avLst/>
            <a:gdLst>
              <a:gd name="textAreaLeft" fmla="*/ 32400 w 682920"/>
              <a:gd name="textAreaRight" fmla="*/ 650520 w 6829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9221" h="21600">
                <a:moveTo>
                  <a:pt x="0" y="0"/>
                </a:moveTo>
                <a:lnTo>
                  <a:pt x="29221" y="0"/>
                </a:lnTo>
                <a:lnTo>
                  <a:pt x="29221" y="21600"/>
                </a:lnTo>
                <a:lnTo>
                  <a:pt x="0" y="21600"/>
                </a:lnTo>
                <a:close/>
              </a:path>
              <a:path fill="lightenLess" w="29221" h="21600">
                <a:moveTo>
                  <a:pt x="0" y="0"/>
                </a:moveTo>
                <a:lnTo>
                  <a:pt x="29221" y="0"/>
                </a:lnTo>
                <a:lnTo>
                  <a:pt x="27821" y="1400"/>
                </a:lnTo>
                <a:lnTo>
                  <a:pt x="1400" y="1400"/>
                </a:lnTo>
                <a:close/>
              </a:path>
              <a:path fill="darken" w="29221" h="21600">
                <a:moveTo>
                  <a:pt x="29221" y="0"/>
                </a:moveTo>
                <a:lnTo>
                  <a:pt x="29221" y="21600"/>
                </a:lnTo>
                <a:lnTo>
                  <a:pt x="27821" y="20200"/>
                </a:lnTo>
                <a:lnTo>
                  <a:pt x="27821" y="1400"/>
                </a:lnTo>
                <a:close/>
              </a:path>
              <a:path fill="darkenLess" w="29221" h="21600">
                <a:moveTo>
                  <a:pt x="292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821" y="20200"/>
                </a:lnTo>
                <a:close/>
              </a:path>
              <a:path fill="lighten" w="292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221" h="21600">
                <a:moveTo>
                  <a:pt x="7604" y="10800"/>
                </a:moveTo>
                <a:lnTo>
                  <a:pt x="21617" y="3794"/>
                </a:lnTo>
                <a:lnTo>
                  <a:pt x="21617" y="17806"/>
                </a:lnTo>
                <a:close/>
              </a:path>
            </a:pathLst>
          </a:custGeom>
          <a:solidFill>
            <a:srgbClr val="f496cb"/>
          </a:solidFill>
          <a:ln cap="rnd" w="19080">
            <a:solidFill>
              <a:srgbClr val="b36d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0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3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6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eb3d9f"/>
                </a:solidFill>
                <a:latin typeface="Trebuchet MS"/>
              </a:rPr>
              <a:t>Kans op verstopping van sonde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Voeding koekt aan in de sond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 u="sng">
                <a:solidFill>
                  <a:srgbClr val="404040"/>
                </a:solidFill>
                <a:uFillTx/>
                <a:latin typeface="Trebuchet MS"/>
              </a:rPr>
              <a:t>Actie: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Trebuchet MS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Start en eindigen met 20 ml lauw water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Trebuchet MS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Minimaal 6x per dag sonde doorspoel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7" name="Actieknop: Terug of Vorige 3">
            <a:hlinkClick r:id="rId1" action="ppaction://hlinksldjump"/>
          </p:cNvPr>
          <p:cNvSpPr/>
          <p:nvPr/>
        </p:nvSpPr>
        <p:spPr>
          <a:xfrm>
            <a:off x="971640" y="4221000"/>
            <a:ext cx="610920" cy="503280"/>
          </a:xfrm>
          <a:custGeom>
            <a:avLst/>
            <a:gdLst>
              <a:gd name="textAreaLeft" fmla="*/ 32400 w 610920"/>
              <a:gd name="textAreaRight" fmla="*/ 578520 w 6109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6216" h="21600">
                <a:moveTo>
                  <a:pt x="0" y="0"/>
                </a:moveTo>
                <a:lnTo>
                  <a:pt x="26216" y="0"/>
                </a:lnTo>
                <a:lnTo>
                  <a:pt x="26216" y="21600"/>
                </a:lnTo>
                <a:lnTo>
                  <a:pt x="0" y="21600"/>
                </a:lnTo>
                <a:close/>
              </a:path>
              <a:path fill="lightenLess" w="26216" h="21600">
                <a:moveTo>
                  <a:pt x="0" y="0"/>
                </a:moveTo>
                <a:lnTo>
                  <a:pt x="26216" y="0"/>
                </a:lnTo>
                <a:lnTo>
                  <a:pt x="24816" y="1400"/>
                </a:lnTo>
                <a:lnTo>
                  <a:pt x="1400" y="1400"/>
                </a:lnTo>
                <a:close/>
              </a:path>
              <a:path fill="darken" w="26216" h="21600">
                <a:moveTo>
                  <a:pt x="26216" y="0"/>
                </a:moveTo>
                <a:lnTo>
                  <a:pt x="26216" y="21600"/>
                </a:lnTo>
                <a:lnTo>
                  <a:pt x="24816" y="20200"/>
                </a:lnTo>
                <a:lnTo>
                  <a:pt x="24816" y="1400"/>
                </a:lnTo>
                <a:close/>
              </a:path>
              <a:path fill="darkenLess" w="26216" h="21600">
                <a:moveTo>
                  <a:pt x="262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816" y="20200"/>
                </a:lnTo>
                <a:close/>
              </a:path>
              <a:path fill="lighten" w="262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216" h="21600">
                <a:moveTo>
                  <a:pt x="6102" y="10800"/>
                </a:moveTo>
                <a:lnTo>
                  <a:pt x="20115" y="3794"/>
                </a:lnTo>
                <a:lnTo>
                  <a:pt x="20115" y="17806"/>
                </a:lnTo>
                <a:close/>
              </a:path>
            </a:pathLst>
          </a:custGeom>
          <a:solidFill>
            <a:srgbClr val="f496cb"/>
          </a:solidFill>
          <a:ln cap="rnd" w="19080">
            <a:solidFill>
              <a:srgbClr val="b36d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3" dur="500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6" dur="500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eb3d9f"/>
                </a:solidFill>
                <a:latin typeface="Trebuchet MS"/>
              </a:rPr>
              <a:t>Verzorgen van PEG/PEJ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 u="sng">
                <a:solidFill>
                  <a:srgbClr val="404040"/>
                </a:solidFill>
                <a:uFillTx/>
                <a:latin typeface="Trebuchet MS"/>
              </a:rPr>
              <a:t>Pas aangelegd</a:t>
            </a: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: extra hygiën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Randen fistel genez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Trebuchet MS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Desinfecter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Trebuchet MS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1x per dag draai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Trebuchet MS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Betadine jodium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Trebuchet MS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Steriele splitgaa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 u="sng">
                <a:solidFill>
                  <a:srgbClr val="404040"/>
                </a:solidFill>
                <a:uFillTx/>
                <a:latin typeface="Trebuchet MS"/>
              </a:rPr>
              <a:t>Na 6 weken: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Trebuchet MS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Reinigen water zeep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Trebuchet MS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Steriele splitgaa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Trebuchet MS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1x per dag draai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40" name="Afbeelding 3" descr="PEG.bmp"/>
          <p:cNvPicPr/>
          <p:nvPr/>
        </p:nvPicPr>
        <p:blipFill>
          <a:blip r:embed="rId1"/>
          <a:stretch/>
        </p:blipFill>
        <p:spPr>
          <a:xfrm>
            <a:off x="6084720" y="1052640"/>
            <a:ext cx="2735280" cy="2523960"/>
          </a:xfrm>
          <a:prstGeom prst="rect">
            <a:avLst/>
          </a:prstGeom>
          <a:ln w="0">
            <a:noFill/>
          </a:ln>
        </p:spPr>
      </p:pic>
      <p:pic>
        <p:nvPicPr>
          <p:cNvPr id="241" name="Afbeelding 6" descr="peg 2.jpg"/>
          <p:cNvPicPr/>
          <p:nvPr/>
        </p:nvPicPr>
        <p:blipFill>
          <a:blip r:embed="rId2"/>
          <a:stretch/>
        </p:blipFill>
        <p:spPr>
          <a:xfrm>
            <a:off x="5651640" y="3789360"/>
            <a:ext cx="3214440" cy="223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3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eb3d9f"/>
                </a:solidFill>
                <a:latin typeface="Trebuchet MS"/>
              </a:rPr>
              <a:t>Mickey button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pic>
        <p:nvPicPr>
          <p:cNvPr id="243" name="Tijdelijke aanduiding voor inhoud 3" descr="Mickey sonde.bmp"/>
          <p:cNvPicPr/>
          <p:nvPr/>
        </p:nvPicPr>
        <p:blipFill>
          <a:blip r:embed="rId1"/>
          <a:stretch/>
        </p:blipFill>
        <p:spPr>
          <a:xfrm>
            <a:off x="611280" y="1341360"/>
            <a:ext cx="4330440" cy="3241800"/>
          </a:xfrm>
          <a:prstGeom prst="rect">
            <a:avLst/>
          </a:prstGeom>
          <a:ln w="0">
            <a:noFill/>
          </a:ln>
        </p:spPr>
      </p:pic>
      <p:pic>
        <p:nvPicPr>
          <p:cNvPr id="244" name="Afbeelding 4" descr="mickey sonde 1.bmp"/>
          <p:cNvPicPr/>
          <p:nvPr/>
        </p:nvPicPr>
        <p:blipFill>
          <a:blip r:embed="rId2"/>
          <a:stretch/>
        </p:blipFill>
        <p:spPr>
          <a:xfrm>
            <a:off x="5292720" y="3444840"/>
            <a:ext cx="3643200" cy="3218040"/>
          </a:xfrm>
          <a:prstGeom prst="rect">
            <a:avLst/>
          </a:prstGeom>
          <a:ln w="0">
            <a:noFill/>
          </a:ln>
        </p:spPr>
      </p:pic>
      <p:pic>
        <p:nvPicPr>
          <p:cNvPr id="245" name="Afbeelding 5" descr="mickey sonde 2.jpg"/>
          <p:cNvPicPr/>
          <p:nvPr/>
        </p:nvPicPr>
        <p:blipFill>
          <a:blip r:embed="rId3"/>
          <a:stretch/>
        </p:blipFill>
        <p:spPr>
          <a:xfrm>
            <a:off x="5796000" y="1268280"/>
            <a:ext cx="2133720" cy="20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eb3d9f"/>
                </a:solidFill>
                <a:latin typeface="Trebuchet MS"/>
              </a:rPr>
              <a:t>Berekenen hoeveelheid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1 ml = 20 druppel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hoeveelheid ml SV x druppels per ml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------------------------------------------= aantal druppels/min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aantal uren SV gegeven x 60 min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eb3d9f"/>
                </a:solidFill>
                <a:latin typeface="Trebuchet MS"/>
              </a:rPr>
              <a:t>Opdracht: arts spreekt af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2 liter sondevoeding per 24 uur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Wat is de druppelsnelheid?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2 lt = 2000  m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1 ml = 20 druppel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 u="sng">
                <a:solidFill>
                  <a:srgbClr val="404040"/>
                </a:solidFill>
                <a:uFillTx/>
                <a:latin typeface="Trebuchet MS"/>
              </a:rPr>
              <a:t>2000 x 20 </a:t>
            </a: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 = </a:t>
            </a:r>
            <a:r>
              <a:rPr b="0" lang="nl-NL" sz="2400" spc="-1" strike="noStrike" u="sng">
                <a:solidFill>
                  <a:srgbClr val="404040"/>
                </a:solidFill>
                <a:uFillTx/>
                <a:latin typeface="Trebuchet MS"/>
              </a:rPr>
              <a:t>40000 </a:t>
            </a: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= 28 druppels per minuut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24 x 60            1440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eb3d9f"/>
                </a:solidFill>
                <a:latin typeface="Trebuchet MS"/>
              </a:rPr>
              <a:t>Arts spreekt af: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1 liter in 8 uur (alleen ‘s nachts)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1 lt = 1000 m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1 ml = 20 druppels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 u="sng">
                <a:solidFill>
                  <a:srgbClr val="404040"/>
                </a:solidFill>
                <a:uFillTx/>
                <a:latin typeface="Trebuchet MS"/>
              </a:rPr>
              <a:t>1000 x 20 </a:t>
            </a: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= </a:t>
            </a:r>
            <a:r>
              <a:rPr b="0" lang="nl-NL" sz="2400" spc="-1" strike="noStrike" u="sng">
                <a:solidFill>
                  <a:srgbClr val="404040"/>
                </a:solidFill>
                <a:uFillTx/>
                <a:latin typeface="Trebuchet MS"/>
              </a:rPr>
              <a:t>20000 </a:t>
            </a: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= 41 druppels per minuut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8 x 60           480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eb3d9f"/>
                </a:solidFill>
                <a:latin typeface="Trebuchet MS"/>
              </a:rPr>
              <a:t>Opdracht: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09120" y="1700280"/>
            <a:ext cx="6626520" cy="434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Zoek een filmpje op het internet waar een sonde wordt ingebrach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Bekijk dit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Pak nu het protocol van Vilans erbij en leg dit ernaas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Wordt het protocol nauwgezet gevolgd? Zoek de overeenkomsten en de verschillen!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eb3d9f"/>
                </a:solidFill>
                <a:latin typeface="Trebuchet MS"/>
              </a:rPr>
              <a:t>Vragen? 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eb3d9f"/>
                </a:solidFill>
                <a:latin typeface="Trebuchet MS"/>
              </a:rPr>
              <a:t>Wat is sondevoeding?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Vloeibare voeding die geven wordt via kunstmatige verbinding met de maag/duodenum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- voeding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- voch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- medicijn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eb3d9f"/>
                </a:solidFill>
                <a:latin typeface="Trebuchet MS"/>
              </a:rPr>
              <a:t>Manieren van sondevoeding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Neus maagsonde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PEG (percutane endoscopische gastrostomie)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PEJ (percutane endoscopische jejunostomie)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Bolus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Continue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Spui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Systeem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" dur="500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" dur="500"/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" dur="500"/>
                                        <p:tgtEl>
                                          <p:spTgt spid="2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" dur="500"/>
                                        <p:tgtEl>
                                          <p:spTgt spid="2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eb3d9f"/>
                </a:solidFill>
                <a:latin typeface="Trebuchet MS"/>
              </a:rPr>
              <a:t>Wanneer sondevoeding geven?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26920" y="2276280"/>
            <a:ext cx="8066160" cy="384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Dreigende ondervoeding met een goed functionerend maagdarmkanaa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Aanvulling op diee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Aandoeningen: slikken/kauwen, slokdarm, maag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Verminderde eetlus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Slechte lichamelijke conditi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Langdurig voedselweigering (kind)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5" dur="5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8" dur="500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1" dur="500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4" dur="500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7" dur="500"/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0" dur="500"/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eb3d9f"/>
                </a:solidFill>
                <a:latin typeface="Trebuchet MS"/>
              </a:rPr>
              <a:t>Het inbrengen van een voedingssonde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Meest gebruikte: neus-maagsond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Voor behouden handeling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Bij langdurige sonde voeding: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PEG= Percutane Endoscopische Gastronomi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     </a:t>
            </a: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Door medische ingreep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Verwisseling mag door Verpleegkundig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eb3d9f"/>
                </a:solidFill>
                <a:latin typeface="Trebuchet MS"/>
              </a:rPr>
              <a:t>Neus-maag sonde inbrengen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Dikte van de sonde: Uitgedrukt in: charriere= CH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Comfort ZV&gt; zo dun mogelijke sond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Lengte van de sonde bepalen(neus-maag): volgens NEX Methode(pg 205)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eb3d9f"/>
                </a:solidFill>
                <a:latin typeface="Trebuchet MS"/>
              </a:rPr>
              <a:t>Aandachtspunten: voorbereiding en werkwijze ZV</a:t>
            </a:r>
            <a:endParaRPr b="0" lang="en-US" sz="32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Zorgvrager informeren over waarom en de werkwijze inbrengen van de sond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Aandacht voor angs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Attentie houd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Sonde nat (warm water)inbreng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Sonde controleren op maagretenti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Sonde bevestig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Nazorg ZV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Gegevens vastlegg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eb3d9f"/>
                </a:solidFill>
                <a:latin typeface="Trebuchet MS"/>
              </a:rPr>
              <a:t>Observatiepunten (tijdens inbrengen)</a:t>
            </a:r>
            <a:endParaRPr b="0" lang="en-US" sz="24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Benauwdheid en hoest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Sonde wil niet verder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Geen maagretentie krijg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Sonde kan opgerold komen te liggen in de keel tijdens inbrengen!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800" spc="-1" strike="noStrike">
                <a:solidFill>
                  <a:srgbClr val="eb3d9f"/>
                </a:solidFill>
                <a:latin typeface="Trebuchet MS"/>
              </a:rPr>
              <a:t>Complicatie: Kans op decubitus</a:t>
            </a:r>
            <a:endParaRPr b="0" lang="en-US" sz="28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Sonde zit te strak tegen neusvleug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 u="sng">
                <a:solidFill>
                  <a:srgbClr val="404040"/>
                </a:solidFill>
                <a:uFillTx/>
                <a:latin typeface="Trebuchet MS"/>
              </a:rPr>
              <a:t>Actie: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Trebuchet MS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Elke dag controle/ observati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Trebuchet MS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Elke dag pleister verschon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Trebuchet MS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Pleister op juiste wijze plakk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1" name="Actieknop: Terug of Vorige 3">
            <a:hlinkClick r:id="rId1" action="ppaction://hlinksldjump"/>
          </p:cNvPr>
          <p:cNvSpPr/>
          <p:nvPr/>
        </p:nvSpPr>
        <p:spPr>
          <a:xfrm>
            <a:off x="1258920" y="4941720"/>
            <a:ext cx="611280" cy="503280"/>
          </a:xfrm>
          <a:custGeom>
            <a:avLst/>
            <a:gdLst>
              <a:gd name="textAreaLeft" fmla="*/ 32400 w 611280"/>
              <a:gd name="textAreaRight" fmla="*/ 578880 w 6112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6232" h="21600">
                <a:moveTo>
                  <a:pt x="0" y="0"/>
                </a:moveTo>
                <a:lnTo>
                  <a:pt x="26232" y="0"/>
                </a:lnTo>
                <a:lnTo>
                  <a:pt x="26232" y="21600"/>
                </a:lnTo>
                <a:lnTo>
                  <a:pt x="0" y="21600"/>
                </a:lnTo>
                <a:close/>
              </a:path>
              <a:path fill="lightenLess" w="26232" h="21600">
                <a:moveTo>
                  <a:pt x="0" y="0"/>
                </a:moveTo>
                <a:lnTo>
                  <a:pt x="26232" y="0"/>
                </a:lnTo>
                <a:lnTo>
                  <a:pt x="24832" y="1400"/>
                </a:lnTo>
                <a:lnTo>
                  <a:pt x="1400" y="1400"/>
                </a:lnTo>
                <a:close/>
              </a:path>
              <a:path fill="darken" w="26232" h="21600">
                <a:moveTo>
                  <a:pt x="26232" y="0"/>
                </a:moveTo>
                <a:lnTo>
                  <a:pt x="26232" y="21600"/>
                </a:lnTo>
                <a:lnTo>
                  <a:pt x="24832" y="20200"/>
                </a:lnTo>
                <a:lnTo>
                  <a:pt x="24832" y="1400"/>
                </a:lnTo>
                <a:close/>
              </a:path>
              <a:path fill="darkenLess" w="26232" h="21600">
                <a:moveTo>
                  <a:pt x="262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832" y="20200"/>
                </a:lnTo>
                <a:close/>
              </a:path>
              <a:path fill="lighten" w="262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232" h="21600">
                <a:moveTo>
                  <a:pt x="6109" y="10800"/>
                </a:moveTo>
                <a:lnTo>
                  <a:pt x="20122" y="3794"/>
                </a:lnTo>
                <a:lnTo>
                  <a:pt x="20122" y="17806"/>
                </a:lnTo>
                <a:close/>
              </a:path>
            </a:pathLst>
          </a:custGeom>
          <a:solidFill>
            <a:srgbClr val="f496cb"/>
          </a:solidFill>
          <a:ln cap="rnd" w="19080">
            <a:solidFill>
              <a:srgbClr val="b36d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7" dur="500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0" dur="500"/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3" dur="500"/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. Scheltens-Flink</dc:creator>
  <dc:description/>
  <dc:language>en-US</dc:language>
  <cp:lastModifiedBy>Rina Niemeijer</cp:lastModifiedBy>
  <dcterms:modified xsi:type="dcterms:W3CDTF">2018-02-20T11:27:12Z</dcterms:modified>
  <cp:revision>23</cp:revision>
  <dc:subject/>
  <dc:title>Sondevoeding</dc:title>
</cp:coreProperties>
</file>