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5BDF-658D-4D15-9C1C-0597B80C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63D-7515-4E38-B625-4D6A4FF7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375F-9EA0-4E1D-BAF3-F8E59470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66CA-9BBF-4381-96C0-86A0DFF8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6129-F45B-4607-8684-8A3B183E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DD73-8115-42A6-A64C-1EEDE867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F1F1-154C-4547-8703-16C87836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2204-6E83-4992-9F13-CE8636D3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70BE-AEF4-4BDA-9B48-3F2F0948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8D28-4EF4-4959-943B-164BB2DC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9518-5EF8-4CC1-A37F-8199862E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185-AF98-40C2-B239-254ED653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CCFA-F965-4B4A-8D78-8009E18D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59F3-0A9A-448A-B7C3-202DF1E5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F050-2728-48CB-9642-1211315C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1EF2-95CE-4FDD-B375-0A2F1821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6BF2-A6D9-4579-BA87-2507C546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FD0-8048-4884-B154-2E4CCBC7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E8FD-7EA1-4986-8F42-49BAECD0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996-0C55-4774-92E7-EC23A75D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519-6BC7-4E7D-B4DD-E80EA194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A263-2159-4EBA-BBE0-07F1AFD1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778-9C9E-43C0-99BD-C2E51F74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8165-2260-45A8-B46A-32681F0C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DF0D-01D7-4B88-8B16-4401EFA4691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B977-AFB3-4010-BC68-707D57BD401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340000" y="256536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ostoperat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oorbehouden Hande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Juiste maat: charr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Informatievoorziening Z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septisch en hygiënisch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(fistel) in buik, boven schaambeen(os pubis)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k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oliklinisch onder plaatselijke verdov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cute ret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Schrompelbla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reventi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Afbeelding 3" descr="suprapubis.jpg"/>
          <p:cNvPicPr/>
          <p:nvPr/>
        </p:nvPicPr>
        <p:blipFill>
          <a:blip r:embed="rId1"/>
          <a:stretch/>
        </p:blipFill>
        <p:spPr>
          <a:xfrm>
            <a:off x="5364000" y="425772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oordelen Supra pub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v kan makkelijker verzor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blaasst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infec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belast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ksualit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vrouwen: minder kans op fecale infectie van anus naar ureth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mannen minder kans op prostatitis en urethr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Anatomie van de Urineweg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Picture 2" descr="Gerelateerde afbeelding"/>
          <p:cNvPicPr/>
          <p:nvPr/>
        </p:nvPicPr>
        <p:blipFill>
          <a:blip r:embed="rId1"/>
          <a:stretch/>
        </p:blipFill>
        <p:spPr>
          <a:xfrm>
            <a:off x="1370160" y="1473120"/>
            <a:ext cx="6777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erwijderen van de 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voudige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rk hygiënis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inbrengen: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verwijderen: wegwerp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Cad: eerst water uit de ballon hal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Zo nodig kweek katheter p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efe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aantrekken van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K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(vesica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Definitie Katheteriser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éénmali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te katheteris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lijfskatheter (Catheter à Demeu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/vernauwing van de urinebu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laton katheter(recht uitein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pra pubis kath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eenmalige blaasledi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ermitterend Katheteriseren: bij aandoeningen van de blaas en ruggemerg let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 man en vrouw: in de leng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coat en on gec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1 op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erbijfsk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Catheter à Deme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ft na inbrengen na 6 weken verwisseld te word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ij een Silliconen: 3 maanden intramuraal, 6 maanden extramuraal(afhankelijk instel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K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 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katheteriser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leegmaken en houden van de bla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wijkingen aan de urine we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ekte van de zorgvrager(kan niet naar de wc/ toi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llen van een diagnose: urine voor microbiologisch onderzo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acte bepaling resi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onderzoek zoals een cystograf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voor (verblijfs)blaa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Rina Niemeijer</cp:lastModifiedBy>
  <dcterms:modified xsi:type="dcterms:W3CDTF">2018-03-06T08:18:32Z</dcterms:modified>
  <cp:revision>39</cp:revision>
  <dc:subject/>
  <dc:title>Indeling WCS=</dc:title>
</cp:coreProperties>
</file>