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1ADC-BE7A-44BB-A6E9-EB6BBCD35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4525-6978-4A3F-B183-CC67D52B7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E840-39EB-474D-89F7-46D04A47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DE86-DEED-48AF-84FE-38F8094B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C029-80A2-448B-8D8A-C0263675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B1C2-8B9A-4E3D-92D8-25B95673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D4636-0F44-4050-A015-C376B825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50EA-6FF8-4CDE-B7E2-E528AF56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C9D1-8522-4DAF-A392-49321846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534D-6834-4579-B3D5-8AC6D54E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6602-2228-47E5-96B0-4E3AD7BD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05C1-F345-47C0-B23C-73262842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CE8B-18DE-4FFC-B103-CCB61616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7A33-8550-4B98-8D38-FC61BA39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D663-994F-416C-8818-79819D9C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3D11-DB45-4DD3-B2F0-FB7AEFDE5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2214-DA33-492E-B2EC-A0C08DED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D2B0A-280E-404B-AD78-BF04F707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C6215-4E4F-4EBB-9FF4-7333A165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AE499-1866-4CD3-A56E-83F84EBC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46B06-8CFC-4101-A1D7-8D13A590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2F999-53FD-4E01-8F74-70E9E9A5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B2CC-62DA-4D59-86D5-CCA82924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74358-E542-485F-B32D-060F6E29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F38CE-CA90-4A02-8A14-AD54B5E3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AD2B4-550B-49F5-B7BF-F2FBE36E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CE64C-AD4C-4222-90E6-9E540F34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9301F-4AEC-40D0-904B-E6B9D170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298FC-DB22-489D-B21E-91214BF0E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0D04B-74C7-4777-93D2-03D138D19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0405C-64F4-45D6-BC28-B0371ED7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C0D4D-7368-4271-8FC3-67791B25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98D97-1C7F-4986-9759-9A94F18F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E8DC-9FFE-484D-A123-3ED2E362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DE55F-9EAB-451D-9C0E-5215A649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7B458-A80F-47D8-96F8-E1052B832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3A775-880A-4D7A-AA94-D9590E4C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DD52D-CFD1-410D-B215-95410E69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4FD6A-CA98-48AA-A944-84527FD7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5191B-3C69-4BEA-8076-A24607F9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56D31-9C64-41D2-ACC3-FD1F4225E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A3C1E-2752-465B-BA89-34B663C98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314C3-6E8F-4166-AE1C-EAEB923E1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93DF-7900-4EEB-AE39-57F1A341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CEC3-8AA5-4E4A-ADF4-02AF4632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4593-5078-4A99-9F6D-883C9138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150B-A847-4B9C-94F6-BEA3BD94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4987-85F6-4B62-9B4D-1385517E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8A66B9-67B9-4888-A931-26CC256FFD24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8ADBEF-BAE5-4951-80A1-FE74EDD0C879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9972E2-4596-4C10-A2EE-A43EED648103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110421-60FE-46EF-9CC9-632C5D355531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eb3d9f"/>
                </a:solidFill>
                <a:latin typeface="Trebuchet MS"/>
              </a:rPr>
              <a:t>Sonde inbrengen </a:t>
            </a:r>
            <a:endParaRPr b="0" lang="en-US" sz="5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800" spc="-1" strike="noStrike">
              <a:solidFill>
                <a:srgbClr val="7f7f7f"/>
              </a:solidFill>
              <a:latin typeface="Trebuchet MS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5364000" y="330120"/>
            <a:ext cx="14241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ans dat sonde niet op juiste plaats zit of blijft zitt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opboeren, braken, hoesten kan sonde verplaat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elke voeding aansluiting sonde control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  Lucht in maag spui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kmoespapiertje(PH meting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Actieknop: Terug of Vorige 3">
            <a:hlinkClick r:id="rId1" action="ppaction://hlinksldjump"/>
          </p:cNvPr>
          <p:cNvSpPr/>
          <p:nvPr/>
        </p:nvSpPr>
        <p:spPr>
          <a:xfrm>
            <a:off x="1187280" y="5732640"/>
            <a:ext cx="682920" cy="504720"/>
          </a:xfrm>
          <a:custGeom>
            <a:avLst/>
            <a:gdLst>
              <a:gd name="textAreaLeft" fmla="*/ 32400 w 682920"/>
              <a:gd name="textAreaRight" fmla="*/ 650520 w 68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21" h="21600">
                <a:moveTo>
                  <a:pt x="0" y="0"/>
                </a:moveTo>
                <a:lnTo>
                  <a:pt x="29221" y="0"/>
                </a:lnTo>
                <a:lnTo>
                  <a:pt x="29221" y="21600"/>
                </a:lnTo>
                <a:lnTo>
                  <a:pt x="0" y="21600"/>
                </a:lnTo>
                <a:close/>
              </a:path>
              <a:path fill="lightenLess" w="29221" h="21600">
                <a:moveTo>
                  <a:pt x="0" y="0"/>
                </a:moveTo>
                <a:lnTo>
                  <a:pt x="29221" y="0"/>
                </a:lnTo>
                <a:lnTo>
                  <a:pt x="27821" y="1400"/>
                </a:lnTo>
                <a:lnTo>
                  <a:pt x="1400" y="1400"/>
                </a:lnTo>
                <a:close/>
              </a:path>
              <a:path fill="darken" w="29221" h="21600">
                <a:moveTo>
                  <a:pt x="29221" y="0"/>
                </a:moveTo>
                <a:lnTo>
                  <a:pt x="29221" y="21600"/>
                </a:lnTo>
                <a:lnTo>
                  <a:pt x="27821" y="20200"/>
                </a:lnTo>
                <a:lnTo>
                  <a:pt x="27821" y="1400"/>
                </a:lnTo>
                <a:close/>
              </a:path>
              <a:path fill="darkenLess" w="29221" h="21600">
                <a:moveTo>
                  <a:pt x="29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1" y="20200"/>
                </a:lnTo>
                <a:close/>
              </a:path>
              <a:path fill="lighten" w="29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1" h="21600">
                <a:moveTo>
                  <a:pt x="7604" y="10800"/>
                </a:moveTo>
                <a:lnTo>
                  <a:pt x="21617" y="3794"/>
                </a:lnTo>
                <a:lnTo>
                  <a:pt x="21617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ans op verstopping van son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eding koekt aan in d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art en eindigen met 20 ml lauw 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nimaal 6x per dag sonde doorspo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Actieknop: Terug of Vorige 3">
            <a:hlinkClick r:id="rId1" action="ppaction://hlinksldjump"/>
          </p:cNvPr>
          <p:cNvSpPr/>
          <p:nvPr/>
        </p:nvSpPr>
        <p:spPr>
          <a:xfrm>
            <a:off x="971640" y="4221000"/>
            <a:ext cx="610920" cy="503280"/>
          </a:xfrm>
          <a:custGeom>
            <a:avLst/>
            <a:gdLst>
              <a:gd name="textAreaLeft" fmla="*/ 32400 w 610920"/>
              <a:gd name="textAreaRight" fmla="*/ 578520 w 61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16" h="21600">
                <a:moveTo>
                  <a:pt x="0" y="0"/>
                </a:moveTo>
                <a:lnTo>
                  <a:pt x="26216" y="0"/>
                </a:lnTo>
                <a:lnTo>
                  <a:pt x="26216" y="21600"/>
                </a:lnTo>
                <a:lnTo>
                  <a:pt x="0" y="21600"/>
                </a:lnTo>
                <a:close/>
              </a:path>
              <a:path fill="lightenLess" w="26216" h="21600">
                <a:moveTo>
                  <a:pt x="0" y="0"/>
                </a:moveTo>
                <a:lnTo>
                  <a:pt x="26216" y="0"/>
                </a:lnTo>
                <a:lnTo>
                  <a:pt x="24816" y="1400"/>
                </a:lnTo>
                <a:lnTo>
                  <a:pt x="1400" y="1400"/>
                </a:lnTo>
                <a:close/>
              </a:path>
              <a:path fill="darken" w="26216" h="21600">
                <a:moveTo>
                  <a:pt x="26216" y="0"/>
                </a:moveTo>
                <a:lnTo>
                  <a:pt x="26216" y="21600"/>
                </a:lnTo>
                <a:lnTo>
                  <a:pt x="24816" y="20200"/>
                </a:lnTo>
                <a:lnTo>
                  <a:pt x="24816" y="1400"/>
                </a:lnTo>
                <a:close/>
              </a:path>
              <a:path fill="darkenLess" w="26216" h="21600">
                <a:moveTo>
                  <a:pt x="26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6" y="20200"/>
                </a:lnTo>
                <a:close/>
              </a:path>
              <a:path fill="lighten" w="26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16" h="21600">
                <a:moveTo>
                  <a:pt x="6102" y="10800"/>
                </a:moveTo>
                <a:lnTo>
                  <a:pt x="20115" y="3794"/>
                </a:lnTo>
                <a:lnTo>
                  <a:pt x="20115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zorgen van PEG/PEJ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Pas aangelegd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: extra hygië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anden fistel gen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esinfect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x per dag draai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tadine jodiu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riele splitga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Na 6 weken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inigen water z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riele splitga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x per dag draai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0" name="Afbeelding 3" descr="PEG.bmp"/>
          <p:cNvPicPr/>
          <p:nvPr/>
        </p:nvPicPr>
        <p:blipFill>
          <a:blip r:embed="rId1"/>
          <a:stretch/>
        </p:blipFill>
        <p:spPr>
          <a:xfrm>
            <a:off x="6084720" y="1052640"/>
            <a:ext cx="2735280" cy="2523960"/>
          </a:xfrm>
          <a:prstGeom prst="rect">
            <a:avLst/>
          </a:prstGeom>
          <a:ln w="0">
            <a:noFill/>
          </a:ln>
        </p:spPr>
      </p:pic>
      <p:pic>
        <p:nvPicPr>
          <p:cNvPr id="241" name="Afbeelding 6" descr="peg 2.jpg"/>
          <p:cNvPicPr/>
          <p:nvPr/>
        </p:nvPicPr>
        <p:blipFill>
          <a:blip r:embed="rId2"/>
          <a:stretch/>
        </p:blipFill>
        <p:spPr>
          <a:xfrm>
            <a:off x="5651640" y="3789360"/>
            <a:ext cx="321444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ickey butto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43" name="Tijdelijke aanduiding voor inhoud 3" descr="Mickey sonde.bmp"/>
          <p:cNvPicPr/>
          <p:nvPr/>
        </p:nvPicPr>
        <p:blipFill>
          <a:blip r:embed="rId1"/>
          <a:stretch/>
        </p:blipFill>
        <p:spPr>
          <a:xfrm>
            <a:off x="611280" y="1341360"/>
            <a:ext cx="4330440" cy="3241800"/>
          </a:xfrm>
          <a:prstGeom prst="rect">
            <a:avLst/>
          </a:prstGeom>
          <a:ln w="0">
            <a:noFill/>
          </a:ln>
        </p:spPr>
      </p:pic>
      <p:pic>
        <p:nvPicPr>
          <p:cNvPr id="244" name="Afbeelding 4" descr="mickey sonde 1.bmp"/>
          <p:cNvPicPr/>
          <p:nvPr/>
        </p:nvPicPr>
        <p:blipFill>
          <a:blip r:embed="rId2"/>
          <a:stretch/>
        </p:blipFill>
        <p:spPr>
          <a:xfrm>
            <a:off x="5292720" y="3444840"/>
            <a:ext cx="3643200" cy="3218040"/>
          </a:xfrm>
          <a:prstGeom prst="rect">
            <a:avLst/>
          </a:prstGeom>
          <a:ln w="0">
            <a:noFill/>
          </a:ln>
        </p:spPr>
      </p:pic>
      <p:pic>
        <p:nvPicPr>
          <p:cNvPr id="245" name="Afbeelding 5" descr="mickey sonde 2.jpg"/>
          <p:cNvPicPr/>
          <p:nvPr/>
        </p:nvPicPr>
        <p:blipFill>
          <a:blip r:embed="rId3"/>
          <a:stretch/>
        </p:blipFill>
        <p:spPr>
          <a:xfrm>
            <a:off x="5796000" y="1268280"/>
            <a:ext cx="21337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rekenen hoeveelheid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eveelheid ml SV x druppels per ml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------------------------------------------= aantal druppels/mi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tal uren SV gegeven x 60 min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pdracht: arts spreekt af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liter sondevoeding per 24 uu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t is de druppelsnelheid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lt = 2000  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2000 x 2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= </a:t>
            </a: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4000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28 druppels per minuu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24 x 60            144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Arts spreekt af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liter in 8 uur (alleen ‘s nacht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lt = 1000 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1000 x 2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</a:t>
            </a: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2000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41 druppels per minuu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8 x 60           48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pdracht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120" y="1700280"/>
            <a:ext cx="662652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oek een filmpje op het internet waar een sonde wordt ingebra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kijk di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ak nu het protocol van Vilans erbij en leg dit ernaa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ordt het protocol nauwgezet gevolgd? Zoek de overeenkomsten en de verschill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ragen?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Wat is sondevoeding?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loeibare voeding die geven wordt via kunstmatige verbinding met de maag/duodenu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o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o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medicij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anieren van sondevoeding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eus maagsond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G (percutane endoscopische gastrostomi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J (percutane endoscopische jejunostomi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olu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ntinu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ui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ysteem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Wanneer sondevoeding geven?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6920" y="2276280"/>
            <a:ext cx="806616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reigende ondervoeding met een goed functionerend maagdarmkanaa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vulling op diee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oeningen: slikken/kauwen, slokdarm, maag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minderde eetl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lechte lichamelijke condi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ngdurig voedselweigering (kin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Het inbrengen van een voedingsson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est gebruikte: neus-maag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behouden hande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ij langdurige sonde voeding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G= Percutane Endoscopische Gastronom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medische ingr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wisseling mag door Verpleegkundig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Neus-maag sonde inbreng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ikte van de sonde: Uitgedrukt in: charriere= C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mfort ZV&gt; zo dun mogelijk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engte van de sonde bepalen(neus-maag): volgens NEX Methode(pg 205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Aandachtspunten: voorbereiding en werkwijze ZV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orgvrager informeren over waarom en de werkwijze inbrengen van d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acht voor ang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ttentie hou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nat (warm water)inbre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controleren op maagret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bevesti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zorg ZV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gevens vastleg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eb3d9f"/>
                </a:solidFill>
                <a:latin typeface="Trebuchet MS"/>
              </a:rPr>
              <a:t>Observatiepunten (tijdens inbrengen)</a:t>
            </a:r>
            <a:endParaRPr b="0" lang="en-US" sz="2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nauwdheid en hoes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wil niet verd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en maagretentie krij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kan opgerold komen te liggen in de keel tijdens inbreng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3d9f"/>
                </a:solidFill>
                <a:latin typeface="Trebuchet MS"/>
              </a:rPr>
              <a:t>Complicatie: Kans op decubitus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zit te strak tegen neusvleug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lke dag controle/ observ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lke dag pleister verscho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leister op juiste wijze plak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Actieknop: Terug of Vorige 3">
            <a:hlinkClick r:id="rId1" action="ppaction://hlinksldjump"/>
          </p:cNvPr>
          <p:cNvSpPr/>
          <p:nvPr/>
        </p:nvSpPr>
        <p:spPr>
          <a:xfrm>
            <a:off x="1258920" y="4941720"/>
            <a:ext cx="611280" cy="50328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32" h="21600">
                <a:moveTo>
                  <a:pt x="0" y="0"/>
                </a:moveTo>
                <a:lnTo>
                  <a:pt x="26232" y="0"/>
                </a:lnTo>
                <a:lnTo>
                  <a:pt x="26232" y="21600"/>
                </a:lnTo>
                <a:lnTo>
                  <a:pt x="0" y="21600"/>
                </a:lnTo>
                <a:close/>
              </a:path>
              <a:path fill="lightenLess" w="26232" h="21600">
                <a:moveTo>
                  <a:pt x="0" y="0"/>
                </a:moveTo>
                <a:lnTo>
                  <a:pt x="26232" y="0"/>
                </a:lnTo>
                <a:lnTo>
                  <a:pt x="24832" y="1400"/>
                </a:lnTo>
                <a:lnTo>
                  <a:pt x="1400" y="1400"/>
                </a:lnTo>
                <a:close/>
              </a:path>
              <a:path fill="darken" w="26232" h="21600">
                <a:moveTo>
                  <a:pt x="26232" y="0"/>
                </a:moveTo>
                <a:lnTo>
                  <a:pt x="26232" y="21600"/>
                </a:lnTo>
                <a:lnTo>
                  <a:pt x="24832" y="20200"/>
                </a:lnTo>
                <a:lnTo>
                  <a:pt x="24832" y="1400"/>
                </a:lnTo>
                <a:close/>
              </a:path>
              <a:path fill="darkenLess" w="26232" h="21600">
                <a:moveTo>
                  <a:pt x="26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2" y="20200"/>
                </a:lnTo>
                <a:close/>
              </a:path>
              <a:path fill="lighten" w="26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32" h="21600">
                <a:moveTo>
                  <a:pt x="6109" y="10800"/>
                </a:moveTo>
                <a:lnTo>
                  <a:pt x="20122" y="3794"/>
                </a:lnTo>
                <a:lnTo>
                  <a:pt x="20122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Scheltens-Flink</dc:creator>
  <dc:description/>
  <dc:language>en-US</dc:language>
  <cp:lastModifiedBy>Rina Niemeijer</cp:lastModifiedBy>
  <dcterms:modified xsi:type="dcterms:W3CDTF">2018-02-20T11:27:12Z</dcterms:modified>
  <cp:revision>23</cp:revision>
  <dc:subject/>
  <dc:title>Sondevoeding</dc:title>
</cp:coreProperties>
</file>