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AACC-8F68-4EB6-9AE1-61CB25DD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D753-028B-4C07-91F7-0647D15E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3B88-77B5-44CB-A42A-8540F282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3854-AF0D-4F10-9368-8AF5461A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27EB-9D9E-457C-A4B0-4AFBD576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E501-E2E5-4CD0-8F4A-365F5D7B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5035-1581-48CD-B71A-46831763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8E9E-EA56-4E9B-8E94-2D640A64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5CAA-305D-4739-9A9D-B2001289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FCDF-1B1D-4821-A37C-61D747A3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7692-9D56-44C9-84C3-9C89F262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75EA-ED06-4BC7-ACA1-BFF68A44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CDC3-70F3-445A-8A9A-7355C515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53F2-7BF4-458C-A8C5-A3A3CBC2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530C-20B0-4228-AC7F-48C90FF2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63A4-C96E-404A-87B1-F03DF4A7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F000-522B-4F68-8782-CE166CDE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59BC-9482-4EF6-824B-0E0DD062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E73C-78F1-4585-8A25-7950FC54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4D9A-2068-43AA-8FF1-D60EB1BC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A1AB-2833-47B0-8987-04A543FA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8FB9-41B6-46FA-932C-B630CB85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A7A-571C-41B2-AEF3-C5C1747A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3A67-786B-429D-B4C7-58CD8848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927F-5F10-413C-9925-3C3353D8069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6420-4CC7-4FA4-9BA3-2AFF587E6CB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340000" y="256536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ostoperatie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oorbehouden Hande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Juiste maat: charri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Informatievoorziening Zv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septisch en hygiënisch werk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(fistel) in buik, boven schaambeen(os pubis)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k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oliklinisch onder plaatselijke verdov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cute ret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Schrompelbla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reventi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Afbeelding 3" descr="suprapubis.jpg"/>
          <p:cNvPicPr/>
          <p:nvPr/>
        </p:nvPicPr>
        <p:blipFill>
          <a:blip r:embed="rId1"/>
          <a:stretch/>
        </p:blipFill>
        <p:spPr>
          <a:xfrm>
            <a:off x="5364000" y="425772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02920" y="301320"/>
            <a:ext cx="728028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oordelen Supra pub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v kan makkelijker verzor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blaasst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infec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belast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eksualit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vrouwen: minder kans op fecale infectie van anus naar ureth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mannen minder kans op prostatitis en urethri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Anatomie van de Urineweg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Picture 2" descr="Gerelateerde afbeelding"/>
          <p:cNvPicPr/>
          <p:nvPr/>
        </p:nvPicPr>
        <p:blipFill>
          <a:blip r:embed="rId1"/>
          <a:stretch/>
        </p:blipFill>
        <p:spPr>
          <a:xfrm>
            <a:off x="1370160" y="1473120"/>
            <a:ext cx="67770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erwijderen van de 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voudige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erk hygiënis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inbrengen: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verwijderen: wegwerp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Cad: eerst water uit de ballon hal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Zo nodig kweek katheter pu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efe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aantrekken van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K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(vesica 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Definitie Katheteriser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éénmalig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te katheteris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lijfskatheter (Catheter à Demeu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/vernauwing van de urinebu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laton katheter(recht uitein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upra pubis kath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eenmalige blaasledig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ermitterend Katheteriseren: bij aandoeningen van de blaas en ruggemerg let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 man en vrouw: in de leng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coat en on geco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1 ope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Verbijfsk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Catheter à Deme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ft na inbrengen na 6 weken verwisseld te word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ij een Silliconen: 3 maanden intramuraal, 6 maanden extramuraal(afhankelijk instel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K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 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katheteriser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leegmaken en houden van de bla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fwijkingen aan de urine we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Ziekte van de zorgvrager(kan niet naar de wc/ toil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llen van een diagnose: urine voor microbiologisch onderzo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acte bepaling resi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onderzoek zoals een cystograf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voor (verblijfs)blaa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Rina Niemeijer</cp:lastModifiedBy>
  <dcterms:modified xsi:type="dcterms:W3CDTF">2018-03-06T08:18:32Z</dcterms:modified>
  <cp:revision>39</cp:revision>
  <dc:subject/>
  <dc:title>Indeling WCS=</dc:title>
</cp:coreProperties>
</file>