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B9135-EE97-41B7-A5D5-0FB2203AB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5E1CD-AAF5-4286-8663-B4ABCC3A6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F106B-78BC-45D5-BA3F-BCB049AC1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2E27F-1558-4ED3-A30E-6C811D228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3050A3-42B0-472E-8112-1A2C147D8E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EFABE-ACE8-4AEA-BF2F-3615EB3F9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7142B-9F42-477B-93A8-D2F173E55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A384C-8C2E-4DB1-BB19-EEFA66960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D0EAB-306C-4BF8-9AA8-5D6D9F61F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05911-2E35-42AC-92E0-FA1552E29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74D6D-347F-4AB8-A4D4-CAD2DF134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9DC97-9B7B-4507-82C8-73002B6C5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6DBB2-7EE7-4947-9752-8AD673D71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73893-88D2-4849-B8BC-AB2BB1FDF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43FD3-8187-45F8-8121-A36256ED9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9C84BB-2B36-4225-94A1-8342D47BDF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96AE0C-02D8-420F-AB2C-66C29E9BEE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336692-DE70-4BF5-B182-3A116B77D5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543A3E-1E6B-45EB-92D3-B006991DF4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90BC9D-A0A8-440B-94AA-F1443AB805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ABA6D6-ABCC-42E1-9CE6-A1B435C486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6BC3ED-1F6A-4FB1-9899-CC9156BF0C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A19EA-C6BF-48DC-B830-5E90CCD6C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8DDCC2-6A82-4282-BC56-3C1F028681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B38342-1CE6-4F25-9DA0-BA09FA31B6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C1E999-FC65-4C6A-9CCD-7D20000E52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DB9F87-A124-41E6-BE63-3F8BE03BF1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348CC2-DE18-432D-8A70-5D31433DB4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D6974B-7DDC-486E-B279-AD978E02E6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445B96-0519-4EE5-B78B-9E12F85528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A74E0F-17DC-4864-8607-C4C3BCCE15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7A7526-4A70-47C2-8595-152BEBF7E6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989911-36DF-40C5-9455-766E956A62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ECADC-AF55-4ED1-A340-DADCE74AF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483480-12BE-423F-9DAD-A71A5C2A24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7D4261-1CC1-41EF-A57B-A84569317A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CD0A71-9D81-45EC-9CD6-FA7EFB0C68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3D27FB-6593-44D6-8618-62AFFDC112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1A962F-43D1-48E8-82CF-8B6860754E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D5ECF2-B935-4FC5-BC22-5106DC67D8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75D0AE-62F7-4C37-9DA0-8C715931A3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68FB01-2444-4667-A7D8-FB8D0094A5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22421A-5B70-426A-9967-B2E9802556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1EBC0C-FAC1-4E6A-B80D-D1CE5BC942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0CE05-B142-4A70-AFC8-A3F10AECF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325962-DD2F-499C-AE3E-E33D9A78D7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869664-9747-48A4-AEEB-6517A46E30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88B001-0A4C-40B3-A6A9-83EFB581A4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777579-9BC7-42FA-A922-CC58CABC0A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07A955-82D2-44C8-9335-B61C40EFCF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507352-8D6E-433B-9C98-C476F11010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812CD7-6020-4ACF-8DD4-6C7CAF6991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1C27BB-C8E5-43D9-BD88-56C8CD0022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D8200F-9CEA-49F7-877E-A850FD83F9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510877-788B-4FCE-BB8A-20FB9465DE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24D96-B3EB-4FFC-B7AE-7FAEF7EAF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E59B6C-7072-4D14-8442-2296C009FD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C40505-CF30-41BE-84E4-D47C03DFD1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3FDAE8-3C08-4C60-8F2C-00EF008E56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BD3FFE-34E6-4B25-9299-DDEE716BDD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E81BD1-D7E9-4F6D-9E45-80E1E61791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925FE4-01FD-4A56-8352-7BE95EC944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533EDF-BD3A-46EB-AEDB-004D5B94E0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5ED255-F5F5-411C-95DB-1BFDFE9BF4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A062B3-FA91-4FF6-9A22-C3B738F856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AB05D9-45B2-483C-92EB-36F9D10E76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49387-D44C-4BE0-B089-B3912383F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FB2195-C5B3-4DE1-AB10-2F567A7960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6A952A-230D-4E4F-ACA4-67923DA14B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0BC3B0-8555-42F8-B6C0-8AAD7E1912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603B53-8D05-44DE-87A8-62BE2507A7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E7ECF4-B61E-4876-A338-FB3A2B072F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D98525-409A-48C7-A6D1-6E9DEF1DBD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9F7A3D-7DC7-4FDC-B791-EFE955BFFD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75BC5D-B010-4BBF-9207-6398C796E0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3E0D60-D3FC-4FEE-B185-DE15C7F762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D8CAE8-A686-4261-BCC5-004D204100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471D4-4093-40D2-B5F1-EE76FE1CE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F332F8-5ACF-49C8-8B10-51937F2E78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490D58-4557-46E2-8C98-950499218D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BB9364-0CB8-4912-B320-35C9BE3D63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F63FA4-61DD-41CF-9437-EAE07E2D98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33AF37-82FF-47D7-B618-22A047AD06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8EDC7-E8B0-4A3E-8451-54FF5F7CA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4E55F-7892-4A88-B218-77CAEE28AE18}"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2EC54-0892-4643-9504-4D578F97F864}"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A2B0-B197-4482-BA1F-B34759C4D35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46E31-AE6B-486B-8366-53088964865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544DE-4874-4450-8826-F5098BFD3EF3}"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E2F68-2B43-438C-A9F6-3294E6253682}"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C85B9-1805-4C2D-8726-A7AFE67E3560}"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loed wordt onvoldoende rond gepomp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Decompensatio Cordis/ vocht achter het hart</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Hartinfarct, hartziek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Niet goed werkende hartkleppe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uurstoftekort door hartprobl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Hoe reageert de ZV?</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gstig, verward, suf, helde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uding van een ZV: rechtop, liggend, op zij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leur: Cyanose, bleek, roo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ademhaling zelf: frequentie, wijze van AH: diep, ondiep, geluid: rochelend, piepend, snur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sputum? : kleur, consistentie, taaiheid,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P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 Bloeddruk , AH, HF, SP O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age collega, ar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 voor houding in bed:  vb drainage houdin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 grond van deze observaties: besluit O2 toedien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amengeperste O2 via de muurklok of via een cilin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af 5 liter/ minuut: O2 met watergeleiding(aqua pak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2 toedien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t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971640" y="2781000"/>
            <a:ext cx="7726320" cy="334332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er altijd goed op lekkage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naso- pharyngeale katheter: afmeten </a:t>
            </a:r>
            <a:r>
              <a:rPr b="0" lang="nl-NL" sz="2400" spc="-1" strike="noStrike" u="sng">
                <a:solidFill>
                  <a:srgbClr val="0080ff"/>
                </a:solidFill>
                <a:uFillTx/>
                <a:latin typeface="Candara"/>
                <a:hlinkClick r:id="rId1"/>
              </a:rPr>
              <a:t>van</a:t>
            </a:r>
            <a:r>
              <a:rPr b="0" lang="nl-NL" sz="2400" spc="-1" strike="noStrike">
                <a:solidFill>
                  <a:srgbClr val="073e87"/>
                </a:solidFill>
                <a:latin typeface="Candara"/>
              </a:rPr>
              <a:t> neusvleugel tot oorlel</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nijp voor het inbrengen van het vestibulair het spons- gedeelte same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el het gewenste aantal liters per minuut i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vochtiging</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ilige opbergplaats van de cilinder</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Berekenen va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4360" y="2205000"/>
            <a:ext cx="7596000" cy="39211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beva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1</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Uitgeademde lucht beva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17,0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 2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4,3 %</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tenswaardighede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68320" y="2491920"/>
            <a:ext cx="740736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ingen van CO2 (kooldioxide) en O2(zuurstof)</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 het bloed doo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O2 saturatie</a:t>
            </a:r>
            <a:r>
              <a:rPr b="0" lang="nl-NL" sz="2400" spc="-1" strike="noStrike">
                <a:solidFill>
                  <a:srgbClr val="073e87"/>
                </a:solidFill>
                <a:latin typeface="Candara"/>
              </a:rPr>
              <a:t>, O2sp: verzadiging van de erytrocyten met O2( “knijpe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Arteriële astrup</a:t>
            </a:r>
            <a:r>
              <a:rPr b="0" lang="nl-NL" sz="2400" spc="-1" strike="noStrike">
                <a:solidFill>
                  <a:srgbClr val="073e87"/>
                </a:solidFill>
                <a:latin typeface="Candara"/>
              </a:rPr>
              <a:t>: verhoudingen O2 en CO2 in het bloed</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in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yperventilat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nauwdhei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nelde hartactie ook in ru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art ritme stoorniss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hoogde bloeddruk (ang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ardheid door hypox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laperigheid: direct actie gebo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van O2 tek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voldoende lucht in de longe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umo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iet open staan van een long: pneumothorax</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knelling Trache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niet goed kunnen gebruiken van de ademhaling door: operatie, pijn, COPD of neurologisch letse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is ziek: bijv bij Cystic Fibro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rekt niet mee: Longemfysee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stroomt geen bloed langs de alveoli: trombose of vaatafsluit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ruk in het bloed is te hoog: geen opn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t vocht op plaatsen waar lucht moet zijn: longontsteking</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en O2 vanuit alveoli naar de bloedbaa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Rina Niemeijer</cp:lastModifiedBy>
  <dcterms:modified xsi:type="dcterms:W3CDTF">2018-04-08T08:06:23Z</dcterms:modified>
  <cp:revision>20</cp:revision>
  <dc:subject/>
  <dc:title>De ademhaling:</dc:title>
</cp:coreProperties>
</file>