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E4C3-5E08-490B-AEDC-72AA50B5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6900-FEA2-48A9-B924-422E2B54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A6E2-33B8-4851-BD9B-5892D186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7DC-608B-45F2-AEA7-F68FD92A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A36-07E4-4D2E-ADF4-FC450DE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E92-F636-461F-A9AE-EEFE0F4F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D39-643F-49F2-8107-C7A50950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5C2-BD43-4218-9998-556BD7A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B14-E4DE-47A8-A55D-CD2946B2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551D-BA24-49B6-B441-2FC86DBF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6BF-064F-483C-A0B1-49FDCF8D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0D6-F092-4978-99CC-6A309739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67C7-DF82-4DA4-A16E-6961A19B8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nstmes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keerde afs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691380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ar opletten bij het kunstmeststrooi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toer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uiste snelhei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lijke openingen dos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ede aanbouwhoog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rooier schoon ma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t op de win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6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bemesting: hiervan is sprake als er geen gewas op het veld sta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gt; 55 cm.: hiervan is sprake als er een gewas op het veld staat en het mogelijk is om de strooischijven meer dan 55 cm. boven het gewas te heff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bemesting &lt; 55 cm.: hiervan is sprake als er een gewas op het veld staat en het NIET mogelijk is om de strooischijven meer dan 55 cm. boven het gewas te heffe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draaipro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een afdraaiproef wordt bij een vooraf ingestelde stand van de doseerschuif bekeken of de hoeveelheid kunstmest die er uitstroomt juis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af 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wordt langs de perceelsrand gereden en is er een scherpe begrenzing van h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troo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ntstroo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t-opstr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an door de evt. spuitsporen gereden worden, maar is de begrenzing minder nauwkeu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Voordeel: geen extra spoor in het ge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Nadeel: Kans dat er kunstmest in het oppervlakte water of naast gelegen perc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eefrange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heef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korrelgrootteverdeling die ligt tussen de 2.00 en 4.75 m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rrelhardheidsm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ede kunstmest kan tegen een stootje van minstens 4 k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1341360"/>
            <a:ext cx="38116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3541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656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del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6800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2 – 1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74883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entrifugaalstrooi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Ratoflow strooier"/>
          <p:cNvPicPr/>
          <p:nvPr/>
        </p:nvPicPr>
        <p:blipFill>
          <a:blip r:embed="rId1"/>
          <a:stretch/>
        </p:blipFill>
        <p:spPr>
          <a:xfrm>
            <a:off x="1042920" y="1844640"/>
            <a:ext cx="691380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6 – 4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47640" y="3224160"/>
            <a:ext cx="61930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sche 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neumatisch kunstmest strooien"/>
          <p:cNvPicPr/>
          <p:nvPr/>
        </p:nvPicPr>
        <p:blipFill>
          <a:blip r:embed="rId1"/>
          <a:stretch/>
        </p:blipFill>
        <p:spPr>
          <a:xfrm>
            <a:off x="1042920" y="134136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breedte tot 24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42920" y="4149720"/>
            <a:ext cx="6985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oi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12800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2:50:20Z</dcterms:created>
  <dc:creator>eyk</dc:creator>
  <dc:description/>
  <dc:language>en-US</dc:language>
  <cp:lastModifiedBy>eyk</cp:lastModifiedBy>
  <dcterms:modified xsi:type="dcterms:W3CDTF">2009-04-15T14:17:44Z</dcterms:modified>
  <cp:revision>2</cp:revision>
  <dc:subject/>
  <dc:title>Kunstmeststrooien</dc:title>
</cp:coreProperties>
</file>