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C680-130E-4C9F-9834-A4465FDF6F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B29C-2CB5-47DC-A889-DF9F0FF838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2E7-CA25-4C16-B285-74E0D554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0D2-C3D2-4445-AA83-727E19EA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090-F402-4661-A7CD-D9C4EE21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C76-4256-426E-A86C-DECC4219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31D6-C61C-444B-AE0B-4C53E8C9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7F29-9BEA-40DD-B0BF-6CD60D80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4F69-3BE8-40C2-AB34-32235DE2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1188-7F98-4B2D-9B8A-48B1900B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ED58-7897-41C8-B760-F141BEFB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5471-7B05-4803-9C5D-28E43F17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CA78-8E36-4415-9A4A-8103577C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941-4C3B-4754-B0FE-546C59D0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A800-9DF0-4E7C-8B68-8D9D4A73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F6C8-570A-4F32-B33B-13E7139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032F-CCA7-469B-A693-47883098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9E30-DEB2-412F-ADCD-6A734644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D3EE-DE39-404F-AC1F-0816BBA6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486-40C9-4DDB-96DD-CC2EA6BF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848-89E8-49D4-834F-5368A5D9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C14-4A75-4AF8-8839-0531671C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652-EABE-4C15-8CB3-7B9E3988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E47-B1E1-4269-BCC0-818F9159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CE0-CDAF-4032-82E1-8A61045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180-0D10-4CA4-8E8B-EDC5DA5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66C4-1688-4D72-8643-EB884708E0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D2D1-938F-4C98-AA00-DC26B18AE2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rVBus_yFco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gd.groningen.nl/reisvaccinati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yf0n9HoW9o8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eentelijke (gemeenschappelij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zondhe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aken en bevorderen van de gezondheid van inwoners van een gemeente of van een aantal geme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Z = centrum indicatiestelling z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verzorging/verpleging t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opname verzorgings- of verpleeg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ciaal-medische advis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or een groot aantal gemeenten ondersteuning t.b.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voering WMO (= wet maatschappelijke ondersteu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.a. voorzieningen wonen en vervoer (gehandicap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rapl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rkeerka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ootmob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act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nto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inspuiten van tuberculine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ositief, dan heeft persoon antistoffen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ontacten van TBC-patië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asielzo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verslaaf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gezondheidszorgmedewe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N.B. BCG = vaccinatie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3" descr="Matoux.jpg"/>
          <p:cNvPicPr/>
          <p:nvPr/>
        </p:nvPicPr>
        <p:blipFill>
          <a:blip r:embed="rId1"/>
          <a:stretch/>
        </p:blipFill>
        <p:spPr>
          <a:xfrm>
            <a:off x="5867280" y="1628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en TBC in Martin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Tijdelijke aanduiding voor inhoud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76560"/>
            <a:ext cx="4175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ccin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izigersvaccin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k te halen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ninklijk instituut voor de trop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venziekenhuis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avelclinic Schiphol, en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patiti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61200" y="2565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Advies + ko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Tijdelijke aanduiding voor inhoud 3" descr="reizigersvaccin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14880" y="2766960"/>
            <a:ext cx="3124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orensische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s://youtu.be/yf0n9HoW9o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jkschouw (onnatuurlijke d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loedproeven (alcoholpromill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thadonverstr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rg voor gedetine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588000" y="35622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natuurlijke d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 overlijden niet door ziekte of ouderdom, maar doo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geval (verkeer/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uthan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t toetsing levensbeëindiging op verzoek en hulp bi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 (zorgvuldigheidcriter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ijwillig en weloverwogen v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zichtloos en ondraaglijk 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ichting over de medische situatie en de vooruitz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redelijke andere 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én andere onafhankelijke arts geraadpleegd (SC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EN = stichting consultatie euthanasie 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sch zorgvuldig uitvoeren van de levensbeëind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 is strafbaar totdat Officier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ustitie anders oordeelt na beoordelen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lagen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ende huisarts/speci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EN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GD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614920" y="4429080"/>
            <a:ext cx="1930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Jacolien Swierstra</cp:lastModifiedBy>
  <dcterms:modified xsi:type="dcterms:W3CDTF">2016-03-22T20:41:59Z</dcterms:modified>
  <cp:revision>106</cp:revision>
  <dc:subject/>
  <dc:title>Conclusies enquête panel DA</dc:title>
</cp:coreProperties>
</file>