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CF38-11DC-4A76-B47A-AA3B0073D3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1312-7196-4DC5-B46A-4DC3D75BEF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85E-31C3-45AF-AA05-52152B4F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D61-6079-4319-9EC3-1FB4025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655-1FC5-43F3-9729-660B8E55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9F3-6DBA-41FF-B15E-EC7C649D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65EC-B4FD-4EF1-A1E4-05407B19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3486-2D86-4657-9824-2AC88C53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EA29-1016-4251-B8AD-53705C2F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B5FF-A07E-4FDB-82E8-8B13077D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63F7-588D-4943-B3D7-5C602591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A572-EC53-498B-822F-23AA39D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EBBE-FF7D-43DB-BC3A-08A88AD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F8A-CF13-472B-96A9-792F2B11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C07A-8D2F-4C5A-AE83-659F5CB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1E92-3E76-42E5-8424-C3D5323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3438-4AA2-4842-881B-187DBAC3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345D-F160-42EE-AC0B-E23C9372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C6CB-5496-4FE4-BD26-025629D6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A10-66A1-4575-9983-55C818C1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F1A-CE22-4056-A542-6E065D0E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D55-8C95-4A4F-AD83-670D12A7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3FC-6A2F-492B-917B-2DBFF954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401-1270-4E91-8450-728D3A68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80E-CF0F-42D8-97CD-D7E9E795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346-305E-4453-9AA5-8F6CFD77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651C-1498-4FA3-AF1C-5FC8F00ADF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7799-A444-4E23-8973-F1EF00C8B9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rVBus_yFco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gd.groningen.nl/reisvaccinati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yf0n9HoW9o8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eentelijke (gemeenschappelij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zondhe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aken en bevorderen van de gezondheid van inwoners van een gemeente of van een aantal geme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Z = centrum indicatiestelling 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verzorging/verpleging t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opname verzorgings- of verpleeg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aal-medische advis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or een groot aantal gemeenten ondersteuning t.b.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voering WMO (= wet maatschappelijke ondersteu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.a. voorzieningen wonen en vervoer (gehandicap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apl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eerka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ootmob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act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nto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inspuiten van tuberculine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ositief, dan heeft persoon antistoffen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ontacten van TBC-patië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asielzo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verslaaf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gezondheidszorgmedewe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N.B. BCG = vaccinatie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3" descr="Matoux.jpg"/>
          <p:cNvPicPr/>
          <p:nvPr/>
        </p:nvPicPr>
        <p:blipFill>
          <a:blip r:embed="rId1"/>
          <a:stretch/>
        </p:blipFill>
        <p:spPr>
          <a:xfrm>
            <a:off x="5867280" y="1628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en TBC in Martin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Tijdelijke aanduiding voor inhoud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76560"/>
            <a:ext cx="4175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ccin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izigersvaccin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k te halen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ninklijk instituut voor de trop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venziekenhuis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avelclinic Schiphol, en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61200" y="256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Advies + ko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Tijdelijke aanduiding voor inhoud 3" descr="reizigersvaccin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14880" y="2766960"/>
            <a:ext cx="3124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orensische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s://youtu.be/yf0n9HoW9o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jkschouw (onnatuurlijke d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proeven (alcoholpromill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thadonverstr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rg voor gedetine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588000" y="35622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natuurlijke d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 overlijden niet door ziekte of ouderdom, maar doo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geval (verkeer/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uthan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t toetsing levensbeëindiging op verzoek en hulp bi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 (zorgvuldigheidcriter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ijwillig en weloverwogen v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zichtloos en ondraaglijk 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ichting over de medische situatie en de vooruitz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redelijke andere 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én andere onafhankelijke arts geraadpleegd (SC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EN = stichting consultatie euthanasie 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sch zorgvuldig uitvoeren van de levensbeëind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 is strafbaar totdat Officier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ustitie anders oordeelt na beoordelen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lagen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ende huisarts/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EN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GD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614920" y="4429080"/>
            <a:ext cx="1930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Jacolien Swierstra</cp:lastModifiedBy>
  <dcterms:modified xsi:type="dcterms:W3CDTF">2016-03-22T20:41:59Z</dcterms:modified>
  <cp:revision>106</cp:revision>
  <dc:subject/>
  <dc:title>Conclusies enquête panel DA</dc:title>
</cp:coreProperties>
</file>