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CEAD-65AF-45E2-AF41-B5392A80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23AC-E1AF-490B-B817-C967B926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6D37-61E3-45F4-8600-A182E2F3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4623-F018-4F07-8B38-05BD5E37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53AC-5C86-4AEC-8FE0-F6650653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E86E-DBC6-4DE3-AA09-1ED91810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866E-FA53-4038-A994-3F8B464C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8CE3-94BE-44B5-8A4A-7DCD3A8A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1A43-D09D-4083-8971-F066BAD9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D2F0-98E0-4778-B1B8-E3901454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B613-CF0C-4F13-AB9E-B48C9C06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F1DB-1F83-452F-B944-75FCAF3D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1859-5468-414B-898F-6F06E1055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nstmeststroo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keerde afst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691380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ar opletten bij het kunstmeststrooi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Juiste toeren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Juiste snelhei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elijke openingen doser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oede aanbouwhoog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trooier schoon mak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Let op de win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6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bemesting: hiervan is sprake als er geen gewas op het veld sta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bemesting &gt; 55 cm.: hiervan is sprake als er een gewas op het veld staat en het mogelijk is om de strooischijven meer dan 55 cm. boven het gewas te heff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bemesting &lt; 55 cm.: hiervan is sprake als er een gewas op het veld staat en het NIET mogelijk is om de strooischijven meer dan 55 cm. boven het gewas te heffe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draaipro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fdraaipro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een afdraaiproef wordt bij een vooraf ingestelde stand van de doseerschuif bekeken of de hoeveelheid kunstmest die er uitstroomt juis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ntstroo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nt-af stroo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wordt langs de perceelsrand gereden en is er een scherpe begrenzing van h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stroo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Voordeel: geen kunstmest in het oppervlakte water of naast gelegen perc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Nadeel: extra spoor in het ge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ntstroo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nt-opstroo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an door de evt. spuitsporen gereden worden, maar is de begrenzing minder nauwkeur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Voordeel: geen extra spoor in het ge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Nadeel: Kans dat er kunstmest in het oppervlakte water of naast gelegen perc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zeefrangeme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ede kunstmest heef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korrelgrootteverdeling die ligt tussen de 2.00 en 4.75 m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ndel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eumatische 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korrelhardheidsme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ede kunstmest kan tegen een stootje van minstens 4 k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84360" y="1341360"/>
            <a:ext cx="38116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54168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86568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del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68000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breedte 2 – 15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oibe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4221000"/>
            <a:ext cx="74883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entrifugaalstrooier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Ratoflow strooier"/>
          <p:cNvPicPr/>
          <p:nvPr/>
        </p:nvPicPr>
        <p:blipFill>
          <a:blip r:embed="rId1"/>
          <a:stretch/>
        </p:blipFill>
        <p:spPr>
          <a:xfrm>
            <a:off x="1042920" y="1844640"/>
            <a:ext cx="691380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breedte 6 – 45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oibe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47640" y="3224160"/>
            <a:ext cx="6193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neumatische 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Pneumatisch kunstmest strooien"/>
          <p:cNvPicPr/>
          <p:nvPr/>
        </p:nvPicPr>
        <p:blipFill>
          <a:blip r:embed="rId1"/>
          <a:stretch/>
        </p:blipFill>
        <p:spPr>
          <a:xfrm>
            <a:off x="1042920" y="134136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breedte tot 24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oibe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42920" y="4149720"/>
            <a:ext cx="698508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oibe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128000" cy="47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2:50:20Z</dcterms:created>
  <dc:creator>eyk</dc:creator>
  <dc:description/>
  <dc:language>en-US</dc:language>
  <cp:lastModifiedBy>eyk</cp:lastModifiedBy>
  <dcterms:modified xsi:type="dcterms:W3CDTF">2009-04-15T14:17:44Z</dcterms:modified>
  <cp:revision>2</cp:revision>
  <dc:subject/>
  <dc:title>Kunstmeststrooien</dc:title>
</cp:coreProperties>
</file>