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A496-8A76-4B89-9166-313C0871D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5466-8545-4333-BD79-08C7E30C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2E69-9646-44FE-B87D-0E61B9765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E81A-FD7B-4F5F-84F0-4CBA637E0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E82C-6C07-4163-B138-3695AF72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D38A-0048-47F2-9967-3EDDF754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C8F9-81AB-4B46-BD4B-03951169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BDD9-515A-4964-9095-E2235A5A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A017-08B6-401B-89FA-9D869783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1AD9-DA20-480B-8722-5ACD0C1B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D9F4-A1F5-45AC-BB73-D6A72292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39A6-AAB5-4BE3-B2AD-82A9A0DB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47CC-E530-45DC-8A21-795E08620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hydraulisch%20schema%20maaidorser" descr=""/>
          <p:cNvPicPr/>
          <p:nvPr/>
        </p:nvPicPr>
        <p:blipFill>
          <a:blip r:embed="rId1"/>
          <a:stretch/>
        </p:blipFill>
        <p:spPr>
          <a:xfrm>
            <a:off x="0" y="318960"/>
            <a:ext cx="8915400" cy="65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13:26:15Z</dcterms:created>
  <dc:creator>MBO Boxtel</dc:creator>
  <dc:description/>
  <dc:language>en-US</dc:language>
  <cp:lastModifiedBy>MBO Boxtel</cp:lastModifiedBy>
  <dcterms:modified xsi:type="dcterms:W3CDTF">2003-12-04T13:26:34Z</dcterms:modified>
  <cp:revision>1</cp:revision>
  <dc:subject/>
  <dc:title>PowerPoint-presentatie</dc:title>
</cp:coreProperties>
</file>