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move the slide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307E-DD0F-4806-A68A-9327F1794F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33E4-D8A0-41F8-9CC7-83D989374E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CBA1-A4BF-4716-9EC9-1845AADC4E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ABA1-1FF3-4AAC-A6EF-088FB688C6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1E58-DA71-4639-AD81-EB8E1A6BB0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C5AC-B20B-44BD-9454-27128FBB38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0666-D80A-43DB-829B-DB0FB03F8D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8D7C-53F3-4CFF-9479-89A6E3FC98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1B3-BBF2-4509-B847-3882225A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74D-E64B-42B7-8AAC-B9622E01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EAD7-DEF4-4726-A2EA-82A5237C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649-CBCB-4A32-82F7-0A8F01CC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5777-9A53-4A93-AD2B-C24AA673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F82A-4588-4C98-95CD-B76F3AAF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EF81-B09E-4FDA-9369-428F1212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806F-17C7-439B-99DD-F9AF4AC0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2CAD-141A-40B2-A918-D16AEF1E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FF01-0395-4859-A2E3-C803D707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B623-31D6-4F20-A6B5-8A48CE95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F654-1A36-487F-BBB2-A4128118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0806-6F81-492B-B4F0-7CA8677D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2316-E925-4110-9BD8-387BDDFB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F4BC-A0B7-49AC-B286-7783AE53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7805-13D8-4635-8AA6-3A23DC97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8A31-2C13-44D6-A783-DCB66BC8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4FC-DF37-4C25-85AE-A020F471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85F-4CD0-4D9E-B5B5-D378416C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0F5A-5231-4D5E-8F33-596C1BF2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438-3417-4BD9-9415-50BED225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90AA-6B41-4E33-8DBD-4036D3CD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9E8-878A-4BAA-96FA-96E6CFBF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FB8-5E64-4D81-ACBF-4803C28B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06C5-768D-4129-9920-5C15FA6ADDDB}" type="datetime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7B58-AB6D-4302-B2F9-E7087EFB38CE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755A-1562-4656-968C-F21F4D0ECAD7}" type="datetime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30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0630-4673-4B48-B658-10C4E766279B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ilans.nl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Eten en drink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In deze les leer je: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Herkennen van probleemgedrag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Stappenplan t.b.v. bevorderen en verbeteren eetgedrag bij ouderen met dementi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378400" y="3862440"/>
            <a:ext cx="33195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2 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neemt helemaal geen hap of slok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raakt het eten niet aa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uwt zijn bord of lepel weg, of (de hand van) de verzorgend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ijt op de lepel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ndt zijn hoofd af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udt zijn mond dich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udt zijn kiezen op elkaa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3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neemt wel een hap of slok, maar slikt het eten of drinken uiteindelijk niet door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kokhals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puugt het eten of drinken ui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alt het eten met zijn handen uit de mond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likt het eten of drinken niet doo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orzaken afweergedra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4920" y="1341360"/>
            <a:ext cx="705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willen, niet kunnen, niet begrijpe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en: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en trek, eten is niet lekk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woner voelt zich ongemakkelijk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ikproblemen,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agproblemen,                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selijkheid (bijvoorbeeld door medicijngebruik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 niet kunn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040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rzorgende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000" y="2212920"/>
            <a:ext cx="78483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ndelt niet adequaat: loopt weg tijdens het helpe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liest de aandacht tijdens het helpe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alt het eten (voortijdig) weg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edt te volle lepels aa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consistentie van het eten is niet geschikt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is te veel keus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 niet kunn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0" name="Rechthoek 7"/>
          <p:cNvSpPr/>
          <p:nvPr/>
        </p:nvSpPr>
        <p:spPr>
          <a:xfrm>
            <a:off x="1116000" y="1415880"/>
            <a:ext cx="71280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ZORGVRAG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eeft een aandoening van het zenuwstelsel of de spieren, b.v. apraxie (onvermogen om bewuste bewegingen  uit te voer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blemen met kauwen of slikken door een droge mond, gebitsproblemen of ontstekingen in de  mo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ichamelijke klach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sychische proble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bewoner zit of ligt in een verkeerde hou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ngst, gevoel van onveiligheid, stres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nel afgeleid, concentratiestoor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iet will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64680" y="160020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pressieve klachten, somberheid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ijwerking van medicijn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zorgvrager wil niet geholpen worden met eten of drinke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uit schaamt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ns om aan de eigen zelfstandigheid vast te houd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eten bevalt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zorgvrager heeft liever iets anders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et eten ziet er niet lekker ui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zorgvrager vindt het eten niet lekke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et eten is te warm of te koud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zorgvrager heeft een doodswens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33" name="Afbeelding 4" descr=""/>
          <p:cNvPicPr/>
          <p:nvPr/>
        </p:nvPicPr>
        <p:blipFill>
          <a:blip r:embed="rId1"/>
          <a:stretch/>
        </p:blipFill>
        <p:spPr>
          <a:xfrm>
            <a:off x="5437080" y="4078440"/>
            <a:ext cx="335916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et begrijp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herkent het eten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herkent gevoelens van honger of dorst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ziet de verzorgende als een vreemde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begrijpt de aanwijzingen van de verzorgende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is mogelijk dat de zorgvrager de prikkels die te maken hebben met eten of drinken niet waarneemt, bijvoorbeeld omdat hij slecht ziet of ruikt.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is ook mogelijk dat de zorgvrager geuren, voorwerpen of personen wel waarneemt, maar niet herkent. (agnosie)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begrijpt niet wat er van hem wordt verwacht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jf stappenpla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robleem vaststell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signaleren, benoem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gevens verzamel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inventariser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ader onderzoek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observer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n van aanpak 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beschrijven)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valuatie en nieuwe acties beschrijven</a:t>
            </a: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anaf stap 5 gaat stap 1 weer in werking…</a:t>
            </a: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6a55"/>
                </a:solidFill>
                <a:latin typeface="Calibri"/>
              </a:rPr>
              <a:t>Stap 1 Probleem vaststellen</a:t>
            </a:r>
            <a:endParaRPr b="0" lang="en-US" sz="32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obeer de bewoner toch iets te laten eten, maar dring niet onnodig aan. Stel in overleg met je collega’s vast of er sprake is van structureel afweergedrag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resultaat?  Stap 2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64680" y="1052280"/>
            <a:ext cx="4041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ructureel afweergedrag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dan 24 uur niets drink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dan 48 uur niets e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dere keren per week afweergedrag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e 2/3 poging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ed opnieuw aan na 5/10 minu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ed iets anders aa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41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40040" y="3068640"/>
            <a:ext cx="760320" cy="72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2"/>
          <a:stretch/>
        </p:blipFill>
        <p:spPr>
          <a:xfrm>
            <a:off x="3924360" y="414972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2 Gegevens verzamel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met de bewoner, collega-verzorgenden, de familie en de arts, en probeer erachter te komen wat de oorzaak van het afweergedrag kan zijn.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ud minimaal twee dagen een voedings- en vochtlijst bij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onbekend? STAP 3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met ander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art voeding en vochtlijst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stleggen in zorgdossier (bijv. afspraken met arts en familie  over niet ingrijpen comfortbehandeling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46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40040" y="2060640"/>
            <a:ext cx="76032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969920" y="3213000"/>
            <a:ext cx="760680" cy="64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4067280" y="4554360"/>
            <a:ext cx="86508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Wat betekent eten voor jou?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100" name="Picture 2" descr="C:\Users\adkro\Desktop\eten untitled.bmp"/>
          <p:cNvPicPr/>
          <p:nvPr/>
        </p:nvPicPr>
        <p:blipFill>
          <a:blip r:embed="rId1"/>
          <a:stretch/>
        </p:blipFill>
        <p:spPr>
          <a:xfrm>
            <a:off x="2340000" y="1916280"/>
            <a:ext cx="4103640" cy="312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6840" y="4149720"/>
            <a:ext cx="2746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3 Nader onderzoek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de oorzaak van het afweergedrag niet (meteen) duidelijk is, observeer en beschrijf dan het afweergedrag bij eten en drinken.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spreek je bevindingen in een MDO/bewonersbespreking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bekend: stap 4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onbekend: stap 4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bserveren en beschrijven van het gedrag (wat zie je, wanneer, andere verschijnselen)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tijdens MDO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indingen en afspraken noteren in zorgdossier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52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692360" y="263700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692360" y="3973680"/>
            <a:ext cx="758880" cy="823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3639960" y="4089240"/>
            <a:ext cx="855720" cy="592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3639960" y="4834080"/>
            <a:ext cx="85572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4 Plan van aanpak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orzaak onbekend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lg  adviezen /voorschriften op zoals die zijn vastgelegd in het zorgdossier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Niet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grijpen: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l ingrijpen: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fortbeleid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pass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terac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unica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voeding,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4" marL="17146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aaltijdambiance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nl-NL" sz="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bekend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olg  adviezen /voorschriften op zoals die zijn vastgelegd in het zorgdossier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ingrijpen: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l ingrijpen: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fortbeleid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richte interven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59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763640" y="194472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689040" y="38894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2627280" y="3905280"/>
            <a:ext cx="720720" cy="476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adkro\Pictures\pijl_onder.gif"/>
          <p:cNvPicPr/>
          <p:nvPr/>
        </p:nvPicPr>
        <p:blipFill>
          <a:blip r:embed="rId4"/>
          <a:stretch/>
        </p:blipFill>
        <p:spPr>
          <a:xfrm>
            <a:off x="5796000" y="192564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adkro\Pictures\pijl_onder.gif"/>
          <p:cNvPicPr/>
          <p:nvPr/>
        </p:nvPicPr>
        <p:blipFill>
          <a:blip r:embed="rId5"/>
          <a:stretch/>
        </p:blipFill>
        <p:spPr>
          <a:xfrm>
            <a:off x="4951440" y="3905280"/>
            <a:ext cx="71928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adkro\Pictures\pijl_onder.gif"/>
          <p:cNvPicPr/>
          <p:nvPr/>
        </p:nvPicPr>
        <p:blipFill>
          <a:blip r:embed="rId6"/>
          <a:stretch/>
        </p:blipFill>
        <p:spPr>
          <a:xfrm>
            <a:off x="7236000" y="3827520"/>
            <a:ext cx="649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5 Evaluatie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stleggen in zorgdossi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ee      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ug naar stap 3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mfortbeleid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stleggen in zorgdossi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: stop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68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563840" y="2666880"/>
            <a:ext cx="758520" cy="719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5508720" y="3914640"/>
            <a:ext cx="758880" cy="71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5508720" y="2697120"/>
            <a:ext cx="758880" cy="72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5599080" y="4886280"/>
            <a:ext cx="576360" cy="298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5"/>
          <a:stretch/>
        </p:blipFill>
        <p:spPr>
          <a:xfrm>
            <a:off x="5599080" y="5316480"/>
            <a:ext cx="57636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dracht 1: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Kookclub Beukenrode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alibri"/>
              </a:rPr>
              <a:t>http://www.youtube.com/watch?v=V6YBAbNr4Qk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4920" y="177336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ke interventies worden toegepas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beleven de leden van de kookclub de activitei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vind je dat de bewoners begeleid worden bij deze activitei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het effect van deze activiteit op de bewoners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76" name="Picture 3" descr="C:\Users\adkro\Desktop\untitled.bmp"/>
          <p:cNvPicPr/>
          <p:nvPr/>
        </p:nvPicPr>
        <p:blipFill>
          <a:blip r:embed="rId1"/>
          <a:stretch/>
        </p:blipFill>
        <p:spPr>
          <a:xfrm>
            <a:off x="5510160" y="3718080"/>
            <a:ext cx="32068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dracht 2: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rk het vijfstappenplan uit met een casus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80" name="Diagram 4" descr=""/>
          <p:cNvPicPr/>
          <p:nvPr/>
        </p:nvPicPr>
        <p:blipFill>
          <a:blip r:embed="rId1"/>
          <a:stretch/>
        </p:blipFill>
        <p:spPr>
          <a:xfrm>
            <a:off x="1762200" y="2554200"/>
            <a:ext cx="5808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Gezond oud word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lang van goede voeding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oeding als basisbehoeft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ven van eten en drinken is een teken van liefde”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bianc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04" name="Picture 2" descr="C:\Users\adkro\Desktop\images.jpg"/>
          <p:cNvPicPr/>
          <p:nvPr/>
        </p:nvPicPr>
        <p:blipFill>
          <a:blip r:embed="rId1"/>
          <a:stretch/>
        </p:blipFill>
        <p:spPr>
          <a:xfrm>
            <a:off x="4932360" y="4149720"/>
            <a:ext cx="29512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aat uw voeding uw medicijn zijn en uw medicijn uw voeding’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ippocrates, 4</a:t>
            </a:r>
            <a:r>
              <a:rPr b="0" lang="nl-NL" sz="21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eeuw v. Chr.</a:t>
            </a: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ijf van vijf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248440" y="2708280"/>
            <a:ext cx="3697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dervoedin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en verstoring van de balans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ussen opname en behoefte aan voedingsstoffen.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orzaken: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rstoorde inname van voedsel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nvoldoende beschikbaarheid van voedsel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name van spiermassa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ijfers ondervoedin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an de thuiszorgcliënten ouder dan 81 jaar is meer dan 30% ondervoed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Slechts een deel van de thuiszorgorganisaties screent alle cliënten op ondervoeding, terwijl screenen juist belangrijk is voor de preventie en behandeling van ondervoeding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Ondervoeding komt het meest voor op psycho-geriatrische afdelingen van verpleeghuizen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ron: </a:t>
            </a:r>
            <a:r>
              <a:rPr b="0" lang="en-US" sz="19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www.vilans.nl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ten en drinken in het zorgpla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5040" y="1600200"/>
            <a:ext cx="737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Zorgleefplan domein: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200" spc="-1" strike="noStrike">
                <a:solidFill>
                  <a:srgbClr val="000000"/>
                </a:solidFill>
                <a:latin typeface="Calibri"/>
              </a:rPr>
              <a:t>lichamelijk welbevinden 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bewoner mag rekenen op smakelijke hapjes en drankjes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nsen en gewoonten inventariseren en opnemen in het zorgleefpla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t en drinkgewoonten observeren 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5661000"/>
            <a:ext cx="40384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alibri"/>
              </a:rPr>
              <a:t>Dit valt onder de normen van verantwoorde zorg.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fweergedra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k gedrag van de zorgvrager dat eten en drinken bemoeilijkt of onmogelijk maakt.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7" name="Afbeelding 4" descr=""/>
          <p:cNvPicPr/>
          <p:nvPr/>
        </p:nvPicPr>
        <p:blipFill>
          <a:blip r:embed="rId1"/>
          <a:stretch/>
        </p:blipFill>
        <p:spPr>
          <a:xfrm>
            <a:off x="2090880" y="2779560"/>
            <a:ext cx="53211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1  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komt niet aan tafel zit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igert om naar de ruimte te gaan waar gegeten word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loopt weg van tafel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igert verbaal (‘Ik wil niet’)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06:23Z</dcterms:created>
  <dc:creator>Corien de Gier</dc:creator>
  <dc:description/>
  <dc:language>en-US</dc:language>
  <cp:lastModifiedBy>Dineke van der Ven</cp:lastModifiedBy>
  <dcterms:modified xsi:type="dcterms:W3CDTF">2015-09-01T13:55:39Z</dcterms:modified>
  <cp:revision>106</cp:revision>
  <dc:subject/>
  <dc:title>Eten en drinken</dc:title>
</cp:coreProperties>
</file>