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F4D0-23DD-47E8-B58B-3BC84D5614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1CE3-2806-4585-A59C-D2F5EE433E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07EE-5CAC-4C7C-8F95-BE5C553E37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ADE-F969-48D7-88E2-6B6AE1D2B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3051-D5E8-47ED-A1DE-BD8C87A7EF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FDB7-95C8-4212-A66A-C6237709D0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3A39-A172-4B0E-ACB5-1BACC03790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849E-ADB5-4A99-B716-451D332CA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215-EEBC-45A7-AB3F-E4594589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758-CD92-4AC9-BD8D-9CA7122B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DB2-B622-45FE-8F9F-00D23797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EC4-8CE1-4CB0-B36A-CE56F585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8ED9-20F1-419C-BEE5-C8D4ACDE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7E2E-0570-459D-BBC4-40F998A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6B3D-7598-4C6D-A57C-8F13E39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315E-B54C-4CAD-A4CA-2C6AC89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D464-2777-4AD1-8ECA-2544B279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E2B4-1F07-4945-9A92-D93BB39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A1E3-D6FB-4FF7-AF71-762DABF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A3F-A4AD-4B2A-B6D7-EA735CFA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F48D-7E8B-40DC-9437-E8533BF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04EB-B694-48D4-A524-4DC350C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2B84-AE81-4DF5-B2CF-A2DA4772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AE28-3350-4318-A337-5FAEC91E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5B0-B675-443F-BFD6-CEB93D3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997-0B8C-4CF3-9C48-419AE5B1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5A3-042D-43DF-83E9-3C54D857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C89-4909-4967-B33F-561DF990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515-E245-4E23-A138-AC26743B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B87-5C0C-4FE9-9328-EC30129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3B0-12D7-46E4-BC42-0417E188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66B-53FC-441F-A80A-CC714D28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52F-135B-4D9A-8F27-FD676BBC2886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D246-D097-4A04-904C-01DFE8A1483E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C251-419C-4205-A1A7-8E26DFE9F016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CA42-49E0-44A3-B541-D93493E6D3B7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ten en drink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In deze les leer je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78400" y="38624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2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helemaal geen hap of slok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raakt het eten niet aa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uwt zijn bord of lepel weg, of (de hand van) de verzorgen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t op de lep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dt zijn hoofd af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mond dich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kiezen op elkaa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3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wel een hap of slok, maar slikt het eten of drinken uiteindelijk niet door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khals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puugt het eten of drinken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alt het eten met zijn handen uit de mon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likt het eten of drinken niet doo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orzaken 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360"/>
            <a:ext cx="705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willen, niet kunnen, niet begrijp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en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n trek, eten is niet lekk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woner voelt zich ongemakkelij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kproblemen,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agproblemen,             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elijkheid (bijvoorbeeld door medicijngebruik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rzorgend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2212920"/>
            <a:ext cx="78483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ndelt niet adequaat: loopt weg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iest de aandacht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alt het eten (voortijdig) weg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edt te volle lepels a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onsistentie van het eten is niet geschikt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is te veel keu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Rechthoek 7"/>
          <p:cNvSpPr/>
          <p:nvPr/>
        </p:nvSpPr>
        <p:spPr>
          <a:xfrm>
            <a:off x="1116000" y="1415880"/>
            <a:ext cx="7128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ZORGVRA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eft een aandoening van het zenuwstelsel of de spieren, b.v. apraxie (onvermogen om bewuste bewegingen  uit te voer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blemen met kauwen of slikken door een droge mond, gebitsproblemen of ontstekingen in de  m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ichamelijke klach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sychische 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zit of ligt in een verkeerde hou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ngst, gevoel van onveiligheid, stres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nel afgeleid, concentratiestoo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iet will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4680" y="160020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pressieve klachten, somberhei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werking van medicijn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wil niet geholpen worden met eten of drink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uit schaamt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s om aan de eigen zelfstandigheid vast te houd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eten beval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heeft liever iets anders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ziet er niet lekker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vindt het eten niet lekke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is te warm of te kou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heeft een doodswe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tretch/>
        </p:blipFill>
        <p:spPr>
          <a:xfrm>
            <a:off x="5437080" y="4078440"/>
            <a:ext cx="33591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begrijp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het eten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gevoelens van honger of dors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ziet de verzorgende als een vreemd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de aanwijzingen van de verzorgende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ook mogelijk dat de zorgvrager geuren, voorwerpen of personen wel waarneemt, maar niet herkent. (agnosie)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niet wat er van hem wordt verwacht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jf stappen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signaleren, benoem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inventaris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observ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beschrijven)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aluatie en nieuwe acties beschrijven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naf stap 5 gaat stap 1 weer in werking…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6a55"/>
                </a:solidFill>
                <a:latin typeface="Calibri"/>
              </a:rPr>
              <a:t>Stap 1 Probleem vaststellen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resultaat?  Stap 2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4680" y="1052280"/>
            <a:ext cx="4041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ructureel afweergedrag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24 uur niets drink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48 uur niets e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dere keren per week afweergedrag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e 2/3 poging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opnieuw aan na 5/10 minu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iets anders aa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1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3068640"/>
            <a:ext cx="7603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24360" y="414972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 Gegevens verzamel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ud minimaal twee dagen een voedings- en vochtlijst bij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? STAP 3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ander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rt voeding en vochtlij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206064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969920" y="3213000"/>
            <a:ext cx="76068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00" name="Picture 2" descr="C:\Users\adkro\Desktop\eten untitled.bmp"/>
          <p:cNvPicPr/>
          <p:nvPr/>
        </p:nvPicPr>
        <p:blipFill>
          <a:blip r:embed="rId1"/>
          <a:stretch/>
        </p:blipFill>
        <p:spPr>
          <a:xfrm>
            <a:off x="2340000" y="1916280"/>
            <a:ext cx="4103640" cy="31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4149720"/>
            <a:ext cx="2746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 Nader onderzoe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de oorzaak van het afweergedrag niet (meteen) duidelijk is, observeer en beschrijf dan het afweergedrag bij eten en drinke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preek je bevindingen in een MDO/bewonersbesprekin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bserveren en beschrijven van het gedrag (wat zie je, wanneer, andere verschijnselen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tijdens MDO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indingen en afspraken noteren in zorgdossier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2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63700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39960" y="408924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Plan van aanpa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rzaak onbekend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pass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terac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oeding,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4" marL="1714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altijdambiance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nl-NL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richte interven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63640" y="1944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5796000" y="1925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4951440" y="390528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236000" y="382752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5 Evaluati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ee      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 naar stap 3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mfortbeleid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: stop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6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63840" y="2666880"/>
            <a:ext cx="75852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1464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488628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316480"/>
            <a:ext cx="57636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1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Kookclub Beukenrod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http://www.youtube.com/watch?v=V6YBAbNr4Q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1773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interventies worden toegepas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beleven de leden van de kookclub d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ind je dat de bewoners begeleid worden bij dez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het effect van deze activiteit op de bewoners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76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5510160" y="3718080"/>
            <a:ext cx="3206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2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 het vijfstappenplan uit met een casu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1"/>
          <a:stretch/>
        </p:blipFill>
        <p:spPr>
          <a:xfrm>
            <a:off x="1762200" y="2554200"/>
            <a:ext cx="5808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Gezond oud word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bianc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4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932360" y="4149720"/>
            <a:ext cx="2951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aat uw voeding uw medicijn zijn en uw medicijn uw voeding’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ippocrates, 4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eeuw v. Chr.</a:t>
            </a: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ijf van vijf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48440" y="2708280"/>
            <a:ext cx="3697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en verstoring van de balans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ussen opname en behoefte aan voedingsstoffen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toorde inname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nvoldoende beschikbaarheid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name van spiermass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jfers 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an de thuiszorgcliënten ouder dan 81 jaar is meer dan 30% ondervoed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ndervoeding komt het meest voor op psycho-geriatrische afdelingen van verpleeghuizen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on: </a:t>
            </a:r>
            <a:r>
              <a:rPr b="0" lang="en-US" sz="19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www.vilans.nl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ten en drinken in het zorg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Zorgleefplan domein: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Calibri"/>
              </a:rPr>
              <a:t>lichamelijk welbevinden 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mag rekenen op smakelijke hapjes en drankje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nsen en gewoonten inventariseren en opnemen in het zorgleefpl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t en drinkgewoonten observeren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5661000"/>
            <a:ext cx="40384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Dit valt onder de normen van verantwoorde zorg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1 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komt niet aan tafel zit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om naar de ruimte te gaan waar gegeten word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loopt weg van taf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verbaal (‘Ik wil niet’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Dineke van der Ven</cp:lastModifiedBy>
  <dcterms:modified xsi:type="dcterms:W3CDTF">2015-09-01T13:55:39Z</dcterms:modified>
  <cp:revision>106</cp:revision>
  <dc:subject/>
  <dc:title>Eten en drinken</dc:title>
</cp:coreProperties>
</file>