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move the slide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A93D-4741-43F8-990B-7F1AFAD94F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CAEA-353B-48F1-864C-4BA3F37C54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8867-A723-48B6-AEBA-4D42EAB193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E3DA-A20E-4447-9FC7-456ADA4678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73F7-F40D-4253-BAA9-DD738D1222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C8D7-5B59-46D8-A7C9-0D305CA001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B7CC-33DD-4370-85D4-6B5C12DD21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A165-E961-4D41-B2F2-B6102A3355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9E4-EB10-4E9F-A34B-2F7D3001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44C-0AD2-448F-82C5-29DB92A4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F33-8035-4393-92C6-9072F42F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413-ECE8-4223-9255-B3C83E8F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97E2-40A5-4F62-A3A9-290D267A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F947-D505-4C0F-8764-A17393F6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ACD7-36C7-4462-8BD6-43FA900A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18C1-9489-487D-9207-416F706B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07D5-F11B-425C-97A3-8CFFD440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1CC6-5EB3-405C-B9D1-5AC810B1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B7C6-2177-4C0B-A088-855698B8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77F-8AB4-4FCF-A5A2-7D039227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8642-933E-4A17-8EE8-5D52E3E0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A77F-3F3E-4025-9951-4B2DE62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9E1F-D602-46CA-9402-74992BF8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8B04-43C9-4E97-A2B3-ECDFC130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A861-1EA1-42BE-9771-084E013A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2AA-BC2A-4E65-A6E2-302E3136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4F7-2520-474C-AF68-B9658972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527-9BA8-4693-B86C-8C93E3F8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DA3-49AE-46AA-B43A-AA34E1DC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FD4-ED2E-4A3B-9818-72DCAD43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DB0-82BA-41BC-9B46-2ED1D8AE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56D-EDA1-4389-9767-BE93A3FC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F5F3-9C05-4EB6-AC43-582340CBDDD3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F63D-1FF7-4B51-98D5-154C5314B270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FC3A-0359-4396-9EBA-8DE5E788B813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3F87-51D8-4CF8-BAF0-B626A3A14546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lans.nl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ten en drink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In deze les leer je: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Herkennen van probleemgedrag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Stappenplan t.b.v. bevorderen en verbeteren eetgedrag bij ouderen met dementi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378400" y="3862440"/>
            <a:ext cx="3319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2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helemaal geen hap of slok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raakt het eten niet aa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uwt zijn bord of lepel weg, of (de hand van) de verzorgend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t op de lep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dt zijn hoofd af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mond dich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kiezen op elkaa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3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wel een hap of slok, maar slikt het eten of drinken uiteindelijk niet door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kokhals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puugt het eten of drinken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alt het eten met zijn handen uit de mon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likt het eten of drinken niet doo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orzaken 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341360"/>
            <a:ext cx="705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willen, niet kunnen, niet begrijp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en: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en trek, eten is niet lekk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woner voelt zich ongemakkelij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ikproblemen,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agproblemen,             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elijkheid (bijvoorbeeld door medicijngebruik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rzorgende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000" y="2212920"/>
            <a:ext cx="78483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ndelt niet adequaat: loopt weg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iest de aandacht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alt het eten (voortijdig) weg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edt te volle lepels a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onsistentie van het eten is niet geschikt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is te veel keu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0" name="Rechthoek 7"/>
          <p:cNvSpPr/>
          <p:nvPr/>
        </p:nvSpPr>
        <p:spPr>
          <a:xfrm>
            <a:off x="1116000" y="1415880"/>
            <a:ext cx="71280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ZORGVRAG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eft een aandoening van het zenuwstelsel of de spieren, b.v. apraxie (onvermogen om bewuste bewegingen  uit te voer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blemen met kauwen of slikken door een droge mond, gebitsproblemen of ontstekingen in de  mo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ichamelijke klach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sychische 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zit of ligt in een verkeerde hou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ngst, gevoel van onveiligheid, stres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nel afgeleid, concentratiestoor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iet will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4680" y="160020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pressieve klachten, somberheid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werking van medicijn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wil niet geholpen worden met eten of drink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uit schaamt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s om aan de eigen zelfstandigheid vast te houd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eten beval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heeft liever iets anders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ziet er niet lekker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vindt het eten niet lekke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is te warm of te kou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heeft een doodswens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tretch/>
        </p:blipFill>
        <p:spPr>
          <a:xfrm>
            <a:off x="5437080" y="4078440"/>
            <a:ext cx="33591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begrijp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het eten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gevoelens van honger of dors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ziet de verzorgende als een vreemd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de aanwijzingen van de verzorgende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mogelijk dat de zorgvrager de prikkels die te maken hebben met eten of drinken niet waarneemt, bijvoorbeeld omdat hij slecht ziet of ruikt.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ook mogelijk dat de zorgvrager geuren, voorwerpen of personen wel waarneemt, maar niet herkent. (agnosie)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niet wat er van hem wordt verwacht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jf stappen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robleem vaststel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signaleren, benoem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gevens verzame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inventaris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der onderzoek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observ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n van aanpak 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beschrijven)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valuatie en nieuwe acties beschrijven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anaf stap 5 gaat stap 1 weer in werking…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6a55"/>
                </a:solidFill>
                <a:latin typeface="Calibri"/>
              </a:rPr>
              <a:t>Stap 1 Probleem vaststellen</a:t>
            </a:r>
            <a:endParaRPr b="0" lang="en-US" sz="32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obeer de bewoner toch iets te laten eten, maar dring niet onnodig aan. Stel in overleg met je collega’s vast of er sprake is van structureel afweergedra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resultaat?  Stap 2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4680" y="1052280"/>
            <a:ext cx="4041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ructureel afweergedrag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24 uur niets drink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48 uur niets e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dere keren per week afweergedrag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e 2/3 poging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opnieuw aan na 5/10 minu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iets anders aa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1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3068640"/>
            <a:ext cx="76032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2"/>
          <a:stretch/>
        </p:blipFill>
        <p:spPr>
          <a:xfrm>
            <a:off x="3924360" y="414972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 Gegevens verzamel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de bewoner, collega-verzorgenden, de familie en de arts, en probeer erachter te komen wat de oorzaak van het afweergedrag kan zij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ud minimaal twee dagen een voedings- en vochtlijst bij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? STAP 3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ander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art voeding en vochtlijst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stleggen in zorgdossier (bijv. afspraken met arts en familie  over niet ingrijpen comfortbehandeling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6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206064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969920" y="3213000"/>
            <a:ext cx="760680" cy="64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4067280" y="4554360"/>
            <a:ext cx="86508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Wat betekent eten voor jou?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00" name="Picture 2" descr="C:\Users\adkro\Desktop\eten untitled.bmp"/>
          <p:cNvPicPr/>
          <p:nvPr/>
        </p:nvPicPr>
        <p:blipFill>
          <a:blip r:embed="rId1"/>
          <a:stretch/>
        </p:blipFill>
        <p:spPr>
          <a:xfrm>
            <a:off x="2340000" y="1916280"/>
            <a:ext cx="4103640" cy="312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6840" y="4149720"/>
            <a:ext cx="2746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 Nader onderzoe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de oorzaak van het afweergedrag niet (meteen) duidelijk is, observeer en beschrijf dan het afweergedrag bij eten en drinke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spreek je bevindingen in een MDO/bewonersbesprekin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bserveren en beschrijven van het gedrag (wat zie je, wanneer, andere verschijnselen)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tijdens MDO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indingen en afspraken noteren in zorgdossier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2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692360" y="263700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692360" y="3973680"/>
            <a:ext cx="758880" cy="82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3639960" y="4089240"/>
            <a:ext cx="855720" cy="59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3639960" y="4834080"/>
            <a:ext cx="8557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Plan van aanpa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orzaak onbekend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pass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terac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voeding,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4" marL="1714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aaltijdambiance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nl-NL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richte interven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9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763640" y="194472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689040" y="38894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2627280" y="390528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adkro\Pictures\pijl_onder.gif"/>
          <p:cNvPicPr/>
          <p:nvPr/>
        </p:nvPicPr>
        <p:blipFill>
          <a:blip r:embed="rId4"/>
          <a:stretch/>
        </p:blipFill>
        <p:spPr>
          <a:xfrm>
            <a:off x="5796000" y="192564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adkro\Pictures\pijl_onder.gif"/>
          <p:cNvPicPr/>
          <p:nvPr/>
        </p:nvPicPr>
        <p:blipFill>
          <a:blip r:embed="rId5"/>
          <a:stretch/>
        </p:blipFill>
        <p:spPr>
          <a:xfrm>
            <a:off x="4951440" y="390528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adkro\Pictures\pijl_onder.gif"/>
          <p:cNvPicPr/>
          <p:nvPr/>
        </p:nvPicPr>
        <p:blipFill>
          <a:blip r:embed="rId6"/>
          <a:stretch/>
        </p:blipFill>
        <p:spPr>
          <a:xfrm>
            <a:off x="7236000" y="3827520"/>
            <a:ext cx="64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5 Evaluati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ee      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ug naar stap 3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mfortbeleid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: stop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68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563840" y="2666880"/>
            <a:ext cx="758520" cy="71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5508720" y="391464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5508720" y="269712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5599080" y="4886280"/>
            <a:ext cx="576360" cy="29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5"/>
          <a:stretch/>
        </p:blipFill>
        <p:spPr>
          <a:xfrm>
            <a:off x="5599080" y="5316480"/>
            <a:ext cx="57636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1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Kookclub Beukenrod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http://www.youtube.com/watch?v=V6YBAbNr4Q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177336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e interventies worden toegepas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beleven de leden van de kookclub d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vind je dat de bewoners begeleid worden bij dez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het effect van deze activiteit op de bewoners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76" name="Picture 3" descr="C:\Users\adkro\Desktop\untitled.bmp"/>
          <p:cNvPicPr/>
          <p:nvPr/>
        </p:nvPicPr>
        <p:blipFill>
          <a:blip r:embed="rId1"/>
          <a:stretch/>
        </p:blipFill>
        <p:spPr>
          <a:xfrm>
            <a:off x="5510160" y="3718080"/>
            <a:ext cx="3206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2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 het vijfstappenplan uit met een casus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80" name="Diagram 4" descr=""/>
          <p:cNvPicPr/>
          <p:nvPr/>
        </p:nvPicPr>
        <p:blipFill>
          <a:blip r:embed="rId1"/>
          <a:stretch/>
        </p:blipFill>
        <p:spPr>
          <a:xfrm>
            <a:off x="1762200" y="2554200"/>
            <a:ext cx="5808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Gezond oud word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lang van goede voeding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oeding als basisbehoeft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ven van eten en drinken is een teken van liefde”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bianc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4" name="Picture 2" descr="C:\Users\adkro\Desktop\images.jpg"/>
          <p:cNvPicPr/>
          <p:nvPr/>
        </p:nvPicPr>
        <p:blipFill>
          <a:blip r:embed="rId1"/>
          <a:stretch/>
        </p:blipFill>
        <p:spPr>
          <a:xfrm>
            <a:off x="4932360" y="4149720"/>
            <a:ext cx="2951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aat uw voeding uw medicijn zijn en uw medicijn uw voeding’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ippocrates, 4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eeuw v. Chr.</a:t>
            </a: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ijf van vijf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248440" y="2708280"/>
            <a:ext cx="3697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en verstoring van de balans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ussen opname en behoefte aan voedingsstoffen.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rzaken: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stoorde inname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nvoldoende beschikbaarheid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name van spiermassa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jfers 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an de thuiszorgcliënten ouder dan 81 jaar is meer dan 30% ondervoed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Slechts een deel van de thuiszorgorganisaties screent alle cliënten op ondervoeding, terwijl screenen juist belangrijk is voor de preventie en behandeling van ondervoeding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ndervoeding komt het meest voor op psycho-geriatrische afdelingen van verpleeghuizen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on: </a:t>
            </a:r>
            <a:r>
              <a:rPr b="0" lang="en-US" sz="19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www.vilans.nl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ten en drinken in het zorg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5040" y="1600200"/>
            <a:ext cx="737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Zorgleefplan domein: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Calibri"/>
              </a:rPr>
              <a:t>lichamelijk welbevinden 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mag rekenen op smakelijke hapjes en drankje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nsen en gewoonten inventariseren en opnemen in het zorgleefpl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t en drinkgewoonten observeren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5661000"/>
            <a:ext cx="40384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Dit valt onder de normen van verantwoorde zorg.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k gedrag van de zorgvrager dat eten en drinken bemoeilijkt of onmogelijk maakt.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7" name="Afbeelding 4" descr=""/>
          <p:cNvPicPr/>
          <p:nvPr/>
        </p:nvPicPr>
        <p:blipFill>
          <a:blip r:embed="rId1"/>
          <a:stretch/>
        </p:blipFill>
        <p:spPr>
          <a:xfrm>
            <a:off x="2090880" y="2779560"/>
            <a:ext cx="53211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1 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komt niet aan tafel zit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om naar de ruimte te gaan waar gegeten word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loopt weg van taf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verbaal (‘Ik wil niet’)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06:23Z</dcterms:created>
  <dc:creator>Corien de Gier</dc:creator>
  <dc:description/>
  <dc:language>en-US</dc:language>
  <cp:lastModifiedBy>Dineke van der Ven</cp:lastModifiedBy>
  <dcterms:modified xsi:type="dcterms:W3CDTF">2015-09-01T13:55:39Z</dcterms:modified>
  <cp:revision>106</cp:revision>
  <dc:subject/>
  <dc:title>Eten en drinken</dc:title>
</cp:coreProperties>
</file>