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a55"/>
                </a:solidFill>
                <a:latin typeface="Calibri"/>
              </a:rPr>
              <a:t>Click to move the slide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27FD-8B98-4A44-BA5D-813B89C4AB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6CD5-6A2B-4B24-93FE-F36124DEBD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9493-8883-48E2-9565-EAC1426C4E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B4B9-2F15-44AA-BBFB-E9590420AA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6717-5E82-4B1D-AC0B-CF44D4C32B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7688-FA1B-4FB6-A899-F045347C83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ECC0-B385-4C92-8C47-917A825C15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351F-1EC4-43B5-BFFF-25DF43F9C9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D26-BD65-48E9-A6C9-6E6394A7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5FE-0E8C-4B5F-A7C2-4300876B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147-568D-4177-AE38-BE97C4B1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386-ABC1-4E07-BBC3-BE47B580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2D99-F793-4E25-9FE5-03FA507E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0C08-F02B-463C-BA76-A2887F9B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124F-CC1A-4DD2-B1B4-79AD114B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2BAD-9219-4C6C-9B8F-2000478F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BED7-BA54-4A62-A768-5BEDBFAC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533D-E91E-4981-8861-F3201421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87B8-0DA5-4256-B48D-33D15AF0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0AE-BBA2-406E-8934-88416CBD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C1BD-5C99-4CA0-9715-4934E353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912E-11FF-4476-9B35-7D8F750C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5941-2368-467C-B5C2-330F1E68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0B2C-EE99-4AA3-ABD8-7078548C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CE5D-B76E-4712-A23D-D02903A3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C0BF-6A88-4AC2-B9BD-C4A6C1DB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B1A-A809-451A-AD66-F2FBF7D6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71CC-3990-45DD-A5C4-F661B51B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80C-5A78-447E-91B7-13A158EB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0CEA-C6D2-41AB-9761-9B501D93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BBA-FB3A-4784-81A1-F5C079E3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EA7F-CB1C-4546-853E-F306B595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4D4D-D639-4BBE-9DFB-4237697A3527}" type="datetime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20BF-B0C2-4F47-86AF-816028E79922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F5E0-F99A-4CC9-BC60-C43F616B77F3}" type="datetime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F370-6F1B-4BAC-9D56-7AA9B6EB8B49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ilans.nl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Eten en drink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Calibri"/>
              </a:rPr>
              <a:t>In deze les leer je: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Calibri"/>
              </a:rPr>
              <a:t>Herkennen van probleemgedrag 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Calibri"/>
              </a:rPr>
              <a:t>Stappenplan t.b.v. bevorderen en verbeteren eetgedrag bij ouderen met dementie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378400" y="3862440"/>
            <a:ext cx="33195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schijnselen afweergedrag 2 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zorgvrager neemt helemaal geen hap of slok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raakt het eten niet aa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uwt zijn bord of lepel weg, of (de hand van) de verzorgend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ijt op de lepel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ndt zijn hoofd af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udt zijn mond dich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udt zijn kiezen op elkaar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schijnselen afweergedrag 3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zorgvrager neemt wel een hap of slok, maar slikt het eten of drinken uiteindelijk niet door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kokhals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puugt het eten of drinken ui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alt het eten met zijn handen uit de mond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likt het eten of drinken niet door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orzaken afweergedra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4920" y="1341360"/>
            <a:ext cx="705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willen, niet kunnen, niet begrijpe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en: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en trek, eten is niet lekker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woner voelt zich ongemakkelijk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ikproblemen,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agproblemen,                             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sselijkheid (bijvoorbeeld door medicijngebruik)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orzaken niet kunnen et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040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erzorgende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000" y="2212920"/>
            <a:ext cx="784836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ndelt niet adequaat: loopt weg tijdens het helpe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liest de aandacht tijdens het helpe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alt het eten (voortijdig) weg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edt te volle lepels aa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consistentie van het eten is niet geschikt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is te veel keus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orzaken niet kunnen et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0" name="Rechthoek 7"/>
          <p:cNvSpPr/>
          <p:nvPr/>
        </p:nvSpPr>
        <p:spPr>
          <a:xfrm>
            <a:off x="1116000" y="1415880"/>
            <a:ext cx="71280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ZORGVRAG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eeft een aandoening van het zenuwstelsel of de spieren, b.v. apraxie (onvermogen om bewuste bewegingen  uit te voer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roblemen met kauwen of slikken door een droge mond, gebitsproblemen of ontstekingen in de  mo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ichamelijke klach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sychische proble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bewoner zit of ligt in een verkeerde hou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ngst, gevoel van onveiligheid, stress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nel afgeleid, concentratiestoorn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orzak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iet willen et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64680" y="1600200"/>
            <a:ext cx="83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pressieve klachten, somberheid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ijwerking van medicijne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zorgvrager wil niet geholpen worden met eten of drinke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uit schaamt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ns om aan de eigen zelfstandigheid vast te houde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eten bevalt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zorgvrager heeft liever iets anders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et eten ziet er niet lekker ui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zorgvrager vindt het eten niet lekker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et eten is te warm of te koud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zorgvrager heeft een doodswens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33" name="Afbeelding 4" descr=""/>
          <p:cNvPicPr/>
          <p:nvPr/>
        </p:nvPicPr>
        <p:blipFill>
          <a:blip r:embed="rId1"/>
          <a:stretch/>
        </p:blipFill>
        <p:spPr>
          <a:xfrm>
            <a:off x="5437080" y="4078440"/>
            <a:ext cx="335916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Niet begrijp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herkent het eten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herkent gevoelens van honger of dorst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ziet de verzorgende als een vreemde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begrijpt de aanwijzingen van de verzorgende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is mogelijk dat de zorgvrager de prikkels die te maken hebben met eten of drinken niet waarneemt, bijvoorbeeld omdat hij slecht ziet of ruikt.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is ook mogelijk dat de zorgvrager geuren, voorwerpen of personen wel waarneemt, maar niet herkent. (agnosie)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begrijpt niet wat er van hem wordt verwacht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ijf stappenpla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robleem vaststellen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signaleren, benoemen)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gevens verzamelen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inventariseren)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ader onderzoek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observeren)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lan van aanpak 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beschrijven) 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Evaluatie en nieuwe acties beschrijven</a:t>
            </a: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anaf stap 5 gaat stap 1 weer in werking…</a:t>
            </a: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6a55"/>
                </a:solidFill>
                <a:latin typeface="Calibri"/>
              </a:rPr>
              <a:t>Stap 1 Probleem vaststellen</a:t>
            </a:r>
            <a:endParaRPr b="0" lang="en-US" sz="32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robeer de bewoner toch iets te laten eten, maar dring niet onnodig aan. Stel in overleg met je collega’s vast of er sprake is van structureel afweergedrag.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resultaat?  Stap 2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64680" y="1052280"/>
            <a:ext cx="4041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ructureel afweergedrag?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dan 24 uur niets drink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dan 48 uur niets et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dere keren per week afweergedrag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e 2/3 poging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ed opnieuw aan na 5/10 minut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ed iets anders aa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41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940040" y="3068640"/>
            <a:ext cx="760320" cy="720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2"/>
          <a:stretch/>
        </p:blipFill>
        <p:spPr>
          <a:xfrm>
            <a:off x="3924360" y="414972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2 Gegevens verzamel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leg met de bewoner, collega-verzorgenden, de familie en de arts, en probeer erachter te komen wat de oorzaak van het afweergedrag kan zijn.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ud minimaal twee dagen een voedings- en vochtlijst bij.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onbekend? STAP 3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leg met ander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art voeding en vochtlijst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astleggen in zorgdossier (bijv. afspraken met arts en familie  over niet ingrijpen comfortbehandeling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46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940040" y="2060640"/>
            <a:ext cx="76032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1969920" y="3213000"/>
            <a:ext cx="760680" cy="64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3"/>
          <a:stretch/>
        </p:blipFill>
        <p:spPr>
          <a:xfrm>
            <a:off x="4067280" y="4554360"/>
            <a:ext cx="865080" cy="7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Wat betekent eten voor jou?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100" name="Picture 2" descr="C:\Users\adkro\Desktop\eten untitled.bmp"/>
          <p:cNvPicPr/>
          <p:nvPr/>
        </p:nvPicPr>
        <p:blipFill>
          <a:blip r:embed="rId1"/>
          <a:stretch/>
        </p:blipFill>
        <p:spPr>
          <a:xfrm>
            <a:off x="2340000" y="1916280"/>
            <a:ext cx="4103640" cy="3125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6840" y="4149720"/>
            <a:ext cx="274644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3 Nader onderzoek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s de oorzaak van het afweergedrag niet (meteen) duidelijk is, observeer en beschrijf dan het afweergedrag bij eten en drinken.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spreek je bevindingen in een MDO/bewonersbespreking.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bekend: stap 4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onbekend: stap 4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bserveren en beschrijven van het gedrag (wat zie je, wanneer, andere verschijnselen)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leg tijdens MDO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indingen en afspraken noteren in zorgdossier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52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692360" y="263700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1692360" y="3973680"/>
            <a:ext cx="758880" cy="823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3"/>
          <a:stretch/>
        </p:blipFill>
        <p:spPr>
          <a:xfrm>
            <a:off x="3639960" y="4089240"/>
            <a:ext cx="855720" cy="592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4"/>
          <a:stretch/>
        </p:blipFill>
        <p:spPr>
          <a:xfrm>
            <a:off x="3639960" y="4834080"/>
            <a:ext cx="85572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4 Plan van aanpak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orzaak onbekend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lg  adviezen /voorschriften op zoals die zijn vastgelegd in het zorgdossier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Niet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grijpen: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l ingrijpen: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fortbeleid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passe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teracti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municati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voeding,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4" marL="17146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aaltijdambiance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nl-NL" sz="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bekend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olg  adviezen /voorschriften op zoals die zijn vastgelegd in het zorgdossier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ingrijpen: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l ingrijpen: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fortbeleid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richte interventi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59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763640" y="1944720"/>
            <a:ext cx="863640" cy="720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689040" y="38894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adkro\Pictures\pijl_onder.gif"/>
          <p:cNvPicPr/>
          <p:nvPr/>
        </p:nvPicPr>
        <p:blipFill>
          <a:blip r:embed="rId3"/>
          <a:stretch/>
        </p:blipFill>
        <p:spPr>
          <a:xfrm>
            <a:off x="2627280" y="3905280"/>
            <a:ext cx="720720" cy="476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adkro\Pictures\pijl_onder.gif"/>
          <p:cNvPicPr/>
          <p:nvPr/>
        </p:nvPicPr>
        <p:blipFill>
          <a:blip r:embed="rId4"/>
          <a:stretch/>
        </p:blipFill>
        <p:spPr>
          <a:xfrm>
            <a:off x="5796000" y="1925640"/>
            <a:ext cx="863640" cy="71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Users\adkro\Pictures\pijl_onder.gif"/>
          <p:cNvPicPr/>
          <p:nvPr/>
        </p:nvPicPr>
        <p:blipFill>
          <a:blip r:embed="rId5"/>
          <a:stretch/>
        </p:blipFill>
        <p:spPr>
          <a:xfrm>
            <a:off x="4951440" y="3905280"/>
            <a:ext cx="719280" cy="47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Users\adkro\Pictures\pijl_onder.gif"/>
          <p:cNvPicPr/>
          <p:nvPr/>
        </p:nvPicPr>
        <p:blipFill>
          <a:blip r:embed="rId6"/>
          <a:stretch/>
        </p:blipFill>
        <p:spPr>
          <a:xfrm>
            <a:off x="7236000" y="3827520"/>
            <a:ext cx="649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5 Evaluatie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bben de gekozen behandeling of interventies ertoe geleid dat de bewoner weer eet of drinkt?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stleggen in zorgdossier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ee      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rug naar stap 3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mfortbeleid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bben de gekozen behandeling of interventies ertoe geleid dat de bewoner weer eet of drinkt?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stleggen in zorgdossier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: stop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68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563840" y="2666880"/>
            <a:ext cx="758520" cy="719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5508720" y="3914640"/>
            <a:ext cx="758880" cy="719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adkro\Pictures\pijl_onder.gif"/>
          <p:cNvPicPr/>
          <p:nvPr/>
        </p:nvPicPr>
        <p:blipFill>
          <a:blip r:embed="rId3"/>
          <a:stretch/>
        </p:blipFill>
        <p:spPr>
          <a:xfrm>
            <a:off x="5508720" y="2697120"/>
            <a:ext cx="758880" cy="720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4"/>
          <a:stretch/>
        </p:blipFill>
        <p:spPr>
          <a:xfrm>
            <a:off x="5599080" y="4886280"/>
            <a:ext cx="576360" cy="298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5"/>
          <a:stretch/>
        </p:blipFill>
        <p:spPr>
          <a:xfrm>
            <a:off x="5599080" y="5316480"/>
            <a:ext cx="57636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dracht 1: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Kookclub Beukenrode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alibri"/>
              </a:rPr>
              <a:t>http://www.youtube.com/watch?v=V6YBAbNr4Qk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4920" y="177336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ke interventies worden toegepast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beleven de leden van de kookclub de activiteit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vind je dat de bewoners begeleid worden bij deze activiteit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t is het effect van deze activiteit op de bewoners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76" name="Picture 3" descr="C:\Users\adkro\Desktop\untitled.bmp"/>
          <p:cNvPicPr/>
          <p:nvPr/>
        </p:nvPicPr>
        <p:blipFill>
          <a:blip r:embed="rId1"/>
          <a:stretch/>
        </p:blipFill>
        <p:spPr>
          <a:xfrm>
            <a:off x="5510160" y="3718080"/>
            <a:ext cx="32068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9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dracht 2: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rk het vijfstappenplan uit met een casus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80" name="Diagram 4" descr=""/>
          <p:cNvPicPr/>
          <p:nvPr/>
        </p:nvPicPr>
        <p:blipFill>
          <a:blip r:embed="rId1"/>
          <a:stretch/>
        </p:blipFill>
        <p:spPr>
          <a:xfrm>
            <a:off x="1762200" y="2554200"/>
            <a:ext cx="58086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Gezond oud word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elang van goede voeding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oeding als basisbehoefte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ven van eten en drinken is een teken van liefde” 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mbiance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04" name="Picture 2" descr="C:\Users\adkro\Desktop\images.jpg"/>
          <p:cNvPicPr/>
          <p:nvPr/>
        </p:nvPicPr>
        <p:blipFill>
          <a:blip r:embed="rId1"/>
          <a:stretch/>
        </p:blipFill>
        <p:spPr>
          <a:xfrm>
            <a:off x="4932360" y="4149720"/>
            <a:ext cx="29512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Laat uw voeding uw medicijn zijn en uw medicijn uw voeding’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ippocrates, 4</a:t>
            </a:r>
            <a:r>
              <a:rPr b="0" lang="nl-NL" sz="21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eeuw v. Chr.</a:t>
            </a:r>
            <a:endParaRPr b="0" lang="en-US" sz="21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ijf van vijf 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248440" y="2708280"/>
            <a:ext cx="36972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dervoedin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en verstoring van de balans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ussen opname en behoefte aan voedingsstoffen.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Oorzaken: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rstoorde inname van voedsel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Onvoldoende beschikbaarheid van voedsel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name van spiermassa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ijfers ondervoedin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an de thuiszorgcliënten ouder dan 81 jaar is meer dan 30% ondervoed.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Slechts een deel van de thuiszorgorganisaties screent alle cliënten op ondervoeding, terwijl screenen juist belangrijk is voor de preventie en behandeling van ondervoeding.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Ondervoeding komt het meest voor op psycho-geriatrische afdelingen van verpleeghuizen.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ron: </a:t>
            </a:r>
            <a:r>
              <a:rPr b="0" lang="en-US" sz="19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www.vilans.nl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Eten en drinken in het zorgpla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5040" y="1600200"/>
            <a:ext cx="737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Zorgleefplan domein: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200" spc="-1" strike="noStrike">
                <a:solidFill>
                  <a:srgbClr val="000000"/>
                </a:solidFill>
                <a:latin typeface="Calibri"/>
              </a:rPr>
              <a:t>lichamelijk welbevinden </a:t>
            </a: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bewoner mag rekenen op smakelijke hapjes en drankjes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nsen en gewoonten inventariseren en opnemen in het zorgleefpla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t en drinkgewoonten observeren 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5661000"/>
            <a:ext cx="40384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alibri"/>
              </a:rPr>
              <a:t>Dit valt onder de normen van verantwoorde zorg.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fweergedra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k gedrag van de zorgvrager dat eten en drinken bemoeilijkt of onmogelijk maakt.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17" name="Afbeelding 4" descr=""/>
          <p:cNvPicPr/>
          <p:nvPr/>
        </p:nvPicPr>
        <p:blipFill>
          <a:blip r:embed="rId1"/>
          <a:stretch/>
        </p:blipFill>
        <p:spPr>
          <a:xfrm>
            <a:off x="2090880" y="2779560"/>
            <a:ext cx="53211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schijnselen afweergedrag 1  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zorgvrager komt niet aan tafel zitt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igert om naar de ruimte te gaan waar gegeten word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loopt weg van tafel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igert verbaal (‘Ik wil niet’)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2:06:23Z</dcterms:created>
  <dc:creator>Corien de Gier</dc:creator>
  <dc:description/>
  <dc:language>en-US</dc:language>
  <cp:lastModifiedBy>Dineke van der Ven</cp:lastModifiedBy>
  <dcterms:modified xsi:type="dcterms:W3CDTF">2015-09-01T13:55:39Z</dcterms:modified>
  <cp:revision>106</cp:revision>
  <dc:subject/>
  <dc:title>Eten en drinken</dc:title>
</cp:coreProperties>
</file>