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59D-2532-4B05-99A6-7F18E95202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937E-E380-458E-B89E-6D5932F77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A3FE-C177-4B4C-A63D-03AD8A5BCD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CA67-82EA-453A-B378-382BFDC5E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8B0-FD65-4495-AB3F-17F9BC683F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B591-DBCA-43B4-82C6-30C9ECB499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450E-6E7F-4748-B32C-2934ABD34A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B419-96EF-44AB-9BFC-669A19F81C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A13-B430-4D02-9AF5-2DEAD454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16B-A542-4398-813E-F196F0FD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294-C89A-4607-A7EE-2022BD08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71D-734B-4B0B-988A-03E364D6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FFC9-8C23-4DBA-8F29-A8E7DDE1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FA5C-A2B1-43FB-A75B-00F244D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33A4-A4E9-4D22-A0FD-A3E4491B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82DA-293C-47D1-978A-18A4251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DA15-B15A-4859-8B35-6D712A07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B21F-6499-4374-B318-5F24E88B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7A87-B9E2-413E-AABB-D864671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716-0CD2-449A-B365-64D4143C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E86F-2443-4775-B4A9-15E5C0A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08D6-1111-42E3-BE87-1BC4617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32AA-B0D5-4E96-B303-49CF9F0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993-43FB-4CE2-BEDD-165E32A1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562-A611-4242-B4AC-5586AAAA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622-6A59-4E69-8F2D-3EF4A3A4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68C-634E-43A0-9889-91059738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942-43C6-4518-81FE-0A58E32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873-CC0D-4EC4-9B19-BFD10090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752-C17E-47F3-B9E9-630A18C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9A3-27AF-4794-87D0-36CC7C84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C3B-00B7-46B8-8D27-3331BBF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F559-B1A9-4E62-931C-86ABD8D562E0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7E80-2E38-4BF0-8A95-D88E0B491386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E418-DE67-418B-8893-1F18D5B063C3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39D2-6963-49F0-85A0-FD7B41C3BFB7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ten en drink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In deze les leer je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78400" y="38624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2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helemaal geen hap of slok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raakt het eten niet aa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uwt zijn bord of lepel weg, of (de hand van) de verzorgen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t op de lep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dt zijn hoofd af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mond dich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kiezen op elkaa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3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wel een hap of slok, maar slikt het eten of drinken uiteindelijk niet door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khals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puugt het eten of drinken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alt het eten met zijn handen uit de mon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likt het eten of drinken niet doo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orzaken 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360"/>
            <a:ext cx="705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willen, niet kunnen, niet begrijp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en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n trek, eten is niet lekk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woner voelt zich ongemakkelij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kproblemen,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agproblemen,             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elijkheid (bijvoorbeeld door medicijngebruik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rzorgend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2212920"/>
            <a:ext cx="78483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ndelt niet adequaat: loopt weg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iest de aandacht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alt het eten (voortijdig) weg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edt te volle lepels a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onsistentie van het eten is niet geschikt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is te veel keu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Rechthoek 7"/>
          <p:cNvSpPr/>
          <p:nvPr/>
        </p:nvSpPr>
        <p:spPr>
          <a:xfrm>
            <a:off x="1116000" y="1415880"/>
            <a:ext cx="7128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ZORGVRA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eft een aandoening van het zenuwstelsel of de spieren, b.v. apraxie (onvermogen om bewuste bewegingen  uit te voer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blemen met kauwen of slikken door een droge mond, gebitsproblemen of ontstekingen in de  m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ichamelijke klach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sychische 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zit of ligt in een verkeerde hou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ngst, gevoel van onveiligheid, stres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nel afgeleid, concentratiestoo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iet will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4680" y="160020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pressieve klachten, somberhei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werking van medicijn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wil niet geholpen worden met eten of drink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uit schaamt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s om aan de eigen zelfstandigheid vast te houd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eten beval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heeft liever iets anders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ziet er niet lekker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vindt het eten niet lekke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is te warm of te kou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heeft een doodswe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tretch/>
        </p:blipFill>
        <p:spPr>
          <a:xfrm>
            <a:off x="5437080" y="4078440"/>
            <a:ext cx="33591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begrijp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het eten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gevoelens van honger of dors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ziet de verzorgende als een vreemd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de aanwijzingen van de verzorgende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ook mogelijk dat de zorgvrager geuren, voorwerpen of personen wel waarneemt, maar niet herkent. (agnosie)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niet wat er van hem wordt verwacht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jf stappen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signaleren, benoem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inventaris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observ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beschrijven)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aluatie en nieuwe acties beschrijven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naf stap 5 gaat stap 1 weer in werking…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6a55"/>
                </a:solidFill>
                <a:latin typeface="Calibri"/>
              </a:rPr>
              <a:t>Stap 1 Probleem vaststellen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resultaat?  Stap 2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4680" y="1052280"/>
            <a:ext cx="4041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ructureel afweergedrag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24 uur niets drink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48 uur niets e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dere keren per week afweergedrag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e 2/3 poging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opnieuw aan na 5/10 minu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iets anders aa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1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3068640"/>
            <a:ext cx="7603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24360" y="414972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 Gegevens verzamel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ud minimaal twee dagen een voedings- en vochtlijst bij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? STAP 3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ander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rt voeding en vochtlij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206064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969920" y="3213000"/>
            <a:ext cx="76068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00" name="Picture 2" descr="C:\Users\adkro\Desktop\eten untitled.bmp"/>
          <p:cNvPicPr/>
          <p:nvPr/>
        </p:nvPicPr>
        <p:blipFill>
          <a:blip r:embed="rId1"/>
          <a:stretch/>
        </p:blipFill>
        <p:spPr>
          <a:xfrm>
            <a:off x="2340000" y="1916280"/>
            <a:ext cx="4103640" cy="31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4149720"/>
            <a:ext cx="2746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 Nader onderzoe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de oorzaak van het afweergedrag niet (meteen) duidelijk is, observeer en beschrijf dan het afweergedrag bij eten en drinke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preek je bevindingen in een MDO/bewonersbesprekin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bserveren en beschrijven van het gedrag (wat zie je, wanneer, andere verschijnselen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tijdens MDO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indingen en afspraken noteren in zorgdossier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2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63700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39960" y="408924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Plan van aanpa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rzaak onbekend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pass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terac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oeding,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4" marL="1714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altijdambiance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nl-NL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richte interven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63640" y="1944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5796000" y="1925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4951440" y="390528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236000" y="382752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5 Evaluati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ee      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 naar stap 3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mfortbeleid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: stop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6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63840" y="2666880"/>
            <a:ext cx="75852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1464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488628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316480"/>
            <a:ext cx="57636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1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Kookclub Beukenrod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http://www.youtube.com/watch?v=V6YBAbNr4Q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1773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interventies worden toegepas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beleven de leden van de kookclub d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ind je dat de bewoners begeleid worden bij dez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het effect van deze activiteit op de bewoners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76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5510160" y="3718080"/>
            <a:ext cx="3206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2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 het vijfstappenplan uit met een casu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1"/>
          <a:stretch/>
        </p:blipFill>
        <p:spPr>
          <a:xfrm>
            <a:off x="1762200" y="2554200"/>
            <a:ext cx="5808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Gezond oud word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bianc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4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932360" y="4149720"/>
            <a:ext cx="2951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aat uw voeding uw medicijn zijn en uw medicijn uw voeding’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ippocrates, 4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eeuw v. Chr.</a:t>
            </a: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ijf van vijf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48440" y="2708280"/>
            <a:ext cx="3697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en verstoring van de balans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ussen opname en behoefte aan voedingsstoffen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toorde inname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nvoldoende beschikbaarheid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name van spiermass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jfers 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an de thuiszorgcliënten ouder dan 81 jaar is meer dan 30% ondervoed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ndervoeding komt het meest voor op psycho-geriatrische afdelingen van verpleeghuizen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on: </a:t>
            </a:r>
            <a:r>
              <a:rPr b="0" lang="en-US" sz="19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www.vilans.nl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ten en drinken in het zorg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Zorgleefplan domein: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Calibri"/>
              </a:rPr>
              <a:t>lichamelijk welbevinden 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mag rekenen op smakelijke hapjes en drankje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nsen en gewoonten inventariseren en opnemen in het zorgleefpl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t en drinkgewoonten observeren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5661000"/>
            <a:ext cx="40384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Dit valt onder de normen van verantwoorde zorg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1 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komt niet aan tafel zit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om naar de ruimte te gaan waar gegeten word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loopt weg van taf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verbaal (‘Ik wil niet’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Dineke van der Ven</cp:lastModifiedBy>
  <dcterms:modified xsi:type="dcterms:W3CDTF">2015-09-01T13:55:39Z</dcterms:modified>
  <cp:revision>106</cp:revision>
  <dc:subject/>
  <dc:title>Eten en drinken</dc:title>
</cp:coreProperties>
</file>