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move the slide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8E2A-7285-42EB-8336-5FA19A8D28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701-55A1-4A36-9ACF-7B1A3D0FA5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9C45-0631-404E-9D11-0002F0A962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16D-5C19-48D0-817B-4171D0590C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B711-711E-4821-A201-1001C9A90C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9391-02CC-4FFF-A31E-EBAE7A4C7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C1A-B6E3-4851-BFF8-3A23D185AB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47CF-76E7-4C17-A8CB-ED77DCBDC9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62B-741B-4F5B-BB29-9651615F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1AF-9F71-4758-A1BC-6A62B5A6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404-309D-49ED-80CF-F8A8AFB6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360-6225-4CE6-8C35-317882E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A324-2406-4A26-A093-5CD774AF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311B-F08F-4F4C-B340-38EFFBF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6E52-605E-4BE8-BF47-AFA8C01A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6088-74BE-4531-9A62-0E7C6690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FD83-3A36-4242-A63E-CD4CDA85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4825-807F-46CC-883B-12F88A53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9A87-F7E2-4419-BFFD-7DFC15F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EF8-83E3-483E-9575-9E923012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6EF2-F8C8-4B11-BDAE-48D9856F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64A-98BD-4380-813B-9875BC6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8B4-8A0E-4BC7-BEFD-1CBC76E2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2AF4-3EF7-4746-AAE5-EE8123BA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C064-49E8-4610-8470-B6C0A757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CDA-6821-4A6C-8779-57BD94D5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102-DB75-4F8E-8795-BD41727D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0FCB-B527-4416-8A71-A36747B6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6E3-D153-4D52-9292-B4987B3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334B-41ED-4DCE-A8C3-91A26F7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7CC-A050-46A7-BF5C-44CD71B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9DB-A97C-4287-84F3-63B0C6A4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C852-B75C-462D-9DBE-4B5DE3B944A7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2220-2F5F-4C00-9193-DA253FE0BE54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76a55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8356-FA62-423B-8689-130201782092}" type="datetime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0398-B8BD-4ED3-A205-613834253E59}" type="slidenum">
              <a:rPr b="0" lang="nl-NL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ten en drink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In deze les leer je: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378400" y="38624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2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helemaal geen hap of slok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raakt het eten niet aa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uwt zijn bord of lepel weg, of (de hand van) de verzorgend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t op de lep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dt zijn hoofd af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mond dich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udt zijn kiezen op elkaa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3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neemt wel een hap of slok, maar slikt het eten of drinken uiteindelijk niet door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kokhals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puugt het eten of drinken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alt het eten met zijn handen uit de mon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likt het eten of drinken niet doo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orzaken 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341360"/>
            <a:ext cx="705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willen, niet kunnen, niet begrijp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en: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en trek, eten is niet lekk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woner voelt zich ongemakkelij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kproblemen,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agproblemen,             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sselijkheid (bijvoorbeeld door medicijngebruik)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rzorgende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000" y="2212920"/>
            <a:ext cx="784836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ndelt niet adequaat: loopt weg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liest de aandacht tijdens het helpe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aalt het eten (voortijdig) weg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edt te volle lepels a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onsistentie van het eten is niet geschikt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is te veel keu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 niet kunn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0" name="Rechthoek 7"/>
          <p:cNvSpPr/>
          <p:nvPr/>
        </p:nvSpPr>
        <p:spPr>
          <a:xfrm>
            <a:off x="1116000" y="1415880"/>
            <a:ext cx="71280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ZORGVRAG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eft een aandoening van het zenuwstelsel of de spieren, b.v. apraxie (onvermogen om bewuste bewegingen  uit te voer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blemen met kauwen of slikken door een droge mond, gebitsproblemen of ontstekingen in de  mo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ichamelijke klach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sychische probl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zit of ligt in een verkeerde hou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ngst, gevoel van onveiligheid, stres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nel afgeleid, concentratiestoorn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orzak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iet willen et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4680" y="160020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pressieve klachten, somberheid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ijwerking van medicijn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wil niet geholpen worden met eten of drinken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uit schaamt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ns om aan de eigen zelfstandigheid vast te houd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eten beval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heeft liever iets anders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ziet er niet lekker ui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e zorgvrager vindt het eten niet lekker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et eten is te warm of te koud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zorgvrager heeft een doodswens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tretch/>
        </p:blipFill>
        <p:spPr>
          <a:xfrm>
            <a:off x="5437080" y="4078440"/>
            <a:ext cx="335916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begrijp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het eten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herkent gevoelens van honger of dorst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ziet de verzorgende als een vreemde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de aanwijzingen van de verzorgende niet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is ook mogelijk dat de zorgvrager geuren, voorwerpen of personen wel waarneemt, maar niet herkent. (agnosie)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De zorgvrager begrijpt niet wat er van hem wordt verwacht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ijf stappen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signaleren, benoem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inventaris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observeren)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beschrijven)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Evaluatie en nieuwe acties beschrijven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naf stap 5 gaat stap 1 weer in werking…</a:t>
            </a: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6a55"/>
                </a:solidFill>
                <a:latin typeface="Calibri"/>
              </a:rPr>
              <a:t>Stap 1 Probleem vaststellen</a:t>
            </a:r>
            <a:endParaRPr b="0" lang="en-US" sz="32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resultaat?  Stap 2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64680" y="1052280"/>
            <a:ext cx="4041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ructureel afweergedrag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24 uur niets drink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dan 48 uur niets e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dere keren per week afweergedrag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e 2/3 poging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opnieuw aan na 5/10 minu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ed iets anders aa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1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3068640"/>
            <a:ext cx="76032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24360" y="414972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2 Gegevens verzamel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ud minimaal twee dagen een voedings- en vochtlijst bij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? STAP 3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met ander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rt voeding en vochtlijst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4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40040" y="206064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969920" y="3213000"/>
            <a:ext cx="760680" cy="64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pic>
        <p:nvPicPr>
          <p:cNvPr id="100" name="Picture 2" descr="C:\Users\adkro\Desktop\eten untitled.bmp"/>
          <p:cNvPicPr/>
          <p:nvPr/>
        </p:nvPicPr>
        <p:blipFill>
          <a:blip r:embed="rId1"/>
          <a:stretch/>
        </p:blipFill>
        <p:spPr>
          <a:xfrm>
            <a:off x="2340000" y="1916280"/>
            <a:ext cx="4103640" cy="31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6840" y="4149720"/>
            <a:ext cx="2746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3 Nader onderzoe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de oorzaak van het afweergedrag niet (meteen) duidelijk is, observeer en beschrijf dan het afweergedrag bij eten en drinken.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spreek je bevindingen in een MDO/bewonersbespreking.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onbekend: stap 4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bserveren en beschrijven van het gedrag (wat zie je, wanneer, andere verschijnselen)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leg tijdens MDO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indingen en afspraken noteren in zorgdossier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2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63700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39960" y="408924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4 Plan van aanpak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rzaak onbekend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passen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nterac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munica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voeding,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4" marL="17146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aaltijdambiance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nl-NL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rzaak bekend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olg  adviezen /voorschriften op zoals die zijn vastgelegd in het zorgdossier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ingrijpen: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l ingrijpen: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fortbeleid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richte interventie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5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63640" y="1944720"/>
            <a:ext cx="86364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5796000" y="192564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4951440" y="390528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236000" y="382752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Stap 5 Evaluati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ee      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ug naar stap 3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mfortbeleid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stleggen in zorgdossier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Ja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: stop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6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63840" y="2666880"/>
            <a:ext cx="75852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1464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488628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316480"/>
            <a:ext cx="57636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1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Kookclub Beukenrode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http://www.youtube.com/watch?v=V6YBAbNr4Qk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1773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ke interventies worden toegepas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beleven de leden van de kookclub d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vind je dat de bewoners begeleid worden bij deze activiteit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het effect van deze activiteit op de bewoners?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76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5510160" y="3718080"/>
            <a:ext cx="3206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pdracht 2: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werk het vijfstappenplan uit met een casus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1"/>
          <a:stretch/>
        </p:blipFill>
        <p:spPr>
          <a:xfrm>
            <a:off x="1762200" y="2554200"/>
            <a:ext cx="5808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  <a:ea typeface="Calibri"/>
              </a:rPr>
              <a:t>Gezond oud worde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mbiance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4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932360" y="4149720"/>
            <a:ext cx="29512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Laat uw voeding uw medicijn zijn en uw medicijn uw voeding’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ippocrates, 4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eeuw v. Chr.</a:t>
            </a:r>
            <a:endParaRPr b="0" lang="en-US" sz="21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ijf van vijf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48440" y="2708280"/>
            <a:ext cx="3697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en verstoring van de balans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ussen opname en behoefte aan voedingsstoffen.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erstoorde inname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nvoldoende beschikbaarheid van voedsel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name van spiermassa</a:t>
            </a: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jfers ondervoedin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an de thuiszorgcliënten ouder dan 81 jaar is meer dan 30% ondervoed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ndervoeding komt het meest voor op psycho-geriatrische afdelingen van verpleeghuizen.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Bron: </a:t>
            </a:r>
            <a:r>
              <a:rPr b="0" lang="en-US" sz="19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www.vilans.nl</a:t>
            </a: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Eten en drinken in het zorgplan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Zorgleefplan domein: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200" spc="-1" strike="noStrike">
                <a:solidFill>
                  <a:srgbClr val="000000"/>
                </a:solidFill>
                <a:latin typeface="Calibri"/>
              </a:rPr>
              <a:t>lichamelijk welbevinden </a:t>
            </a: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bewoner mag rekenen op smakelijke hapjes en drankjes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nsen en gewoonten inventariseren en opnemen in het zorgleefplan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t en drinkgewoonten observeren 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5661000"/>
            <a:ext cx="40384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7f7f7f"/>
                </a:solidFill>
                <a:latin typeface="Calibri"/>
              </a:rPr>
              <a:t>Dit valt onder de normen van verantwoorde zorg.</a:t>
            </a:r>
            <a:endParaRPr b="0" lang="en-US" sz="2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weergedrag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11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Verschijnselen afweergedrag 1  </a:t>
            </a:r>
            <a:endParaRPr b="0" lang="en-US" sz="3600" spc="-1" strike="noStrike">
              <a:solidFill>
                <a:srgbClr val="676a55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zorgvrager komt niet aan tafel zitten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om naar de ruimte te gaan waar gegeten wordt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loopt weg van tafel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weigert verbaal (‘Ik wil niet’)</a:t>
            </a:r>
            <a:endParaRPr b="0" lang="en-US" sz="16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Dineke van der Ven</cp:lastModifiedBy>
  <dcterms:modified xsi:type="dcterms:W3CDTF">2015-09-01T13:55:39Z</dcterms:modified>
  <cp:revision>106</cp:revision>
  <dc:subject/>
  <dc:title>Eten en drinken</dc:title>
</cp:coreProperties>
</file>