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9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17FD-F438-410A-B02E-F91D6761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9E10-054F-4A4A-A5B8-7F3244A90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E639-0AAD-4857-B5F3-FA23AB50D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B774-9241-4314-93CF-ADE660A65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BEED4-B3D1-44DD-89E8-779B7A8F3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A83F-9E1F-4DBF-8411-3C64DED1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19EE-9AF8-4449-906F-7B30E0DF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29DA3-8DB1-4377-84E7-12803938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3147-F5D0-40E5-AF99-522E2AB0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3C96-94F3-432E-936A-6709E8515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28F1-0D1D-4A9E-9F2F-FD8481A7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D1A4-E9FB-4302-A2E8-ADAA40D9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68AA-5245-4FE4-A0FD-028E5179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2B23-7BE8-409D-AF87-9BC1F697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BB5D1-5089-42C3-B926-BAC79D273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B2361-A05B-4295-8EE1-948C71196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C5A5-8FB7-4826-A252-BC266FF2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051E0-387F-46A2-AD70-CFB9D10F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5C5B5-6585-4424-8137-98137964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C4601-9D66-4886-9C0E-F0756C79A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018C-113E-42CB-96AC-565F966D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9A9C6-4303-45DA-BACB-0B3A56FE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BF9-B971-4E25-B347-9896F7B1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B556D-DCA6-46C9-8EC5-2667A7C61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4860B-F367-4797-BBD2-81FBA1A9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19423-7DDF-4677-BF8B-4D2C9209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3167E-75BC-4567-A43B-E047D169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E518A-63FA-4D96-A638-B8BF93B4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CEAF-E338-4E2C-82AC-8BFDEF33C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E1ABF-D6C9-48BA-9E0E-253815C5C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2235A-34FB-4EE0-9C65-57A4D9A59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CD29A-109E-4FBF-8612-7AB3895F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34D64-3769-4245-8F08-63A7966E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7B298-883F-4EB2-919C-E2D11C33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2B031-0A79-4EF0-87B3-DEC23995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2298E-EDDB-4464-A8A8-3A4E0A7AC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71887-F287-4FEA-823F-E5DA2907C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50D24-E727-4C00-BBFA-727E7C90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4C8BB-7A0A-4757-84AC-A08FB31E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794E2-FAE4-44AE-BCEE-DCEFF2FB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E0A4C-507B-4513-B15F-2B7097F5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3D790-5021-4DAD-A045-9867C0E56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21089-9E72-40BC-8F3D-E09AF5EA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8D0B-483D-4DDC-82BF-7872DDB8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9861-7AC1-4FC3-BC07-8F370F21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BD1-B6B1-4019-BB57-0469D9BE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B198-E921-4FB1-8B00-60788754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A03F-291C-43B8-8A56-55486491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FCA9-256C-4572-AB1D-881A9E531589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1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5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697E0-3325-4694-9E8F-F4C471FAC5B8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Vrije v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Vrije v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Groe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Vrije v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Vrije v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106" name="Vrije v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Vrije v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71886-9221-47E7-938A-AE0DB6E642EC}" type="slidenum">
              <a:rPr b="0" lang="nl-NL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met één afgeknipte en afgeronde hoek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Rechthoekige driehoek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Vrije v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Vrije v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Gill Sans MT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DF89-FE94-40F1-81B0-FED1E7C6424F}" type="slidenum">
              <a:rPr b="0" lang="nl-NL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el 1" descr=""/>
          <p:cNvPicPr/>
          <p:nvPr/>
        </p:nvPicPr>
        <p:blipFill>
          <a:blip r:embed="rId1"/>
          <a:stretch/>
        </p:blipFill>
        <p:spPr>
          <a:xfrm>
            <a:off x="0" y="401760"/>
            <a:ext cx="7223040" cy="19699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394920" y="4365720"/>
            <a:ext cx="2592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600" spc="-1" strike="noStrike">
              <a:solidFill>
                <a:srgbClr val="ffffff"/>
              </a:solidFill>
              <a:latin typeface="Gill Sans MT"/>
            </a:endParaRPr>
          </a:p>
        </p:txBody>
      </p:sp>
      <p:pic>
        <p:nvPicPr>
          <p:cNvPr id="197" name="Afbeelding 4" descr="fokke en sukke diarree.jpg"/>
          <p:cNvPicPr/>
          <p:nvPr/>
        </p:nvPicPr>
        <p:blipFill>
          <a:blip r:embed="rId2"/>
          <a:stretch/>
        </p:blipFill>
        <p:spPr>
          <a:xfrm>
            <a:off x="4500720" y="2060640"/>
            <a:ext cx="385416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orkomen beter dan genez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ak kleine beetjes dan heel glas in een ke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 bij tekort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ouillo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 (oral rehydration salts) bij braken/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5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0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Plaats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nke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oms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0" name="Afbeelding 3" descr="oedeem 2.jpg"/>
          <p:cNvPicPr/>
          <p:nvPr/>
        </p:nvPicPr>
        <p:blipFill>
          <a:blip r:embed="rId1"/>
          <a:stretch/>
        </p:blipFill>
        <p:spPr>
          <a:xfrm>
            <a:off x="3995640" y="2317680"/>
            <a:ext cx="46386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ndere oorzaak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ymfe-oedeem (ledemaat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bruik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rednis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(hele lichaa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3" name="Afbeelding 4" descr="oedeem.jpg"/>
          <p:cNvPicPr/>
          <p:nvPr/>
        </p:nvPicPr>
        <p:blipFill>
          <a:blip r:embed="rId1"/>
          <a:stretch/>
        </p:blipFill>
        <p:spPr>
          <a:xfrm>
            <a:off x="3419640" y="2924280"/>
            <a:ext cx="504000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spannen glanzende hu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utje in druk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wichtstoename 1-2 kg in paar da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rtademigheid bij inspanning/ plat lig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dlegerige zv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uwen in huid van stuit en ru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Acties bij oedeem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1988640"/>
            <a:ext cx="8434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a na wat de oorzaak i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nderen met zout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wegen: stimuleert doorbloeding/spierfunc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nen hoog als z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artfalen: 3 x per week wegen (ma, woe, vrij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eunkou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Zwachte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8" name="Afbeelding 3" descr="wegenschaal.jpg"/>
          <p:cNvPicPr/>
          <p:nvPr/>
        </p:nvPicPr>
        <p:blipFill>
          <a:blip r:embed="rId1"/>
          <a:stretch/>
        </p:blipFill>
        <p:spPr>
          <a:xfrm>
            <a:off x="6732720" y="4724280"/>
            <a:ext cx="192384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2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7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2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Functie van zouten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elangrijke zouten: natrium, kaliu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itscheiden bij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/ 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lasmedicatie (diuretica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anvullen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RS, bouillon, medicatie (Kalium tabletten)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1" name="Afbeelding 3" descr="braken.jpg"/>
          <p:cNvPicPr/>
          <p:nvPr/>
        </p:nvPicPr>
        <p:blipFill>
          <a:blip r:embed="rId1"/>
          <a:stretch/>
        </p:blipFill>
        <p:spPr>
          <a:xfrm>
            <a:off x="6875640" y="2421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ragen?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pic>
        <p:nvPicPr>
          <p:cNvPr id="233" name="Tijdelijke aanduiding voor inhoud 3" descr="griep1.jpg"/>
          <p:cNvPicPr/>
          <p:nvPr/>
        </p:nvPicPr>
        <p:blipFill>
          <a:blip r:embed="rId1"/>
          <a:stretch/>
        </p:blipFill>
        <p:spPr>
          <a:xfrm>
            <a:off x="2484360" y="2421000"/>
            <a:ext cx="418320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nodig voor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voedingsstoff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Oplossen van afvalstoff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tofwisselingsstelsel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tabolisme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intak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ink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000 – 16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Et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800 – 10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brandingsprocess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200 – 4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 output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ormaal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ieren 1100 – 18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ongen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 400 – 5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armen 100 – 200 m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ochtbalans 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 u="sng">
                <a:solidFill>
                  <a:srgbClr val="000000"/>
                </a:solidFill>
                <a:uFillTx/>
                <a:latin typeface="Gill Sans MT"/>
              </a:rPr>
              <a:t>Duur: 24 uur (8 uur tot volgende ochtend 8 uur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Nega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minder dan vocht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uitdroging (dehydratie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Positieve vochtbalans =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ocht opname groter dan vocht 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Gevolg: vocht vasthouden (oedeem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1 – 3% vocht tekort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orstgevo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oge mon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 en up dal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4 – 6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usteloo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oeidhei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isselij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oofdpij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Snelle/ zwakke po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intelende lichaamsuitei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Verschijnsel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7 % vocht tekor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raaieri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Ademnoo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Lage bloeddru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erminder zich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uidplooi blijft staa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Up houdt op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ep liggende holle og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Vanaf 15-20% overlij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2" name="Afbeelding 3" descr="vocht 3.jpg"/>
          <p:cNvPicPr/>
          <p:nvPr/>
        </p:nvPicPr>
        <p:blipFill>
          <a:blip r:embed="rId1"/>
          <a:stretch/>
        </p:blipFill>
        <p:spPr>
          <a:xfrm>
            <a:off x="4427640" y="3933720"/>
            <a:ext cx="44114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5000" spc="-1" strike="noStrike">
                <a:solidFill>
                  <a:srgbClr val="04617b"/>
                </a:solidFill>
                <a:latin typeface="Gill Sans MT"/>
              </a:rPr>
              <a:t>Oorzaken dehydratie</a:t>
            </a:r>
            <a:endParaRPr b="0" lang="en-US" sz="5000" spc="-1" strike="noStrike">
              <a:solidFill>
                <a:srgbClr val="04617b"/>
              </a:solidFill>
              <a:latin typeface="Gill Sans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e weinig drin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Diarre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k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Hitt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Koort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loedverli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Transpirati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Brandwonde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Gill Sans MT"/>
              </a:rPr>
              <a:t>Medicijnen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5" name="Afbeelding 4" descr="vocht 1.bmp"/>
          <p:cNvPicPr/>
          <p:nvPr/>
        </p:nvPicPr>
        <p:blipFill>
          <a:blip r:embed="rId1"/>
          <a:stretch/>
        </p:blipFill>
        <p:spPr>
          <a:xfrm>
            <a:off x="5003640" y="1989000"/>
            <a:ext cx="2737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inda</dc:creator>
  <dc:description/>
  <dc:language>en-US</dc:language>
  <cp:lastModifiedBy>E. Scheltens-Flink</cp:lastModifiedBy>
  <dcterms:modified xsi:type="dcterms:W3CDTF">2015-08-23T14:35:03Z</dcterms:modified>
  <cp:revision>15</cp:revision>
  <dc:subject/>
  <dc:title>Vocht huishouding</dc:title>
</cp:coreProperties>
</file>