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103D4-9DEA-44B0-9AD9-84E54C17E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8F2C3-E520-4248-A2CB-D91935049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E1B10-D518-43C8-BF7A-22E7E761E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8EB34-CCDC-43E7-9785-119ECE8CA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F6280-72EE-474C-A2A5-4C8C3B421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97F35-012C-4D19-B005-17CA71279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B6DF5-2D8C-4A84-B329-B4FF4956E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13D85-31CC-4FB8-84F9-5A8B006F3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E0FCB-25AF-4253-AAFE-81F39FB92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06F4E-3710-4A4F-9909-B013C73AE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E1EC6-AA64-4E3D-B3EC-3B870FEE3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D454A-0C54-4B92-8EE9-751682BCB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564F-A2FE-4350-8710-E189F7DA692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nl.wikipedia.org/wiki/Ziektekostenverzekering" TargetMode="External"/><Relationship Id="rId2" Type="http://schemas.openxmlformats.org/officeDocument/2006/relationships/hyperlink" Target="http://nl.wikipedia.org/wiki/Ingezetene"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400"/>
            <a:ext cx="7772400" cy="13716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dministratie in de huisartsenpraktijk</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solidFill>
            <a:srgbClr val="cccc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rgverzeker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ftarief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clarat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TG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llege Tarieven Gezondheidszor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elt tarieven en budgetten vast voor instellingen en beroepsoefenaren in de gezondheidszor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s een onderdeel van de Nza =Nederlandse Zorgautoriteit( www.nza.nl) , vormt dit samen met het College Toezicht Zorgverzekerin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S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urger service numm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s een persoonsnummer. Het voordeel van het BSN is dat u met dit nummer bij elk loket van de overheid terecht kunt. Dankzij het BSN kunnen overheidsorganisaties bestaande gegevensuitwisselingen eenvoudiger uitvoer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COZO</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cc"/>
                </a:solidFill>
                <a:latin typeface="Times New Roman"/>
              </a:rPr>
              <a:t>Veilige Communicatie Zorg</a:t>
            </a:r>
            <a:endParaRPr b="0" lang="en-US" sz="2800" spc="-1" strike="noStrike">
              <a:solidFill>
                <a:srgbClr val="000000"/>
              </a:solidFill>
              <a:latin typeface="Times New Roman"/>
            </a:endParaRPr>
          </a:p>
          <a:p>
            <a:pPr marL="298440" indent="-298440">
              <a:lnSpc>
                <a:spcPct val="90000"/>
              </a:lnSpc>
              <a:spcBef>
                <a:spcPts val="601"/>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66cc"/>
                </a:solidFill>
                <a:latin typeface="Times New Roman"/>
              </a:rPr>
              <a:t>De VECOZO-diensten zijn bestemd voor zorgaanbieders, zorgverzekeraars (inclusief volmachten) en/of de zorgkantoren. VECOZO werkt daarnaast samen met softwareleveranciers, koepelorganisaties, ZN en andere partijen om de huidige diensten zo toegankelijk en gebruikersvriendelijk mogelijk te maken en nieuwe toepassingen te ontwikkelen.</a:t>
            </a:r>
            <a:endParaRPr b="0" lang="en-US" sz="2400" spc="-1" strike="noStrike">
              <a:solidFill>
                <a:srgbClr val="000000"/>
              </a:solidFill>
              <a:latin typeface="Times New Roman"/>
            </a:endParaRPr>
          </a:p>
          <a:p>
            <a:pPr marL="298440" indent="-298440">
              <a:lnSpc>
                <a:spcPct val="90000"/>
              </a:lnSpc>
              <a:spcBef>
                <a:spcPts val="601"/>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66cc"/>
                </a:solidFill>
                <a:latin typeface="Times New Roman"/>
              </a:rPr>
              <a:t>VECOZO faciliteert een beveiligd internetportaal waarin de communicatie tussen zorgaanbieders en zorgverzekeraars zo optimaal mogelijk kan verlopen</a:t>
            </a:r>
            <a:endParaRPr b="0" lang="en-US" sz="24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OV              ION</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trole Op Verzekeringsrec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trole op de verzekeringgegevens van iedere patië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ven Op Na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schrijftarief</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tarief dat de huisarts per ingeschreven patiënt per kwartaal bij de zorgverzekeraar mag declar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us 4x per ja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differentieerd inschrijftarief</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tarief wat gedeclareerd mag worden als de zorgaanbieder een contract heeft met de zorgverzeker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ftijd &gt; 64 j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gt; 74 j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chterstandswijk(postc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OH-GG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arievenstructuu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ftariev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sulten , ook visite, telef. consult enz.</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ige tarieven bijv. keurin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Times New Roman"/>
            </a:endParaRPr>
          </a:p>
        </p:txBody>
      </p:sp>
      <p:sp>
        <p:nvSpPr>
          <p:cNvPr id="74" name="PlaceHolder 2"/>
          <p:cNvSpPr>
            <a:spLocks noGrp="1"/>
          </p:cNvSpPr>
          <p:nvPr>
            <p:ph/>
          </p:nvPr>
        </p:nvSpPr>
        <p:spPr>
          <a:xfrm>
            <a:off x="685800" y="549000"/>
            <a:ext cx="7772400" cy="5832360"/>
          </a:xfrm>
          <a:prstGeom prst="rect">
            <a:avLst/>
          </a:prstGeom>
          <a:solidFill>
            <a:srgbClr val="ccccff"/>
          </a:solid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olgens afspraken in het afgesloten contract  met de zorgverzekeraar oo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dernisering en Innovati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 en I-verrichtingen: bijv. plaatsen spiraal,  Cyriaxinjecti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jecten:Ketenzorg (bijv Diabetes;COPD/Astma)Hieruit moet de POH-S bekostigd word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pecificatie van de declaratie</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ie: naam, geboortedatum, BSN, verzekering en numm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bijv. inschrijftarief, verrichting enz.</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nneer: dat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veelgestelde-vragen-smart"/>
          <p:cNvPicPr/>
          <p:nvPr/>
        </p:nvPicPr>
        <p:blipFill>
          <a:blip r:embed="rId1"/>
          <a:stretch/>
        </p:blipFill>
        <p:spPr>
          <a:xfrm>
            <a:off x="2468520" y="811080"/>
            <a:ext cx="4206960" cy="523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asisverzekering</a:t>
            </a:r>
            <a:endParaRPr b="0" lang="en-US" sz="4400" spc="-1" strike="noStrike">
              <a:solidFill>
                <a:srgbClr val="000000"/>
              </a:solidFill>
              <a:latin typeface="Times New Roman"/>
            </a:endParaRPr>
          </a:p>
        </p:txBody>
      </p:sp>
      <p:sp>
        <p:nvSpPr>
          <p:cNvPr id="44" name="PlaceHolder 2"/>
          <p:cNvSpPr>
            <a:spLocks noGrp="1"/>
          </p:cNvSpPr>
          <p:nvPr>
            <p:ph/>
          </p:nvPr>
        </p:nvSpPr>
        <p:spPr>
          <a:xfrm>
            <a:off x="609480" y="1980720"/>
            <a:ext cx="7848720" cy="4876920"/>
          </a:xfrm>
          <a:prstGeom prst="rect">
            <a:avLst/>
          </a:prstGeom>
          <a:solidFill>
            <a:srgbClr val="ccccff"/>
          </a:solid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Naturapolis</a:t>
            </a:r>
            <a:r>
              <a:rPr b="0" lang="nl-NL" sz="2800" spc="-1" strike="noStrike">
                <a:solidFill>
                  <a:srgbClr val="000000"/>
                </a:solidFill>
                <a:latin typeface="Times New Roman"/>
              </a:rPr>
              <a:t>:  Zorg door verzekeraar gecontracteerde zorgaanbieders, de rekeningen gaan naar de verzekeraa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Restitutiepolis</a:t>
            </a:r>
            <a:r>
              <a:rPr b="0" lang="nl-NL" sz="2800" spc="-1" strike="noStrike">
                <a:solidFill>
                  <a:srgbClr val="000000"/>
                </a:solidFill>
                <a:latin typeface="Times New Roman"/>
              </a:rPr>
              <a:t>: zorg mag door iedere gekwalificeerde zorgaanbieder geleverd worden, de rekeningen gaan vaak naar de zorgvrag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Aanvullende</a:t>
            </a:r>
            <a:r>
              <a:rPr b="0" lang="nl-NL" sz="2800" spc="-1" strike="noStrike">
                <a:solidFill>
                  <a:srgbClr val="000000"/>
                </a:solidFill>
                <a:latin typeface="Times New Roman"/>
              </a:rPr>
              <a:t> verzekeringen voor vergoeding van datgene wat niet door de basisverzekering wordt gedek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orgverzekeringswet</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nds 1 januari 200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ederlander is verplicht een basisverzekering af te sluiten uit gezonderd de Gemoedsbezwa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ot 18 jaar is er geen premie verschuld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anaf 18 jaar is er een verplicht eigen risic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igen risico</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220 Euro in 2012, nu 2018  385 Eu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it eigen risico geldt nie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de huisar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verloskundige hulp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kraamzor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acontroles van donor, na orgaantransplantati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Hulpmiddelen die in bruikleen worden verstrek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wijs van inschrijving:</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olisbla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zekeringspasj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dracht:  Vergelijk jouw zorgpasje met die van jouw klasgenot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 staat er op de zorgpa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aam van de zorgverzekeraa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aam van de verzekerd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boortedatum en geslac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S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zekerdennumm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ZOVIcod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giftedatum </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ZOVIcod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lnSpc>
                <a:spcPct val="90000"/>
              </a:lnSpc>
              <a:spcBef>
                <a:spcPts val="34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333333"/>
                </a:solidFill>
                <a:latin typeface="Times New Roman"/>
              </a:rPr>
              <a:t>Unieke ZorgVerzekeraarsIdentificatie (UZOVI) is een identificatie van de zorgverzekeraars in Nederland. Het register is in 2004 in opdracht van het Nationaal ICT Instituut in de Zorg (NICTIZ) ontwikkeld om eenduidig vast te stellen wie een zorgverzekeraar is.</a:t>
            </a:r>
            <a:br>
              <a:rPr sz="1600"/>
            </a:br>
            <a:br>
              <a:rPr sz="1600"/>
            </a:br>
            <a:r>
              <a:rPr b="0" lang="nl-NL" sz="1400" spc="-1" strike="noStrike">
                <a:solidFill>
                  <a:srgbClr val="333333"/>
                </a:solidFill>
                <a:latin typeface="Times New Roman"/>
              </a:rPr>
              <a:t>Dit register draagt, samen met het UZI-register voor zorgverleners en het BSN voor verzekerden, bij aan de integriteit, authenticiteit en vertrouwelijkheid van elektronische communicatie. Voor een succesvolle en grootschalige invoering is het van belang dat zorgverzekeraars, zorgverleners en anderen het UZOVI-nummer eenduidig implementeren. Met UZOVI is uniformiteit gewaarborgd en worden op termijn administratieve lasten verminderd.</a:t>
            </a:r>
            <a:br>
              <a:rPr sz="1400"/>
            </a:br>
            <a:br>
              <a:rPr sz="2800"/>
            </a:br>
            <a:r>
              <a:rPr b="1" lang="nl-NL" sz="1600" spc="-1" strike="noStrike">
                <a:solidFill>
                  <a:srgbClr val="333333"/>
                </a:solidFill>
                <a:latin typeface="Times New Roman"/>
              </a:rPr>
              <a:t>Wat wordt geregistreerd?</a:t>
            </a:r>
            <a:br>
              <a:rPr sz="1600"/>
            </a:br>
            <a:r>
              <a:rPr b="0" lang="nl-NL" sz="1600" spc="-1" strike="noStrike">
                <a:solidFill>
                  <a:srgbClr val="333333"/>
                </a:solidFill>
                <a:latin typeface="Times New Roman"/>
              </a:rPr>
              <a:t>In het UZOVI register worden de adresgegevens en het unieke UZOVI-nummer geregistreerd en onderhouden. Sinds 1 januari 2006 bevat het register de gegevens van de zorgverzekeraars, gevolmachtigde assurantietussenpersonen, zorgkantoren, labelorganisaties en nevenvestigingen. </a:t>
            </a:r>
            <a:br>
              <a:rPr sz="1600"/>
            </a:br>
            <a:br>
              <a:rPr sz="1400"/>
            </a:br>
            <a:r>
              <a:rPr b="0" lang="nl-NL" sz="1400" spc="-1" strike="noStrike">
                <a:solidFill>
                  <a:srgbClr val="333333"/>
                </a:solidFill>
                <a:latin typeface="Times New Roman"/>
              </a:rPr>
              <a:t>http://uzovi.vektis.n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VW</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rgverzekeringswet is een deel van het Nederlandse zorgverzekeringsstelsel en vormt dit samen met de AWBZ</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De omvang van de dekking van de zorgverzekering wordt door de ZVW en de onderliggende wetgeving (Besluit zorgverzekering en Regeling zorgverzekering) bepaald. Tot slot bepaalt de ZVW dat verzekeraars verplicht zijn iedereen te accepteren en zorgverzekeringen niet mogen beëindigen bij slecht schadeverloop.</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WBZ</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gemene Wet Bijzondere Ziektekosten</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is in Nederland een verplichte, collectieve </a:t>
            </a:r>
            <a:r>
              <a:rPr b="0" lang="nl-NL" sz="2400" spc="-1" strike="noStrike" u="sng">
                <a:solidFill>
                  <a:srgbClr val="ccccff"/>
                </a:solidFill>
                <a:uFillTx/>
                <a:latin typeface="Times New Roman"/>
                <a:ea typeface="Courier New"/>
                <a:hlinkClick r:id="rId1"/>
              </a:rPr>
              <a:t>kering</a:t>
            </a:r>
            <a:r>
              <a:rPr b="0" lang="nl-NL" sz="2400" spc="-1" strike="noStrike">
                <a:solidFill>
                  <a:srgbClr val="000000"/>
                </a:solidFill>
                <a:latin typeface="Times New Roman"/>
                <a:ea typeface="Courier New"/>
              </a:rPr>
              <a:t> voor niet individueel verzekerbare ziektenkosten-risico's.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Verzekerd voor de AWBZ zijn </a:t>
            </a:r>
            <a:r>
              <a:rPr b="0" lang="nl-NL" sz="2400" spc="-1" strike="noStrike" u="sng">
                <a:solidFill>
                  <a:srgbClr val="ccccff"/>
                </a:solidFill>
                <a:uFillTx/>
                <a:latin typeface="Times New Roman"/>
                <a:ea typeface="Courier New"/>
                <a:hlinkClick r:id="rId2"/>
              </a:rPr>
              <a:t>i</a:t>
            </a:r>
            <a:r>
              <a:rPr b="0" lang="nl-NL" sz="2400" spc="-1" strike="noStrike">
                <a:solidFill>
                  <a:srgbClr val="000000"/>
                </a:solidFill>
                <a:latin typeface="Times New Roman"/>
                <a:ea typeface="Courier New"/>
              </a:rPr>
              <a:t>ingezetenen van Nederland en niet-ingezetenen van Nederland die bepaalde inkomsten in Nederland genieten.</a:t>
            </a:r>
            <a:r>
              <a:rPr b="0" lang="nl-NL" sz="2800" spc="-1" strike="noStrike">
                <a:solidFill>
                  <a:srgbClr val="000000"/>
                </a:solidFill>
                <a:latin typeface="Courier New"/>
                <a:ea typeface="Courier New"/>
              </a:rPr>
              <a:t> </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Is een volksverzeker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http://nl.wikipedia.org/wiki/Algemene_Wet_Bijzondere_Ziektekoste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1T21:03:09Z</dcterms:created>
  <dc:creator>Agnieta</dc:creator>
  <dc:description/>
  <dc:language>en-US</dc:language>
  <cp:lastModifiedBy>Annelies de Groot</cp:lastModifiedBy>
  <dcterms:modified xsi:type="dcterms:W3CDTF">2018-11-20T17:29:00Z</dcterms:modified>
  <cp:revision>7</cp:revision>
  <dc:subject/>
  <dc:title>Administratie in de huisartsenpraktijk</dc:title>
</cp:coreProperties>
</file>